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AF37-A287-4ECC-BC52-7DFAC49BE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C4B6-C0FC-4990-9BE7-76E9DA3B0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A59C-1806-43E5-AA9E-7B41802BA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3A82-CEF9-429C-B7DA-C01311FFF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CEF1-E26C-487B-8F06-E71ABAD2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5E7D-2FB8-4E51-BC76-6918EDC9F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04AB-3292-40AF-989C-3BDC3628A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7FE1-B41E-4B0B-ACBB-F376F4EA7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6BCE-7B20-4DB0-83C9-2A635CB59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5624-AA8A-4991-BE46-0D49F13D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15A0-E234-461A-B7BA-849BE396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BA80-2294-42D3-8B2A-8EA1DE35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4CAC9-BFD6-48AE-B476-92A2357A5E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LA POLÍTICA ECONÓMICA DE LAS REFORMAS ESTRUCTURALES DE LA ECONOMÍA CHILENA (1974-1981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952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ROLF LÜDERS SCH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JUNIO 20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¿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Y LOS RESULTADOS?</a:t>
            </a:r>
            <a:br>
              <a:rPr sz="2000"/>
            </a:b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ÍNDICE DEL PIB PER CÁPITA CHILENO EXPRESADO EN UNIDADES DEL PIB PER CÁPITA DEL MUNDO Y DE AQUÉL DE LOS EE.UU. 1810-2000</a:t>
            </a:r>
            <a:br>
              <a:rPr sz="1400"/>
            </a:b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(1910 = 100)</a:t>
            </a:r>
            <a:br>
              <a:rPr sz="1400"/>
            </a:b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5800" y="2124000"/>
            <a:ext cx="777240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imes New Roman"/>
              </a:rPr>
              <a:t>LA POLÍTICA ECONÓMICA DE LAS REFORMAS ESTRUCTURALES DE LA ECONOMÍA CHILENA (1974-1981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ECONOMÍA A FINES DE 197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S REFORMAS ESTRUCTURALES 1974-198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ECONOMÍA POLÍTICA DE LAS REFORM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LA ECONOMÍA A FINES DE 1973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SDE COMIENZOS DEL SIGLO XX  Y HASTA 1973 LA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CONOMÍA CHILENA SE CARACTERIZÓ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RECIENTES DESEQUILIBRIOS MACRO-ECONÓMIC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UN CRECIENTE PROTECCIONISM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NTERVENCIÓN ESTATAL CRECIENTE  Y DISCRE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UN ESTADO CRECIENTEMENTE PROVIDENTE (EDUCACIÓN, PENSIONES, SALUD, Y VIVIEND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UN ESTADO CRECIENTEMENTE EMPRESARIO (CORFPO, QUIEBRAS, NACIONALIZACIONES Y ESTATIZACION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LAS REFORMAS ESTRUCTURALES 1974-1981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SPUÉS DE LA CRISIS SOCIO-POLÍTICA Y ECONÓMICA DE 1970-1973 SE INICIA UN PERÍODO DE REFORM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MBIAN LAS ESTRUCTURAS ECONÓMICAS EN FORMA REVOLUCIONAR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E PRODUCE UNA NOTORIA APERTURA COMERCIAL Y LUEGO TAMBIÉN FINANCIE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ESTADO ADOPTA UN ROL SUBSIDIARI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SECTOR PRIVADO MOTOR DEL DESARROLL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ESTADO REGULA ACTIVIDAD ECONÓMICA; FINANCIA EN PAR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00"/>
                </a:solidFill>
                <a:latin typeface="Times New Roman"/>
              </a:rPr>
              <a:t>LAS REFORMAS ESTRUCTURALES 1974-198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9903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E PRODUCE UNA ESTRICTA FOCALIZACIÓN DEL GASTO SOCIAL EN LOS ESTRATOS DE INGRESOS MÁS BAJ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E PRIVILEGIAN DEFINITIVAMENTE LAS REGLAS POR SOBRE LAS AUTORIDADES (EVITAR BÚSQUEDA DE RENTAS AL MÁXIMO POSIBL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E FORTALECE LA PROPIEDAD PRIV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E PRIVILEGIA UNA ESTRICTA DISCIPLINA FISCAL Y FINANCIE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00"/>
                </a:solidFill>
                <a:latin typeface="Times New Roman"/>
              </a:rPr>
              <a:t>LAS REFORMAS ESTRUCTURALES 1974-198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MPORTANTES REFORMAS EN LAS SIGUIENTES MATERIAS ENTRE OTR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IBERALIZACIÓN COMERCIAL </a:t>
            </a: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(10%,,PARA-ARANCELE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ÉGIMEN CAMBIARIO </a:t>
            </a: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(MÚLTIPLES, UNO SÓLO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FORMA FISCAL </a:t>
            </a: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(ELIMINACIÓN PRIVILEGIOS, IVA, EXENCIONES A LA RE-INVERSIÓN, RECAUDACIÓ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ACIONALIZACIÓN DE EMPRESAS PÚBLICAS </a:t>
            </a: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(100%, PRIVATIZACIONE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STABILIZACIÓN DE PRECIOS </a:t>
            </a: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(DÉFICITS FISCALES, PRÉSTAMOS ESTADO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IBERALIZACIÓN DE MERCADOS DE CAPITALES </a:t>
            </a: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(i, CRÉDITO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00"/>
                </a:solidFill>
                <a:latin typeface="Times New Roman"/>
              </a:rPr>
              <a:t>LAS REFORMAS ESTRUCTURALES 1974-198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REC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IBERALIZACIÓN MERCADO LABO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EGURIDAD SOC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NVERSIÓN EXTRANJE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00"/>
                </a:solidFill>
                <a:latin typeface="Times New Roman"/>
              </a:rPr>
              <a:t>LA ECONOMÍA POLÍTICA DE LAS REFORMAS</a:t>
            </a:r>
            <a:br>
              <a:rPr sz="2800"/>
            </a:b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RISIS </a:t>
            </a: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(500%, PIB CAYENDO, DESORDEN,RESERVAS NEGATIVAS, COLAS, ETC., ETC.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CUERDO ENTRE ECONOMISTAS VERSUS DIVERGENCIAS DE OTROS CONSULTADOS (ABOGADOS, EMPRESARIO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DUCIR DÉFICIT FISC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IBERAR PRECIOS Y COMERC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IVATIZ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UN EQUIPO DE TECNÓCRATAS COHESIONADO Y COHERENTE CAPAZ DE IMPLEMENTAR LAS POLÍTICAS PROPUEST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Times New Roman"/>
              </a:rPr>
              <a:t>LA ECONOMÍA POLÍTICA DE LAS REFORMAS</a:t>
            </a:r>
            <a:br>
              <a:rPr sz="2800"/>
            </a:b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CCIONES SORPRESIVAS Y EN DIVERSOS FRENTES QUE SE COMPLEMENT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ENTIDO DE OPORTUN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ANEJO COMUNICACIONAL ADECU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IDERATO SIN DESCUIDAR EL APOYO NECESA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UER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4T22:21:37Z</dcterms:created>
  <dc:creator>Rluders</dc:creator>
  <dc:description/>
  <dc:language>en-US</dc:language>
  <cp:lastModifiedBy>Rluders</cp:lastModifiedBy>
  <dcterms:modified xsi:type="dcterms:W3CDTF">2004-06-25T00:36:32Z</dcterms:modified>
  <cp:revision>6</cp:revision>
  <dc:subject/>
  <dc:title>LA POLÍTICA ECONÓMICA DE LAS REFORMAS ESTRUCTURALES DE LA ECONOMÍA CHILENA (1974-1981)</dc:title>
</cp:coreProperties>
</file>