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FCF-675C-41F8-92E2-53CD5511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71C-4BC3-4269-9BF5-A1CFB442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05E-98C0-4B07-AFB6-505F023A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8C5-8206-48C3-B0B0-71DF85C9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838-3D30-4C76-8C76-693245C8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F2F-A7F4-4116-8747-C921A44A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C4D-3AA2-4B62-AE71-6C99BC1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FF6-D791-4B68-B774-BD234150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B88-D0F5-49AD-8AF8-F6C013AA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331-03E3-4AC7-BC12-85DA51DE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921-20D2-4A1D-A10A-900755FC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79A-DC84-410B-8711-5EAECEB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DFBC-2ACD-44FB-8D39-5C32F0609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OLF LÜDERS SC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JUNIO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 LOS RESULTADOS?</a:t>
            </a:r>
            <a:br>
              <a:rPr sz="20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ÍNDICE DEL PIB PER CÁPITA CHILENO EXPRESADO EN UNIDADES DEL PIB PER CÁPITA DEL MUNDO Y DE AQUÉL DE LOS EE.UU. 1810-2000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(1910 = 100)</a:t>
            </a:r>
            <a:br>
              <a:rPr sz="1400"/>
            </a:b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124000"/>
            <a:ext cx="77724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LA POLÍTICA ECONÓMICA DE LAS REFORMAS ESTRUCTURALES DE LA ECONOMÍA CHILENA (1974-1981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REFORMAS ESTRUCTURALES 1974-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ECONOMÍA POLÍTICA DE LAS REFO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A ECONOMÍA A FINES DE 197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DE COMIENZOS DEL SIGLO XX  Y HASTA 1973 L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CONOMÍA CHILENA SE CARACTERIZ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RECIENTES DESEQUILIBRIOS MACRO-ECONÓM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CRECIENTE PROTECCIO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TERVENCIÓN ESTATAL CRECIENTE  Y DISCRE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PROVIDENTE (EDUCACIÓN, PENSIONES, SALUD, Y VIVIEN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ESTADO CRECIENTEMENTE EMPRESARIO (CORFPO, QUIEBRAS, NACIONALIZACIONES Y ESTATIZACI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SPUÉS DE LA CRISIS SOCIO-POLÍTICA Y ECONÓMICA DE 1970-1973 SE INICIA UN PERÍODO DE REFOR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AN LAS ESTRUCTURAS ECONÓMICAS EN FORMA REVOLUCION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RODUCE UNA NOTORIA APERTURA COMERCIAL Y LUEGO TAMBIÉN FINANCI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ESTADO ADOPTA UN ROL SUBSIDIARI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TOR PRIVADO MOTOR DEL DESARROL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ADO REGULA ACTIVIDAD ECONÓMICA; FINANCIA EN P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DUCE UNA ESTRICTA FOCALIZACIÓN DEL GASTO SOCIAL EN LOS ESTRATOS DE INGRESOS MÁS BAJ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N DEFINITIVAMENTE LAS REGLAS POR SOBRE LAS AUTORIDADES (EVITAR BÚSQUEDA DE RENTAS AL MÁXIMO POSI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FORTALECE LA PROPIEDAD PRIV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IVILEGIA UNA ESTRICTA DISCIPLINA FISCAL Y FINANCI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ORTANTES REFORMAS EN LAS SIGUIENTES MATERIAS ENTRE OT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LIZACIÓN COMERCI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%,,PARA-ARANCEL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ÉGIMEN CAMBIARIO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MÚLTIPLES, UNO SÓL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ORMA FISCAL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ELIMINACIÓN PRIVILEGIOS, IVA, EXENCIONES A LA RE-INVERSIÓN, RECAUDACIÓ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ACIONALIZACIÓN DE EMPRESAS PÚBLICA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100%, PRIVATIZACIONE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ABILIZACIÓN DE PRECIO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DÉFICITS FISCALES, PRÉSTAMOS ESTAD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DE MERCADOS DE CAPITALE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i, CRÉDITO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LAS REFORMAS ESTRUCTURALES 1974-198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ERALIZACIÓN MERCADO LABO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GURIDAD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VERSIÓN EXTRANJ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RISIS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(500%, PIB CAYENDO, DESORDEN,RESERVAS NEGATIVAS, COLAS, ETC., ETC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UERDO ENTRE ECONOMISTAS VERSUS DIVERGENCIAS DE OTROS CONSULTADOS (ABOGADOS, EMPRESARI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DUCIR DÉFICIT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BERAR PRECIOS Y COME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VATI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EQUIPO DE TECNÓCRATAS COHESIONADO Y COHERENTE CAPAZ DE IMPLEMENTAR LAS POLÍTICAS PROPUE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Times New Roman"/>
              </a:rPr>
              <a:t>LA ECONOMÍA POLÍTICA DE LAS REFORMAS</a:t>
            </a:r>
            <a:br>
              <a:rPr sz="2800"/>
            </a:b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CCIONES SORPRESIVAS Y EN DIVERSOS FRENTES QUE SE COMPLEME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NTIDO DE OPORTUN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JO COMUNICACIONAL ADECU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DERATO SIN DESCUIDAR EL APOYO NECES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E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22:21:37Z</dcterms:created>
  <dc:creator>Rluders</dc:creator>
  <dc:description/>
  <dc:language>en-US</dc:language>
  <cp:lastModifiedBy>Rluders</cp:lastModifiedBy>
  <dcterms:modified xsi:type="dcterms:W3CDTF">2004-06-25T00:36:32Z</dcterms:modified>
  <cp:revision>6</cp:revision>
  <dc:subject/>
  <dc:title>LA POLÍTICA ECONÓMICA DE LAS REFORMAS ESTRUCTURALES DE LA ECONOMÍA CHILENA (1974-1981)</dc:title>
</cp:coreProperties>
</file>