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066-5AF1-4053-BAAB-4A5569AC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797-EA97-45B2-B8BF-1E584AD8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CB8-1F4F-4712-8158-F63E3D14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044-5DCF-40E8-81B6-5EBC4092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F60-ED1A-4639-9E31-EAF31690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DDD-FE22-4772-A3DD-C6B88A72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AB3-8268-49B9-BDBD-9CAF7D4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1DA-2FD7-4199-8811-7A96AB66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60B-45B6-4FEF-8E55-04F4D02B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445-E6A6-4EDA-BA1C-E8B449C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26A-93B0-4414-BA29-DFB166A1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697-7238-433B-9A7A-95A077B4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A91B-0DEA-4B1C-9045-C9C33D42E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OLF LÜDERS SC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JUNIO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LOS RESULTADOS?</a:t>
            </a:r>
            <a:br>
              <a:rPr sz="20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ÍNDICE DEL PIB PER CÁPITA CHILENO EXPRESADO EN UNIDADES DEL PIB PER CÁPITA DEL MUNDO Y DE AQUÉL DE LOS EE.UU. 1810-2000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(1910 = 100)</a:t>
            </a:r>
            <a:br>
              <a:rPr sz="1400"/>
            </a:b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124000"/>
            <a:ext cx="77724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REFORMAS ESTRUCTURALES 1974-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POLÍTICA DE LAS REFO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DE COMIENZOS DEL SIGLO XX  Y HASTA 1973 L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CONOMÍA CHILENA SE CARACTERIZ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RECIENTES DESEQUILIBRIOS MACRO-ECONÓM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CRECIENTE PROTECCIO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VENCIÓN ESTATAL CRECIENTE  Y DISCRE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PROVIDENTE (EDUCACIÓN, PENSIONES, SALUD, Y VIVIEN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EMPRESARIO (CORFPO, QUIEBRAS, NACIONALIZACIONES Y ESTATIZA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PUÉS DE LA CRISIS SOCIO-POLÍTICA Y ECONÓMICA DE 1970-1973 SE INICIA UN PERÍODO DE REFOR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AN LAS ESTRUCTURAS ECONÓMICAS EN FORMA REVOLUCION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RODUCE UNA NOTORIA APERTURA COMERCIAL Y LUEGO TAMBIÉN FINANCI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ESTADO ADOPTA UN ROL SUBSIDIA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TOR PRIVADO MOTOR DEL DESARROL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ADO REGULA ACTIVIDAD ECONÓMICA; FINANCIA EN P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DUCE UNA ESTRICTA FOCALIZACIÓN DEL GASTO SOCIAL EN LOS ESTRATOS DE INGRESOS MÁS BA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N DEFINITIVAMENTE LAS REGLAS POR SOBRE LAS AUTORIDADES (EVITAR BÚSQUEDA DE RENTAS AL MÁXIMO POSI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FORTALECE LA PROPIEDAD PRIV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 UNA ESTRICTA DISCIPLINA FISCAL Y FINANCI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RTANTES REFORMAS EN LAS SIGUIENTES MATERIAS ENTRE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LIZACIÓN COMERCI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%,,PARA-ARANCE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ÉGIMEN CAMBIARIO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MÚLTIPLES, UNO SÓL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ORMA FISC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ELIMINACIÓN PRIVILEGIOS, IVA, EXENCIONES A LA RE-INVERSIÓN, RECAUDACIÓ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ACIONALIZACIÓN DE EMPRESAS PÚBLICA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0%, PRIVATIZACIO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ABILIZACIÓN DE PRECIO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DÉFICITS FISCALES, PRÉSTAMOS ESTAD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DE MERCADOS DE CAPITALE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i, CRÉDITO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MERCADO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GURIDAD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VERSIÓN EXTRANJ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RISI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500%, PIB CAYENDO, DESORDEN,RESERVAS NEGATIVAS, COLAS, ETC., ETC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UERDO ENTRE ECONOMISTAS VERSUS DIVERGENCIAS DE OTROS CONSULTADOS (ABOGADOS, EMPRESA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DUCIR DÉFICIT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R PRECIOS Y COME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VATI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EQUIPO DE TECNÓCRATAS COHESIONADO Y COHERENTE CAPAZ DE IMPLEMENTAR LAS POLÍTICAS PROPUE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CIONES SORPRESIVAS Y EN DIVERSOS FRENTES QUE SE COMPLEME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NTIDO DE OPORTUN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JO COMUNICACIONAL 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DERATO SIN DESCUIDAR EL APOYO NECES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E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22:21:37Z</dcterms:created>
  <dc:creator>Rluders</dc:creator>
  <dc:description/>
  <dc:language>en-US</dc:language>
  <cp:lastModifiedBy>Rluders</cp:lastModifiedBy>
  <dcterms:modified xsi:type="dcterms:W3CDTF">2004-06-25T00:36:32Z</dcterms:modified>
  <cp:revision>6</cp:revision>
  <dc:subject/>
  <dc:title>LA POLÍTICA ECONÓMICA DE LAS REFORMAS ESTRUCTURALES DE LA ECONOMÍA CHILENA (1974-1981)</dc:title>
</cp:coreProperties>
</file>