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7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4.jpeg" ContentType="image/jpeg"/>
  <Override PartName="/ppt/media/image5.jpeg" ContentType="image/jpeg"/>
  <Override PartName="/ppt/media/image35.png" ContentType="image/png"/>
  <Override PartName="/ppt/media/image10.png" ContentType="image/png"/>
  <Override PartName="/ppt/media/image8.png" ContentType="image/png"/>
  <Override PartName="/ppt/media/image33.png" ContentType="image/png"/>
  <Override PartName="/ppt/media/image13.png" ContentType="image/png"/>
  <Override PartName="/ppt/media/image9.png" ContentType="image/png"/>
  <Override PartName="/ppt/media/image34.png" ContentType="image/png"/>
  <Override PartName="/ppt/media/image12.png" ContentType="image/png"/>
  <Override PartName="/ppt/media/image32.png" ContentType="image/png"/>
  <Override PartName="/ppt/media/image11.png" ContentType="image/png"/>
  <Override PartName="/ppt/media/image6.jpeg" ContentType="image/jpeg"/>
  <Override PartName="/ppt/media/image18.png" ContentType="image/png"/>
  <Override PartName="/ppt/media/image20.png" ContentType="image/png"/>
  <Override PartName="/ppt/media/image25.png" ContentType="image/png"/>
  <Override PartName="/ppt/media/image2.gif" ContentType="image/gif"/>
  <Override PartName="/ppt/media/image7.jpeg" ContentType="image/jpeg"/>
  <Override PartName="/ppt/media/image28.png" ContentType="image/png"/>
  <Override PartName="/ppt/media/image30.png" ContentType="image/png"/>
  <Override PartName="/ppt/media/image3.jpeg" ContentType="image/jpeg"/>
  <Override PartName="/ppt/media/image1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1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</p:sldIdLst>
  <p:sldSz cx="9144000" cy="6858000"/>
  <p:notesSz cx="6858000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B8BB4-B86C-4FD3-AA8E-E52A9E256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B9250-AF6D-4544-B645-EEC1B9750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6A679-7791-4143-AB17-6612FF0A4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E054B-36AF-4E78-B933-AD4B36CEC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626BC-1EF7-4748-89F9-92F36F3E8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FAA1C-86AA-407E-B3E9-AC675F9A2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A1FA1-CDDC-4168-99C0-E56E1D2EE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772E9-DD68-4DF4-BE1D-89EE2D5F4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67475-91A6-4B8E-AE61-E121FA1F7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BD218-82EE-404D-A195-5772E555B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76BF6-C3C5-4AC9-A124-2A7F960E9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E3D8A-F77B-45B9-9AF7-A8A3D38B3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F3A68-8720-48A8-9B7B-9CC9578F5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590E3-187B-422E-9B64-DC3AC947F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BE0FE-8EB5-49E4-8526-43B087552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91B22-9FB3-4838-9D50-66BBF28C5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2001D-823B-47B3-B650-81367A189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A555F-C4E2-42F8-AEF8-02A58ED58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181A6-350B-4F0B-977F-D3C5F8F55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A75E7-6CDF-4EBB-BD3D-9E3BDB4FE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25C30-9320-4944-BAA3-9296D32AA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C6F97-72D3-4A22-B68F-2AB53A975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ABFAB-4E19-45A9-A332-03C6DB04B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AFA13-3AF4-4803-A8B1-3FD6F0B95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D7D23-A66E-4667-BA59-A3445842EFD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9" name="BTZBUL1A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58E01-799E-4687-903C-F5FEE60A504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image" Target="../media/image23.png"/><Relationship Id="rId9" Type="http://schemas.openxmlformats.org/officeDocument/2006/relationships/image" Target="../media/image24.png"/><Relationship Id="rId10" Type="http://schemas.openxmlformats.org/officeDocument/2006/relationships/image" Target="../media/image25.png"/><Relationship Id="rId11" Type="http://schemas.openxmlformats.org/officeDocument/2006/relationships/image" Target="../media/image26.png"/><Relationship Id="rId12" Type="http://schemas.openxmlformats.org/officeDocument/2006/relationships/image" Target="../media/image27.png"/><Relationship Id="rId13" Type="http://schemas.openxmlformats.org/officeDocument/2006/relationships/image" Target="../media/image28.png"/><Relationship Id="rId14" Type="http://schemas.openxmlformats.org/officeDocument/2006/relationships/image" Target="../media/image29.png"/><Relationship Id="rId15" Type="http://schemas.openxmlformats.org/officeDocument/2006/relationships/image" Target="../media/image30.png"/><Relationship Id="rId16" Type="http://schemas.openxmlformats.org/officeDocument/2006/relationships/image" Target="../media/image31.png"/><Relationship Id="rId17" Type="http://schemas.openxmlformats.org/officeDocument/2006/relationships/image" Target="../media/image32.png"/><Relationship Id="rId18" Type="http://schemas.openxmlformats.org/officeDocument/2006/relationships/image" Target="../media/image33.png"/><Relationship Id="rId19" Type="http://schemas.openxmlformats.org/officeDocument/2006/relationships/image" Target="../media/image34.png"/><Relationship Id="rId20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447920" y="2679480"/>
            <a:ext cx="7315200" cy="749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 Black"/>
              </a:rPr>
              <a:t>Regulación en Economía de Mercado</a:t>
            </a:r>
            <a:br>
              <a:rPr sz="4400"/>
            </a:br>
            <a:r>
              <a:rPr b="0" lang="es-CL" sz="4400" spc="-1" strike="noStrike">
                <a:solidFill>
                  <a:srgbClr val="ffcc00"/>
                </a:solidFill>
                <a:latin typeface="Arial Black"/>
              </a:rPr>
              <a:t>Ejemplos Práctico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3048120" y="4114800"/>
            <a:ext cx="5729040" cy="1805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ffff"/>
                </a:solidFill>
                <a:latin typeface="Arial"/>
              </a:rPr>
              <a:t>Jorge Claro M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9900C-54BB-4602-AD48-CFE65EB79CAC}" type="slidenum">
              <a:t>1</a:t>
            </a:fld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SUDAMERICA" descr=""/>
          <p:cNvPicPr/>
          <p:nvPr/>
        </p:nvPicPr>
        <p:blipFill>
          <a:blip r:embed="rId1"/>
          <a:stretch/>
        </p:blipFill>
        <p:spPr>
          <a:xfrm>
            <a:off x="2251080" y="111240"/>
            <a:ext cx="5064120" cy="6670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A1A52-A6EC-4997-9B7A-3483FA2635AD}" type="slidenum">
              <a:t>10</a:t>
            </a:fld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Africa1" descr=""/>
          <p:cNvPicPr/>
          <p:nvPr/>
        </p:nvPicPr>
        <p:blipFill>
          <a:blip r:embed="rId1"/>
          <a:stretch/>
        </p:blipFill>
        <p:spPr>
          <a:xfrm>
            <a:off x="1973160" y="152280"/>
            <a:ext cx="5494320" cy="6616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FE5CE-EECF-4372-8CA9-8CFB77FCBB2E}" type="slidenum">
              <a:t>11</a:t>
            </a:fld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526680"/>
            <a:ext cx="777240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cc00"/>
                </a:solidFill>
                <a:latin typeface="Arial Black"/>
              </a:rPr>
              <a:t>EL ROL DEL ESTADO EN UNA ECONOMÍA DE MERCADO</a:t>
            </a:r>
            <a:r>
              <a:rPr b="0" lang="es-CL" sz="2800" spc="-1" strike="noStrike">
                <a:solidFill>
                  <a:srgbClr val="ffcc00"/>
                </a:solidFill>
                <a:latin typeface="Arial Black"/>
              </a:rPr>
              <a:t> MODERNA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buSzPct val="1398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Mejorar la Eficiencia Económica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Arial"/>
              </a:rPr>
              <a:t>En la Asignación de Recurs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Arial"/>
              </a:rPr>
              <a:t>En la Eliminación de las “Fallas del Mercado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La Competencia Imperfecta y los monopolios natur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Las Externalidades Negativ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La Información Imperfec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Arial"/>
              </a:rPr>
              <a:t>En la provisión de Bienes Públic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SzPct val="1398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En 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la Igualación de Oportunidades ante la Vid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SzPct val="1398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En 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Estabilizar la Economía mediante las políticas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Macroeconómicas (Monetaria y Fiscal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SzPct val="1398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En 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la Gestión de la Política Económica Internacional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(Tratados de Libre Comercio y su defensa ante el proteccionismo de los socios comercial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05816-0364-4F04-8A08-3B1B32F659C9}" type="slidenum">
              <a:t>12</a:t>
            </a:fld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 Black"/>
              </a:rPr>
              <a:t>Modernización del Fútbol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A continuación se describe un caso de aplicación de una Analogía entre la organización de un Estado Moderno y la Organización del Fútbol Profesional Modern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F0948-F63A-41D5-97C2-525E3E4CDF65}" type="slidenum">
              <a:t>13</a:t>
            </a:fld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8002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 Black"/>
              </a:rPr>
              <a:t>Diagnóstico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Problemas por cambios recientes que han disminuido los costos de transacción para ver fútbol y la consiguiente globalización de la activida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Aumento generalizado de la competencia por captar el tiempo libre de los consumido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Menos tiempo disponible para adaptarse a los cambios del mercad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AA829-C834-4883-A0CA-78980004CEA1}" type="slidenum">
              <a:t>14</a:t>
            </a:fld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707760"/>
            <a:ext cx="777240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cc00"/>
                </a:solidFill>
                <a:latin typeface="Arial Black"/>
              </a:rPr>
              <a:t>¿Por qué elegimos la organización del Fútbol como caso aplicado?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Es el deporte más practicado y el espectáculo más popul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Mediante la TV el fútbol se ha globalizado y masificado, además la TV ha generado </a:t>
            </a:r>
            <a:r>
              <a:rPr b="0" lang="es-CL" sz="2800" spc="-1" strike="noStrike" u="sng">
                <a:solidFill>
                  <a:srgbClr val="ffffff"/>
                </a:solidFill>
                <a:uFillTx/>
                <a:latin typeface="Arial"/>
              </a:rPr>
              <a:t>cuantiosos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 recursos los que todavía no llegan en forma justa a los club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Existe una percepción generalizada de mala organización de la activid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Hay 2 proyectos de ley para solucionar problemas de esta actividad privad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13C0A-6D02-4693-9E7B-A6B944A21A55}" type="slidenum">
              <a:t>15</a:t>
            </a:fld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 Black"/>
              </a:rPr>
              <a:t>Principios Básicos de la Organización del Estado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Elección libre de los gobernantes por una mayoría informad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El Estad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No discrimina, representa a todos, respeta las minorías y protege a los más débiles, alternancia del poder, garantiza un Estado de Derech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3 Poderes autónomos e independient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Ejecutivo, Legislativo y Judici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8D705-F977-4927-A7E9-F7C38D51EDEA}" type="slidenum">
              <a:t>16</a:t>
            </a:fld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 Black"/>
              </a:rPr>
              <a:t>Principios Básicos de la Organización del Estado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Económicament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Funciona la Economía de Mercad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El sector privado produce bienes y servicios en competencia, respetando el derecho de propiedad con un estado relativamente subsidiari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Cumple un rol definido en la Constitución para </a:t>
            </a:r>
            <a:r>
              <a:rPr b="0" lang="es-CL" sz="3200" spc="-1" strike="noStrike" u="sng">
                <a:solidFill>
                  <a:srgbClr val="ffffff"/>
                </a:solidFill>
                <a:uFillTx/>
                <a:latin typeface="Arial"/>
              </a:rPr>
              <a:t>PERFECCIONAR LA ACCIÓN DEL MERCAD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6F557-86CE-4492-A040-EAE55E6D0F5F}" type="slidenum">
              <a:t>17</a:t>
            </a:fld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38080" y="11628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cc00"/>
                </a:solidFill>
                <a:latin typeface="Arial Black"/>
              </a:rPr>
              <a:t>Principios que Deben Guiar la Acción de la ANFP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La acción de los Clubes se basará en la aplicación de los Principios de una Economía de Mercad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Con un Sector Privado: Club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Con un Estado: ANF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5D87E-C2F8-48D5-9F86-838A437663A4}" type="slidenum">
              <a:t>18</a:t>
            </a:fld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8002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 Black"/>
              </a:rPr>
              <a:t>Acciones de la ANFP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Mejorar la eficiencia económica de la organizació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Implementar un sistema tributario eficiente, proveer bienes y servicios públicos, eliminar las fallas del mercado (competencia e información imperfect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Igualar oportunidad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Promover, facilitar y difundir el fútb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Representar a Chile internacionalmen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4A02C-7469-4370-AA8A-FF2BDACE88D6}" type="slidenum">
              <a:t>19</a:t>
            </a:fld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94920" y="3504960"/>
            <a:ext cx="632484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Dato:</a:t>
            </a:r>
            <a:br>
              <a:rPr sz="3200"/>
            </a:b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uimos pobres hasta 1800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4" name=""/>
          <p:cNvSpPr/>
          <p:nvPr/>
        </p:nvSpPr>
        <p:spPr>
          <a:xfrm>
            <a:off x="1600200" y="762120"/>
            <a:ext cx="5715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Times New Roman"/>
              </a:rPr>
              <a:t>¿ Funciona la Economía de Mercado 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CBEFD-C65C-4F57-BEB3-5D52A1790C9D}" type="slidenum">
              <a:t>2</a:t>
            </a:fld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 Black"/>
              </a:rPr>
              <a:t>Confederaciones de Fútbol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7" name="AFC" descr=""/>
          <p:cNvPicPr/>
          <p:nvPr/>
        </p:nvPicPr>
        <p:blipFill>
          <a:blip r:embed="rId1"/>
          <a:stretch/>
        </p:blipFill>
        <p:spPr>
          <a:xfrm>
            <a:off x="1447920" y="2057400"/>
            <a:ext cx="1646280" cy="1646280"/>
          </a:xfrm>
          <a:prstGeom prst="rect">
            <a:avLst/>
          </a:prstGeom>
          <a:ln w="0">
            <a:noFill/>
          </a:ln>
        </p:spPr>
      </p:pic>
      <p:pic>
        <p:nvPicPr>
          <p:cNvPr id="368" name="CAF" descr=""/>
          <p:cNvPicPr/>
          <p:nvPr/>
        </p:nvPicPr>
        <p:blipFill>
          <a:blip r:embed="rId2"/>
          <a:stretch/>
        </p:blipFill>
        <p:spPr>
          <a:xfrm>
            <a:off x="3733920" y="2057400"/>
            <a:ext cx="1646280" cy="1646280"/>
          </a:xfrm>
          <a:prstGeom prst="rect">
            <a:avLst/>
          </a:prstGeom>
          <a:ln w="0">
            <a:noFill/>
          </a:ln>
        </p:spPr>
      </p:pic>
      <p:pic>
        <p:nvPicPr>
          <p:cNvPr id="369" name="CONCACAF" descr=""/>
          <p:cNvPicPr/>
          <p:nvPr/>
        </p:nvPicPr>
        <p:blipFill>
          <a:blip r:embed="rId3"/>
          <a:stretch/>
        </p:blipFill>
        <p:spPr>
          <a:xfrm>
            <a:off x="5867280" y="2057400"/>
            <a:ext cx="1646280" cy="164628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  <p:pic>
        <p:nvPicPr>
          <p:cNvPr id="370" name="CONMEBOL" descr=""/>
          <p:cNvPicPr/>
          <p:nvPr/>
        </p:nvPicPr>
        <p:blipFill>
          <a:blip r:embed="rId4"/>
          <a:stretch/>
        </p:blipFill>
        <p:spPr>
          <a:xfrm>
            <a:off x="1447920" y="4343400"/>
            <a:ext cx="1646280" cy="1646280"/>
          </a:xfrm>
          <a:prstGeom prst="rect">
            <a:avLst/>
          </a:prstGeom>
          <a:ln w="0">
            <a:noFill/>
          </a:ln>
        </p:spPr>
      </p:pic>
      <p:pic>
        <p:nvPicPr>
          <p:cNvPr id="371" name="OFC" descr=""/>
          <p:cNvPicPr/>
          <p:nvPr/>
        </p:nvPicPr>
        <p:blipFill>
          <a:blip r:embed="rId5"/>
          <a:stretch/>
        </p:blipFill>
        <p:spPr>
          <a:xfrm>
            <a:off x="3733920" y="4343400"/>
            <a:ext cx="1646280" cy="1646280"/>
          </a:xfrm>
          <a:prstGeom prst="rect">
            <a:avLst/>
          </a:prstGeom>
          <a:ln w="0">
            <a:noFill/>
          </a:ln>
        </p:spPr>
      </p:pic>
      <p:pic>
        <p:nvPicPr>
          <p:cNvPr id="372" name="UEFA" descr=""/>
          <p:cNvPicPr/>
          <p:nvPr/>
        </p:nvPicPr>
        <p:blipFill>
          <a:blip r:embed="rId6"/>
          <a:stretch/>
        </p:blipFill>
        <p:spPr>
          <a:xfrm>
            <a:off x="5867280" y="4343400"/>
            <a:ext cx="1646280" cy="1646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D83DB-0FEC-4744-9CEF-44EDDBBC57D4}" type="slidenum">
              <a:t>20</a:t>
            </a:fld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 Black"/>
              </a:rPr>
              <a:t>Roles de las Organizacione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0948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Confederacion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Organizan la actividad  y los Torneos a nivel Region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La falta de transparencia en la venta de los derechos de transmisión (Traffic y TyC) se ha prestado a un probable aumento de la corrupción   que ha impedido que los recursos lleguen a los que generan el Espectácul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89EE7-27BF-40A4-8B4F-099A5E70E308}" type="slidenum">
              <a:t>21</a:t>
            </a:fld>
          </a:p>
        </p:txBody>
      </p:sp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 Black"/>
              </a:rPr>
              <a:t>Federaciones Nacionale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grpSp>
        <p:nvGrpSpPr>
          <p:cNvPr id="376" name=""/>
          <p:cNvGrpSpPr/>
          <p:nvPr/>
        </p:nvGrpSpPr>
        <p:grpSpPr>
          <a:xfrm>
            <a:off x="1981080" y="1828800"/>
            <a:ext cx="2571840" cy="2190600"/>
            <a:chOff x="1981080" y="1828800"/>
            <a:chExt cx="2571840" cy="2190600"/>
          </a:xfrm>
        </p:grpSpPr>
        <p:grpSp>
          <p:nvGrpSpPr>
            <p:cNvPr id="377" name=""/>
            <p:cNvGrpSpPr/>
            <p:nvPr/>
          </p:nvGrpSpPr>
          <p:grpSpPr>
            <a:xfrm>
              <a:off x="1981080" y="1828800"/>
              <a:ext cx="2571840" cy="1047600"/>
              <a:chOff x="1981080" y="1828800"/>
              <a:chExt cx="2571840" cy="1047600"/>
            </a:xfrm>
          </p:grpSpPr>
          <p:pic>
            <p:nvPicPr>
              <p:cNvPr id="378" name="logo_cgo" descr=""/>
              <p:cNvPicPr/>
              <p:nvPr/>
            </p:nvPicPr>
            <p:blipFill>
              <a:blip r:embed="rId1"/>
              <a:stretch/>
            </p:blipFill>
            <p:spPr>
              <a:xfrm>
                <a:off x="1981080" y="1905120"/>
                <a:ext cx="971640" cy="971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79" name="logo_chn" descr=""/>
              <p:cNvPicPr/>
              <p:nvPr/>
            </p:nvPicPr>
            <p:blipFill>
              <a:blip r:embed="rId2"/>
              <a:stretch/>
            </p:blipFill>
            <p:spPr>
              <a:xfrm>
                <a:off x="3581280" y="1828800"/>
                <a:ext cx="971640" cy="9716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380" name="logo_ita" descr=""/>
            <p:cNvPicPr/>
            <p:nvPr/>
          </p:nvPicPr>
          <p:blipFill>
            <a:blip r:embed="rId3"/>
            <a:stretch/>
          </p:blipFill>
          <p:spPr>
            <a:xfrm>
              <a:off x="2819520" y="3048120"/>
              <a:ext cx="971280" cy="971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81" name=""/>
          <p:cNvGrpSpPr/>
          <p:nvPr/>
        </p:nvGrpSpPr>
        <p:grpSpPr>
          <a:xfrm>
            <a:off x="914400" y="3048120"/>
            <a:ext cx="3257640" cy="3333600"/>
            <a:chOff x="914400" y="3048120"/>
            <a:chExt cx="3257640" cy="3333600"/>
          </a:xfrm>
        </p:grpSpPr>
        <p:pic>
          <p:nvPicPr>
            <p:cNvPr id="382" name="logo_arg" descr=""/>
            <p:cNvPicPr/>
            <p:nvPr/>
          </p:nvPicPr>
          <p:blipFill>
            <a:blip r:embed="rId4"/>
            <a:stretch/>
          </p:blipFill>
          <p:spPr>
            <a:xfrm>
              <a:off x="1752480" y="4114800"/>
              <a:ext cx="971640" cy="971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83" name=""/>
            <p:cNvGrpSpPr/>
            <p:nvPr/>
          </p:nvGrpSpPr>
          <p:grpSpPr>
            <a:xfrm>
              <a:off x="914400" y="3048120"/>
              <a:ext cx="3257640" cy="3333600"/>
              <a:chOff x="914400" y="3048120"/>
              <a:chExt cx="3257640" cy="3333600"/>
            </a:xfrm>
          </p:grpSpPr>
          <p:pic>
            <p:nvPicPr>
              <p:cNvPr id="384" name="logo_esp" descr=""/>
              <p:cNvPicPr/>
              <p:nvPr/>
            </p:nvPicPr>
            <p:blipFill>
              <a:blip r:embed="rId5"/>
              <a:stretch/>
            </p:blipFill>
            <p:spPr>
              <a:xfrm>
                <a:off x="1371600" y="3048120"/>
                <a:ext cx="971640" cy="971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5" name="logo_ger" descr=""/>
              <p:cNvPicPr/>
              <p:nvPr/>
            </p:nvPicPr>
            <p:blipFill>
              <a:blip r:embed="rId6"/>
              <a:stretch/>
            </p:blipFill>
            <p:spPr>
              <a:xfrm>
                <a:off x="3200400" y="4191120"/>
                <a:ext cx="971640" cy="971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6" name="logo_pal" descr=""/>
              <p:cNvPicPr/>
              <p:nvPr/>
            </p:nvPicPr>
            <p:blipFill>
              <a:blip r:embed="rId7"/>
              <a:stretch/>
            </p:blipFill>
            <p:spPr>
              <a:xfrm>
                <a:off x="914400" y="5334120"/>
                <a:ext cx="971640" cy="971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7" name="logo_rus" descr=""/>
              <p:cNvPicPr/>
              <p:nvPr/>
            </p:nvPicPr>
            <p:blipFill>
              <a:blip r:embed="rId8"/>
              <a:stretch/>
            </p:blipFill>
            <p:spPr>
              <a:xfrm>
                <a:off x="2590920" y="5410080"/>
                <a:ext cx="971280" cy="9716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388" name=""/>
          <p:cNvGrpSpPr/>
          <p:nvPr/>
        </p:nvGrpSpPr>
        <p:grpSpPr>
          <a:xfrm>
            <a:off x="4114800" y="2895480"/>
            <a:ext cx="2647800" cy="2343240"/>
            <a:chOff x="4114800" y="2895480"/>
            <a:chExt cx="2647800" cy="2343240"/>
          </a:xfrm>
        </p:grpSpPr>
        <p:pic>
          <p:nvPicPr>
            <p:cNvPr id="389" name="logo_chi" descr=""/>
            <p:cNvPicPr/>
            <p:nvPr/>
          </p:nvPicPr>
          <p:blipFill>
            <a:blip r:embed="rId9"/>
            <a:stretch/>
          </p:blipFill>
          <p:spPr>
            <a:xfrm>
              <a:off x="4114800" y="2895480"/>
              <a:ext cx="971640" cy="97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0" name="logo_jpn" descr=""/>
            <p:cNvPicPr/>
            <p:nvPr/>
          </p:nvPicPr>
          <p:blipFill>
            <a:blip r:embed="rId10"/>
            <a:stretch/>
          </p:blipFill>
          <p:spPr>
            <a:xfrm>
              <a:off x="4419720" y="4114800"/>
              <a:ext cx="971280" cy="97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1" name="logo_mex" descr=""/>
            <p:cNvPicPr/>
            <p:nvPr/>
          </p:nvPicPr>
          <p:blipFill>
            <a:blip r:embed="rId11"/>
            <a:stretch/>
          </p:blipFill>
          <p:spPr>
            <a:xfrm>
              <a:off x="5638680" y="2971800"/>
              <a:ext cx="971640" cy="97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2" name="logo_uru" descr=""/>
            <p:cNvPicPr/>
            <p:nvPr/>
          </p:nvPicPr>
          <p:blipFill>
            <a:blip r:embed="rId12"/>
            <a:stretch/>
          </p:blipFill>
          <p:spPr>
            <a:xfrm>
              <a:off x="5791320" y="4267080"/>
              <a:ext cx="971280" cy="971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93" name=""/>
          <p:cNvGrpSpPr/>
          <p:nvPr/>
        </p:nvGrpSpPr>
        <p:grpSpPr>
          <a:xfrm>
            <a:off x="4267080" y="4038480"/>
            <a:ext cx="4248360" cy="2343240"/>
            <a:chOff x="4267080" y="4038480"/>
            <a:chExt cx="4248360" cy="2343240"/>
          </a:xfrm>
        </p:grpSpPr>
        <p:pic>
          <p:nvPicPr>
            <p:cNvPr id="394" name="logo_nig" descr=""/>
            <p:cNvPicPr/>
            <p:nvPr/>
          </p:nvPicPr>
          <p:blipFill>
            <a:blip r:embed="rId13"/>
            <a:stretch/>
          </p:blipFill>
          <p:spPr>
            <a:xfrm>
              <a:off x="7238880" y="4038480"/>
              <a:ext cx="971640" cy="97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5" name="logo_sui" descr=""/>
            <p:cNvPicPr/>
            <p:nvPr/>
          </p:nvPicPr>
          <p:blipFill>
            <a:blip r:embed="rId14"/>
            <a:stretch/>
          </p:blipFill>
          <p:spPr>
            <a:xfrm>
              <a:off x="4267080" y="5410080"/>
              <a:ext cx="971640" cy="97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6" name="logo_swe" descr=""/>
            <p:cNvPicPr/>
            <p:nvPr/>
          </p:nvPicPr>
          <p:blipFill>
            <a:blip r:embed="rId15"/>
            <a:stretch/>
          </p:blipFill>
          <p:spPr>
            <a:xfrm>
              <a:off x="6248520" y="5410080"/>
              <a:ext cx="617400" cy="97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7" name="logo_usa" descr=""/>
            <p:cNvPicPr/>
            <p:nvPr/>
          </p:nvPicPr>
          <p:blipFill>
            <a:blip r:embed="rId16"/>
            <a:stretch/>
          </p:blipFill>
          <p:spPr>
            <a:xfrm>
              <a:off x="7543800" y="5410080"/>
              <a:ext cx="971640" cy="971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98" name=""/>
          <p:cNvGrpSpPr/>
          <p:nvPr/>
        </p:nvGrpSpPr>
        <p:grpSpPr>
          <a:xfrm>
            <a:off x="5181480" y="1905120"/>
            <a:ext cx="3105360" cy="2114280"/>
            <a:chOff x="5181480" y="1905120"/>
            <a:chExt cx="3105360" cy="2114280"/>
          </a:xfrm>
        </p:grpSpPr>
        <p:pic>
          <p:nvPicPr>
            <p:cNvPr id="399" name="logo_eng" descr=""/>
            <p:cNvPicPr/>
            <p:nvPr/>
          </p:nvPicPr>
          <p:blipFill>
            <a:blip r:embed="rId17"/>
            <a:stretch/>
          </p:blipFill>
          <p:spPr>
            <a:xfrm>
              <a:off x="6629400" y="1905120"/>
              <a:ext cx="971640" cy="971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0" name="logo_cro" descr=""/>
            <p:cNvPicPr/>
            <p:nvPr/>
          </p:nvPicPr>
          <p:blipFill>
            <a:blip r:embed="rId18"/>
            <a:stretch/>
          </p:blipFill>
          <p:spPr>
            <a:xfrm>
              <a:off x="5181480" y="1905120"/>
              <a:ext cx="971640" cy="971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1" name="logo_zim" descr=""/>
            <p:cNvPicPr/>
            <p:nvPr/>
          </p:nvPicPr>
          <p:blipFill>
            <a:blip r:embed="rId19"/>
            <a:stretch/>
          </p:blipFill>
          <p:spPr>
            <a:xfrm>
              <a:off x="7315200" y="3048120"/>
              <a:ext cx="971640" cy="971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6E783-2121-4CC6-BDCD-40F38B348D2A}" type="slidenum">
              <a:t>22</a:t>
            </a:fld>
          </a:p>
        </p:txBody>
      </p:sp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 Black"/>
              </a:rPr>
              <a:t>Roles de las Organizacione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Federaciones (Estado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Organizan la actividad nacional (torneo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Gestionan la actividad de las Selecciones Naciona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Representa al país frente a la Confederacían y FIF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Opera según Estatutos (Constitución) y Reglamentos (Ley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Clubes Deportiv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Papel análogo a las empresas privadas (sólo que la mayoría </a:t>
            </a:r>
            <a:r>
              <a:rPr b="0" lang="es-CL" sz="2400" spc="-1" strike="noStrike" u="sng">
                <a:solidFill>
                  <a:srgbClr val="ffffff"/>
                </a:solidFill>
                <a:uFillTx/>
                <a:latin typeface="Arial"/>
              </a:rPr>
              <a:t>no tiene dueño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Organización espontanea, sin principios ni objetivos clar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674EC-1EC7-4ADA-AD2C-BE552184644B}" type="slidenum">
              <a:t>23</a:t>
            </a:fld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 Black"/>
              </a:rPr>
              <a:t>Nueva Organización Propuesta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Organizar al fútbol de una forma análoga a la de un Estado Democrático y de Derecho moderno en el que se aplica un modelo de Economía de Mercado en la asignación de recursos para competir por el creciente tiempo libre de las person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CEAFA-91F7-4A70-B877-5912591A554E}" type="slidenum">
              <a:t>24</a:t>
            </a:fld>
          </a:p>
        </p:txBody>
      </p:sp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800" y="8002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 Black"/>
              </a:rPr>
              <a:t>Organización Propuesta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PODER CONSTITUYENT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onsejo de Presidentes ele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g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ido por los Club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PODER EJECUTIV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residente de la ANFP elegido por el Consejo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Ministros: Resto del Directori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PODER LEGISLATIV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enadores: Responsables de Legislar. Elegidos por el Consejo entre personas idóne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Diputados: Responsables de la Fiscalización. Elegidos por el Consejo entre personas idóne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PODER JUDICIAL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uerpo de Árbitros: Elegidos por el Consej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Tribunales : De Honor y de Disciplina (ídem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BA8FE-35F6-4224-8373-BBE208B6F060}" type="slidenum">
              <a:t>25</a:t>
            </a:fld>
          </a:p>
        </p:txBody>
      </p:sp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391320"/>
            <a:ext cx="7772400" cy="9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cc00"/>
                </a:solidFill>
                <a:latin typeface="Arial Black"/>
              </a:rPr>
              <a:t>Nuevas Funciones de la ANFP</a:t>
            </a:r>
            <a:br>
              <a:rPr sz="3600"/>
            </a:br>
            <a:r>
              <a:rPr b="0" lang="es-CL" sz="2000" spc="-1" strike="noStrike">
                <a:solidFill>
                  <a:srgbClr val="ffcc00"/>
                </a:solidFill>
                <a:latin typeface="Arial Black"/>
              </a:rPr>
              <a:t>(Eficiencia Económica - Competitividad)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Mejorar la Eficiencia Económic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Evitar gastos excesivos o compromisos de recursos inexistentes, recurriendo a 2 tipos de impuestos y subsidio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Un impuesto único y parejo a los ingresos generados por los clubes mediante contratos de TV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Un impuesto a la inversión excesiva en planteles de jugadores (c/r a la inversión promedio de la liga) y su devolución, mediante subsidios, a los que – superando un mínimo de rendimiento – invirtieron menos que la med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41E5F-5749-45E6-B6A1-C7CA3F8568DD}" type="slidenum">
              <a:t>26</a:t>
            </a:fld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353160"/>
            <a:ext cx="7772400" cy="9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cc00"/>
                </a:solidFill>
                <a:latin typeface="Arial Black"/>
              </a:rPr>
              <a:t>Nuevas Funciones de la ANFP</a:t>
            </a:r>
            <a:br>
              <a:rPr sz="3600"/>
            </a:br>
            <a:r>
              <a:rPr b="0" lang="es-CL" sz="2000" spc="-1" strike="noStrike">
                <a:solidFill>
                  <a:srgbClr val="ffcc00"/>
                </a:solidFill>
                <a:latin typeface="Arial Black"/>
              </a:rPr>
              <a:t>(Eficiencia Económica - Competitividad)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Gary Becker (premio Nobel de economía) sugiere este sistema, el qu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Disminuye las diferencias deportiv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Aumenta el atractivo del torneo (mediante el aumento racional y calculado de la incertidumbr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Incentiva la formación y contratación de jugadores nacionales jóve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9F393-0DC0-4E92-ACB0-4AE85957516E}" type="slidenum">
              <a:t>27</a:t>
            </a:fld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85800" y="391320"/>
            <a:ext cx="7772400" cy="9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cc00"/>
                </a:solidFill>
                <a:latin typeface="Arial Black"/>
              </a:rPr>
              <a:t>Nuevas Funciones de la ANFP</a:t>
            </a:r>
            <a:br>
              <a:rPr sz="3600"/>
            </a:br>
            <a:r>
              <a:rPr b="0" lang="es-CL" sz="2000" spc="-1" strike="noStrike">
                <a:solidFill>
                  <a:srgbClr val="ffcc00"/>
                </a:solidFill>
                <a:latin typeface="Arial Black"/>
              </a:rPr>
              <a:t>(Eficiencia Económica – Control de Gastos)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Anualmente el Ejecutivo deberá proponer al Nuevo “Poder Legislativo” una Ley de Presupuestos que definirá en Qué y Cuánto puede gastar el Estado (la ANFP) para financiar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Arbitrajes, funciones administrativas generales, el costo de las selecciones y la difusión nacional e internacional del fútbo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50908-2941-4C59-BB80-BD890F9485DD}" type="slidenum">
              <a:t>28</a:t>
            </a:fld>
          </a:p>
        </p:txBody>
      </p:sp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85800" y="353160"/>
            <a:ext cx="7772400" cy="9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cc00"/>
                </a:solidFill>
                <a:latin typeface="Arial Black"/>
              </a:rPr>
              <a:t>Nuevas Funciones de la ANFP</a:t>
            </a:r>
            <a:br>
              <a:rPr sz="3600"/>
            </a:br>
            <a:r>
              <a:rPr b="0" lang="es-CL" sz="2000" spc="-1" strike="noStrike">
                <a:solidFill>
                  <a:srgbClr val="ffcc00"/>
                </a:solidFill>
                <a:latin typeface="Arial Black"/>
              </a:rPr>
              <a:t>(Eficiencia Económica – Distribución de Ingresos)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Los ingresos por borderó y por televisación de partidos deben pertenecer al equipo loc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Disminuir el número de equipos jugando con MENOS equipos (12 en tota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Hacer 2 torneos anuales de 2 ruedas cada uno con partidos de ida y vuelta =&gt; 44 partidos al año por equip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Lo anterior implica jugar del orden de 6 partidos “atractivos” como local para cada equip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Fomentar para los Torneos Nacionales una calidad menos dispareja entre los equip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3AC08-B98A-45E3-8784-5777D4D46DA6}" type="slidenum">
              <a:t>29</a:t>
            </a:fld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3261240" y="838080"/>
            <a:ext cx="334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Producto Mundi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(mm US $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593960" y="5711760"/>
            <a:ext cx="5882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añ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1760400" y="1676520"/>
            <a:ext cx="0" cy="349704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709640" y="5173560"/>
            <a:ext cx="90720" cy="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09640" y="4827600"/>
            <a:ext cx="90720" cy="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09640" y="4481640"/>
            <a:ext cx="90720" cy="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709640" y="4122720"/>
            <a:ext cx="90720" cy="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09640" y="3776760"/>
            <a:ext cx="90720" cy="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709640" y="3432240"/>
            <a:ext cx="90720" cy="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709640" y="3086280"/>
            <a:ext cx="90720" cy="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709640" y="2739960"/>
            <a:ext cx="90720" cy="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709640" y="2394000"/>
            <a:ext cx="90720" cy="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709640" y="2048040"/>
            <a:ext cx="90720" cy="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709640" y="1689120"/>
            <a:ext cx="90720" cy="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760400" y="5173560"/>
            <a:ext cx="6816960" cy="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1760400" y="5109840"/>
            <a:ext cx="0" cy="11412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2182680" y="5109840"/>
            <a:ext cx="0" cy="11412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2617920" y="5109840"/>
            <a:ext cx="0" cy="11412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3040200" y="5109840"/>
            <a:ext cx="0" cy="11412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3475080" y="5109840"/>
            <a:ext cx="0" cy="11412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897360" y="5109840"/>
            <a:ext cx="0" cy="11412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4319640" y="5109840"/>
            <a:ext cx="0" cy="11412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4754520" y="5109840"/>
            <a:ext cx="0" cy="11412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5175360" y="5109840"/>
            <a:ext cx="0" cy="11412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5597640" y="5109840"/>
            <a:ext cx="0" cy="11412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6032520" y="5109840"/>
            <a:ext cx="0" cy="11412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6454800" y="5109840"/>
            <a:ext cx="0" cy="11412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6877080" y="5109840"/>
            <a:ext cx="0" cy="11412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7311960" y="5109840"/>
            <a:ext cx="0" cy="11412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7734240" y="5109840"/>
            <a:ext cx="0" cy="11412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8169120" y="5109840"/>
            <a:ext cx="0" cy="11412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8589960" y="5109840"/>
            <a:ext cx="0" cy="11412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754280" y="1849320"/>
            <a:ext cx="6831000" cy="3256200"/>
          </a:xfrm>
          <a:custGeom>
            <a:avLst/>
            <a:gdLst/>
            <a:ahLst/>
            <a:rect l="l" t="t" r="r" b="b"/>
            <a:pathLst>
              <a:path w="4303" h="2051">
                <a:moveTo>
                  <a:pt x="0" y="2050"/>
                </a:moveTo>
                <a:lnTo>
                  <a:pt x="137" y="2050"/>
                </a:lnTo>
                <a:lnTo>
                  <a:pt x="266" y="2050"/>
                </a:lnTo>
                <a:lnTo>
                  <a:pt x="403" y="2050"/>
                </a:lnTo>
                <a:lnTo>
                  <a:pt x="540" y="2042"/>
                </a:lnTo>
                <a:lnTo>
                  <a:pt x="677" y="2042"/>
                </a:lnTo>
                <a:lnTo>
                  <a:pt x="806" y="2042"/>
                </a:lnTo>
                <a:lnTo>
                  <a:pt x="943" y="2042"/>
                </a:lnTo>
                <a:lnTo>
                  <a:pt x="1080" y="2033"/>
                </a:lnTo>
                <a:lnTo>
                  <a:pt x="1209" y="2025"/>
                </a:lnTo>
                <a:lnTo>
                  <a:pt x="1346" y="2009"/>
                </a:lnTo>
                <a:lnTo>
                  <a:pt x="1483" y="2001"/>
                </a:lnTo>
                <a:lnTo>
                  <a:pt x="1612" y="2009"/>
                </a:lnTo>
                <a:lnTo>
                  <a:pt x="1749" y="1993"/>
                </a:lnTo>
                <a:lnTo>
                  <a:pt x="1886" y="2009"/>
                </a:lnTo>
                <a:lnTo>
                  <a:pt x="2014" y="1993"/>
                </a:lnTo>
                <a:lnTo>
                  <a:pt x="2151" y="1969"/>
                </a:lnTo>
                <a:lnTo>
                  <a:pt x="2288" y="1985"/>
                </a:lnTo>
                <a:lnTo>
                  <a:pt x="2417" y="1961"/>
                </a:lnTo>
                <a:lnTo>
                  <a:pt x="2554" y="1953"/>
                </a:lnTo>
                <a:lnTo>
                  <a:pt x="2691" y="1912"/>
                </a:lnTo>
                <a:lnTo>
                  <a:pt x="2820" y="1791"/>
                </a:lnTo>
                <a:lnTo>
                  <a:pt x="2957" y="1719"/>
                </a:lnTo>
                <a:lnTo>
                  <a:pt x="3094" y="1678"/>
                </a:lnTo>
                <a:lnTo>
                  <a:pt x="3223" y="1638"/>
                </a:lnTo>
                <a:lnTo>
                  <a:pt x="3360" y="1590"/>
                </a:lnTo>
                <a:lnTo>
                  <a:pt x="3497" y="1469"/>
                </a:lnTo>
                <a:lnTo>
                  <a:pt x="3634" y="1332"/>
                </a:lnTo>
                <a:lnTo>
                  <a:pt x="3763" y="1138"/>
                </a:lnTo>
                <a:lnTo>
                  <a:pt x="3900" y="944"/>
                </a:lnTo>
                <a:lnTo>
                  <a:pt x="4037" y="694"/>
                </a:lnTo>
                <a:lnTo>
                  <a:pt x="4166" y="379"/>
                </a:lnTo>
                <a:lnTo>
                  <a:pt x="4302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998640" y="1562040"/>
            <a:ext cx="7822440" cy="4011480"/>
            <a:chOff x="998640" y="1562040"/>
            <a:chExt cx="7822440" cy="4011480"/>
          </a:xfrm>
        </p:grpSpPr>
        <p:sp>
          <p:nvSpPr>
            <p:cNvPr id="179" name=""/>
            <p:cNvSpPr/>
            <p:nvPr/>
          </p:nvSpPr>
          <p:spPr>
            <a:xfrm>
              <a:off x="1359720" y="5046840"/>
              <a:ext cx="2682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Geneva"/>
                </a:rPr>
                <a:t>0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179360" y="4700520"/>
              <a:ext cx="4420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Geneva"/>
                </a:rPr>
                <a:t>500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089720" y="4354560"/>
              <a:ext cx="5288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Geneva"/>
                </a:rPr>
                <a:t>1000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089720" y="4008600"/>
              <a:ext cx="5288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Geneva"/>
                </a:rPr>
                <a:t>5000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998640" y="3662280"/>
              <a:ext cx="6159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Geneva"/>
                </a:rPr>
                <a:t>10000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998640" y="3328920"/>
              <a:ext cx="6159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Geneva"/>
                </a:rPr>
                <a:t>15000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011240" y="2946240"/>
              <a:ext cx="6159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Geneva"/>
                </a:rPr>
                <a:t>20000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998640" y="2600280"/>
              <a:ext cx="6159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Geneva"/>
                </a:rPr>
                <a:t>25000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998640" y="2266920"/>
              <a:ext cx="6159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Geneva"/>
                </a:rPr>
                <a:t>30000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998640" y="1920960"/>
              <a:ext cx="6159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Geneva"/>
                </a:rPr>
                <a:t>35000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998640" y="1562040"/>
              <a:ext cx="6159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Geneva"/>
                </a:rPr>
                <a:t>40000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620360" y="5302080"/>
              <a:ext cx="2682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941120" y="5302080"/>
              <a:ext cx="4420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Geneva"/>
                </a:rPr>
                <a:t>400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363400" y="5302080"/>
              <a:ext cx="4420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Geneva"/>
                </a:rPr>
                <a:t>600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798280" y="5302080"/>
              <a:ext cx="4420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Geneva"/>
                </a:rPr>
                <a:t>800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177360" y="5302080"/>
              <a:ext cx="5288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Geneva"/>
                </a:rPr>
                <a:t>1000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599640" y="5302080"/>
              <a:ext cx="5288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Geneva"/>
                </a:rPr>
                <a:t>1200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020480" y="5302080"/>
              <a:ext cx="5288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Geneva"/>
                </a:rPr>
                <a:t>1300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455360" y="5302080"/>
              <a:ext cx="5288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Geneva"/>
                </a:rPr>
                <a:t>1400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877640" y="5302080"/>
              <a:ext cx="5288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Geneva"/>
                </a:rPr>
                <a:t>1600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299920" y="5302080"/>
              <a:ext cx="5288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Geneva"/>
                </a:rPr>
                <a:t>1700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734800" y="5302080"/>
              <a:ext cx="5288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Geneva"/>
                </a:rPr>
                <a:t>1800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157080" y="5302080"/>
              <a:ext cx="5288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Geneva"/>
                </a:rPr>
                <a:t>1900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579360" y="5302080"/>
              <a:ext cx="5288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Geneva"/>
                </a:rPr>
                <a:t>1920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014240" y="5302080"/>
              <a:ext cx="5288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Geneva"/>
                </a:rPr>
                <a:t>1940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435080" y="5302080"/>
              <a:ext cx="5288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Geneva"/>
                </a:rPr>
                <a:t>1960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69960" y="5302080"/>
              <a:ext cx="5288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Geneva"/>
                </a:rPr>
                <a:t>1980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292240" y="5302080"/>
              <a:ext cx="5288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Geneva"/>
                </a:rPr>
                <a:t>2000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3948840" y="2708280"/>
            <a:ext cx="2835360" cy="1940040"/>
            <a:chOff x="3948840" y="2708280"/>
            <a:chExt cx="2835360" cy="1940040"/>
          </a:xfrm>
        </p:grpSpPr>
        <p:sp>
          <p:nvSpPr>
            <p:cNvPr id="208" name=""/>
            <p:cNvSpPr/>
            <p:nvPr/>
          </p:nvSpPr>
          <p:spPr>
            <a:xfrm>
              <a:off x="3948840" y="2708280"/>
              <a:ext cx="2835360" cy="459720"/>
            </a:xfrm>
            <a:prstGeom prst="rect">
              <a:avLst/>
            </a:prstGeom>
            <a:noFill/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400" spc="-1" strike="noStrike">
                  <a:solidFill>
                    <a:srgbClr val="ffffff"/>
                  </a:solidFill>
                  <a:latin typeface="Times New Roman"/>
                </a:rPr>
                <a:t>Revolución Industrial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562720" y="3200400"/>
              <a:ext cx="380880" cy="1447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17080-D6F3-4E6D-AEF7-DE05DFEFB876}" type="slidenum">
              <a:t>3</a:t>
            </a:fld>
          </a:p>
        </p:txBody>
      </p:sp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800" y="406080"/>
            <a:ext cx="777240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cc00"/>
                </a:solidFill>
                <a:latin typeface="Arial Black"/>
              </a:rPr>
              <a:t>Nuevas Funciones de la ANFP</a:t>
            </a:r>
            <a:br>
              <a:rPr sz="3600"/>
            </a:br>
            <a:r>
              <a:rPr b="0" lang="es-CL" sz="1800" spc="-1" strike="noStrike">
                <a:solidFill>
                  <a:srgbClr val="ffcc00"/>
                </a:solidFill>
                <a:latin typeface="Arial Black"/>
              </a:rPr>
              <a:t>(Eficiencia Económica – Estructura Regional Competitiva)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Regionalizar los equipos (12 concesion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Reemplazar la 1ªB por campeonatos regionales de tipo Amateur para reemplazar al </a:t>
            </a:r>
            <a:r>
              <a:rPr b="0" lang="es-CL" sz="2800" spc="-1" strike="noStrike" u="sng">
                <a:solidFill>
                  <a:srgbClr val="ffffff"/>
                </a:solidFill>
                <a:uFillTx/>
                <a:latin typeface="Arial"/>
              </a:rPr>
              <a:t>club regional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 que desciend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18" name=""/>
          <p:cNvGraphicFramePr/>
          <p:nvPr/>
        </p:nvGraphicFramePr>
        <p:xfrm>
          <a:off x="1787400" y="2209680"/>
          <a:ext cx="5873760" cy="1987560"/>
        </p:xfrm>
        <a:graphic>
          <a:graphicData uri="http://schemas.openxmlformats.org/drawingml/2006/table">
            <a:tbl>
              <a:tblPr/>
              <a:tblGrid>
                <a:gridCol w="1187280"/>
                <a:gridCol w="990720"/>
                <a:gridCol w="1517760"/>
                <a:gridCol w="1187280"/>
                <a:gridCol w="9907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# Club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gió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# Club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gió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ª y 2ª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ª y 7ª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ª y 4ª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ª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ª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ª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M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ª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B5BB2-4B33-44EB-B044-F4464672F1E9}" type="slidenum">
              <a:t>30</a:t>
            </a:fld>
          </a:p>
        </p:txBody>
      </p:sp>
    </p:spTree>
  </p:cSld>
  <p:transition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429480"/>
            <a:ext cx="7772400" cy="9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cc00"/>
                </a:solidFill>
                <a:latin typeface="Arial Black"/>
              </a:rPr>
              <a:t>Nuevas Funciones de la ANFP</a:t>
            </a:r>
            <a:br>
              <a:rPr sz="3600"/>
            </a:br>
            <a:r>
              <a:rPr b="0" lang="es-CL" sz="2000" spc="-1" strike="noStrike">
                <a:solidFill>
                  <a:srgbClr val="ffcc00"/>
                </a:solidFill>
                <a:latin typeface="Arial Black"/>
              </a:rPr>
              <a:t>(Eficiencia Económica – Producto Competitivo)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Televisación del Torneo local y las clasificatorias para el mundi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Hoy la ANFP dispone del CDF y ZAP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El CDF transmite 4 partidos en directo y 5 en diferi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ZAP distribuye en el básico el CDF y su objetivo es maximizar la penetración del CDF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Exigir que los derechos televisivos de las competencias internacionales pertenezcan a los clubes del país loc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A1B61-B985-4147-BC16-DE8933BF7C53}" type="slidenum">
              <a:t>31</a:t>
            </a:fld>
          </a:p>
        </p:txBody>
      </p:sp>
    </p:spTree>
  </p:cSld>
  <p:transition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429480"/>
            <a:ext cx="7772400" cy="9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cc00"/>
                </a:solidFill>
                <a:latin typeface="Arial Black"/>
              </a:rPr>
              <a:t>Nuevas Funciones de la ANFP</a:t>
            </a:r>
            <a:br>
              <a:rPr sz="3600"/>
            </a:br>
            <a:r>
              <a:rPr b="0" lang="es-CL" sz="2000" spc="-1" strike="noStrike">
                <a:solidFill>
                  <a:srgbClr val="ffcc00"/>
                </a:solidFill>
                <a:latin typeface="Arial Black"/>
              </a:rPr>
              <a:t>(Eficiencia Económica – Violencia)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ffff"/>
                </a:solidFill>
                <a:latin typeface="Arial"/>
              </a:rPr>
              <a:t>Algunas de las funciones de la ANFP serán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Mejorar al máximo la calidad del espectácul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Desarrollar el marketing integral del fútbo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Fomentar la difusión y práctica del fútbol en los colegi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Fomentar la creación de Colegios Deportivo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DD9C4-399C-48C2-ACF7-720AF6414C3D}" type="slidenum">
              <a:t>32</a:t>
            </a:fld>
          </a:p>
        </p:txBody>
      </p:sp>
    </p:spTree>
  </p:cSld>
  <p:transition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429480"/>
            <a:ext cx="7772400" cy="9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cc00"/>
                </a:solidFill>
                <a:latin typeface="Arial Black"/>
              </a:rPr>
              <a:t>Nuevas Funciones de la ANFP</a:t>
            </a:r>
            <a:br>
              <a:rPr sz="3600"/>
            </a:br>
            <a:r>
              <a:rPr b="0" lang="es-CL" sz="2000" spc="-1" strike="noStrike">
                <a:solidFill>
                  <a:srgbClr val="ffcc00"/>
                </a:solidFill>
                <a:latin typeface="Arial Black"/>
              </a:rPr>
              <a:t>(Eficiencia Económica – Violencia)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Hacer responsables a los clubes del control de la violencia en los estadi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Im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pedir el acceso de los hinchas violentistas a todos los estadios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 mediante el uso de tecnologí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Las entradas 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deben ser numeradas y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se venderán 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solo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quienes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que se 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identifiquen y asuman la responsabilidad de la localidad adquirid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92F9A-D469-4361-B886-086EEBE5D89F}" type="slidenum">
              <a:t>33</a:t>
            </a:fld>
          </a:p>
        </p:txBody>
      </p:sp>
    </p:spTree>
  </p:cSld>
  <p:transition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429480"/>
            <a:ext cx="7772400" cy="9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cc00"/>
                </a:solidFill>
                <a:latin typeface="Arial Black"/>
              </a:rPr>
              <a:t>Nuevas Funciones de la ANFP</a:t>
            </a:r>
            <a:br>
              <a:rPr sz="3600"/>
            </a:br>
            <a:r>
              <a:rPr b="0" lang="es-CL" sz="2000" spc="-1" strike="noStrike">
                <a:solidFill>
                  <a:srgbClr val="ffcc00"/>
                </a:solidFill>
                <a:latin typeface="Arial Black"/>
              </a:rPr>
              <a:t>(Eficiencia Económica – Sanciones Violencia)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Sancionar en puntos y localía a los clubes cuyos hinchas causen desórde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La filmación constituirá Plena Prueba para aplicar sancion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La principal sanción será la imposibilidad de ingresar a cualquier estadio de Chile por 6 meses, castigo que se duplicará por cada reincidenci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Cumplida la pena deberá acreditarse la asistencia a un curso de 4 hrs. sobre normas de comportamiento en los estadi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765BE-1C87-4DF1-B376-3A9AB13EB9F0}" type="slidenum">
              <a:t>34</a:t>
            </a:fld>
          </a:p>
        </p:txBody>
      </p:sp>
    </p:spTree>
  </p:cSld>
  <p:transition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837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cc00"/>
                </a:solidFill>
                <a:latin typeface="Arial Black"/>
              </a:rPr>
              <a:t>Nuevas Funciones de la ANFP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Proveer Bienes y Servicios Públic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Organizar los Torneos Nacionales e Internaciona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Gestionar las Selecciones Nacionales sin costos exagerados y superflu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Garantizar el cumplimiento de los contratos y la administración de justicia a clubes, dirigentes y jugado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Promover el Fútbol deporte – espectácul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E5353-7FB6-46FB-9BC1-3C51EDF23F21}" type="slidenum">
              <a:t>35</a:t>
            </a:fld>
          </a:p>
        </p:txBody>
      </p:sp>
    </p:spTree>
  </p:cSld>
  <p:transition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cc00"/>
                </a:solidFill>
                <a:latin typeface="Arial Black"/>
              </a:rPr>
              <a:t>Nuevas Funciones de la ANFP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ffff"/>
                </a:solidFill>
                <a:latin typeface="Arial"/>
              </a:rPr>
              <a:t>Proveer Bienes y Servicios Público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Hacer transparente y eficiente los mercados, la relación entre club, jugador y entrena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Exigir responsabilidad de los Dirigen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Mejorar la calidad del espectáculo y erradicar la violencia en los estadi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1F83E-EB90-4D15-B102-E85390E60A61}" type="slidenum">
              <a:t>36</a:t>
            </a:fld>
          </a:p>
        </p:txBody>
      </p:sp>
    </p:spTree>
  </p:cSld>
  <p:transition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800" y="8600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cc00"/>
                </a:solidFill>
                <a:latin typeface="Arial Black"/>
              </a:rPr>
              <a:t>Nuevas Funciones de la ANFP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Proveer Bienes y Servicios Públic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Estandarizar y difundir información pública detallada del fútbol (financiera, arbitraje, jugadores, clubes y seleccion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Modificar la existencia del “pase” (nacional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Cambiarlo por un crédito, a tasa de merca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Descontable en las 1ª transferencias y remuneracion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Toda transferencia al extranjero cancela el 100% del sal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DB549-DE70-49B2-8922-08C2F201E09A}" type="slidenum">
              <a:t>37</a:t>
            </a:fld>
          </a:p>
        </p:txBody>
      </p:sp>
    </p:spTree>
  </p:cSld>
  <p:transition>
    <p:random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cc00"/>
                </a:solidFill>
                <a:latin typeface="Arial Black"/>
              </a:rPr>
              <a:t>Nuevas Funciones de la ANFP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Generar igualdad de oportunidades entre los clubes de menor convocator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Mediante fondos concursabl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Ayudar a financiar la formación de jugadores de escasos recursos por parte de los club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Promover el rol educacional-formador de los club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Financiar la formación de dirigentes de los club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Financiar desarrollo de software de sistemas de gestión para club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5D462-2EDD-43AF-8788-66A8476B701F}" type="slidenum">
              <a:t>38</a:t>
            </a:fld>
          </a:p>
        </p:txBody>
      </p:sp>
    </p:spTree>
  </p:cSld>
  <p:transition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7171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cc00"/>
                </a:solidFill>
                <a:latin typeface="Arial Black"/>
              </a:rPr>
              <a:t>Nuevas Funciones de la ANFP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Representar a Chile Internacionalmen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Gestionar a la Selección Naciona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No duplicar la labor de formación de los club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Financiar, mediante fondos concursabl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Becas para la formación de entrenadores jóve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Visitas de profesores de entrenadores y profesores de árbitros a dictar seminarios en Chi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E3D20-B07A-4E13-8ED7-A92699848C94}" type="slidenum">
              <a:t>39</a:t>
            </a:fld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46560"/>
            <a:ext cx="7772400" cy="106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Renta per capita</a:t>
            </a:r>
            <a:br>
              <a:rPr sz="4400"/>
            </a:b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(US$ 1990 en PPP)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1" name=""/>
          <p:cNvSpPr/>
          <p:nvPr/>
        </p:nvSpPr>
        <p:spPr>
          <a:xfrm>
            <a:off x="1219320" y="1905120"/>
            <a:ext cx="7340400" cy="3166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268280" y="1917720"/>
            <a:ext cx="4230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Año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119480" y="191772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842000" y="1917720"/>
            <a:ext cx="482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1000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913360" y="1917720"/>
            <a:ext cx="482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1500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985080" y="1917720"/>
            <a:ext cx="482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1820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8058240" y="1917720"/>
            <a:ext cx="482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1995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267920" y="2179800"/>
            <a:ext cx="7110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Mundo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769200" y="2179800"/>
            <a:ext cx="54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$425 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842360" y="2179800"/>
            <a:ext cx="54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$420 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913720" y="2179800"/>
            <a:ext cx="54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$545 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985440" y="2179800"/>
            <a:ext cx="54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$675 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82920" y="2179800"/>
            <a:ext cx="7214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$5,188 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413360" y="2441520"/>
            <a:ext cx="11772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- Occidente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769200" y="2441520"/>
            <a:ext cx="54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$439 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42360" y="2441520"/>
            <a:ext cx="54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$406 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913720" y="2441520"/>
            <a:ext cx="54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$624 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811560" y="2441520"/>
            <a:ext cx="7214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$1,149 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765560" y="2441520"/>
            <a:ext cx="8420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$19,990 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502000" y="2709720"/>
            <a:ext cx="6987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Europa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886200" y="2709720"/>
            <a:ext cx="36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450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957920" y="2709720"/>
            <a:ext cx="36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400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031080" y="2709720"/>
            <a:ext cx="36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670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928200" y="2709720"/>
            <a:ext cx="54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1,269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882560" y="2709720"/>
            <a:ext cx="6620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17,456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598480" y="2971800"/>
            <a:ext cx="6040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EEUU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886200" y="2971800"/>
            <a:ext cx="36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400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957920" y="2971800"/>
            <a:ext cx="36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400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31080" y="2971800"/>
            <a:ext cx="36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400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928200" y="2971800"/>
            <a:ext cx="54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1,233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882560" y="2971800"/>
            <a:ext cx="6620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22,933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589120" y="3233880"/>
            <a:ext cx="590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Japón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886200" y="3233880"/>
            <a:ext cx="36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400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957920" y="3233880"/>
            <a:ext cx="36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425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031080" y="3233880"/>
            <a:ext cx="36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525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102440" y="3233880"/>
            <a:ext cx="36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675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7882560" y="3233880"/>
            <a:ext cx="6620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19,720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420560" y="3490920"/>
            <a:ext cx="9975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- El Resto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769200" y="3490920"/>
            <a:ext cx="54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$423 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842360" y="3490920"/>
            <a:ext cx="54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$424 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13720" y="3490920"/>
            <a:ext cx="54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$532 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985440" y="3490920"/>
            <a:ext cx="54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$594 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7882920" y="3490920"/>
            <a:ext cx="7214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$2,971 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945800" y="3757680"/>
            <a:ext cx="11772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Otra Europa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886200" y="3757680"/>
            <a:ext cx="36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400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957920" y="3757680"/>
            <a:ext cx="36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400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31080" y="3757680"/>
            <a:ext cx="36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597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102440" y="3757680"/>
            <a:ext cx="36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803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999920" y="3757680"/>
            <a:ext cx="54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5,147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870920" y="4021200"/>
            <a:ext cx="13237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Latin América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886200" y="4021200"/>
            <a:ext cx="36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400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957920" y="4021200"/>
            <a:ext cx="36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415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031080" y="4021200"/>
            <a:ext cx="36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415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7102440" y="4021200"/>
            <a:ext cx="36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671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7999920" y="4021200"/>
            <a:ext cx="54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5,031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613600" y="4282920"/>
            <a:ext cx="5677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China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886200" y="4282920"/>
            <a:ext cx="36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450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957920" y="4282920"/>
            <a:ext cx="36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450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031080" y="4282920"/>
            <a:ext cx="36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600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102440" y="4282920"/>
            <a:ext cx="36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600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999920" y="4282920"/>
            <a:ext cx="54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2,653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166840" y="4545000"/>
            <a:ext cx="10094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Otros Asia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886200" y="4545000"/>
            <a:ext cx="36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425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957920" y="4545000"/>
            <a:ext cx="36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425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031080" y="4545000"/>
            <a:ext cx="36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525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102440" y="4545000"/>
            <a:ext cx="36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560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7999920" y="4545000"/>
            <a:ext cx="54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2,768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621880" y="4807080"/>
            <a:ext cx="5540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Africa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886200" y="4807080"/>
            <a:ext cx="36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400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957920" y="4807080"/>
            <a:ext cx="36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400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031080" y="4807080"/>
            <a:ext cx="36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400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7102440" y="4807080"/>
            <a:ext cx="36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400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7999920" y="4807080"/>
            <a:ext cx="54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1,221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447920" y="5867280"/>
            <a:ext cx="528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uente: A. Maddison, "Monitoring the World Economy" (1995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0186E-D413-4553-92C5-D1816E9627F0}" type="slidenum">
              <a:t>4</a:t>
            </a:fld>
          </a:p>
        </p:txBody>
      </p:sp>
    </p:spTree>
  </p:cSld>
  <p:transition>
    <p:random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85800" y="8002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 Black"/>
              </a:rPr>
              <a:t>Conclusione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Los principales problemas del Fútbol Chileno se deriva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e cambios recientes que han disminuido los costos de transacción para ver fútbol y la consiguiente globalización de la activida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Aumento generalizado de la competencia por captar el tiempo libre de los consumido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Inexistencia de responsabilidades de los dirigentes. Una forma de resolverla consiste en aplicar las normas que riguen las sociedades anónim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F69AA-1428-431B-BC81-95CB8547B42A}" type="slidenum">
              <a:t>40</a:t>
            </a:fld>
          </a:p>
        </p:txBody>
      </p:sp>
    </p:spTree>
  </p:cSld>
  <p:transition>
    <p:random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8002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 Black"/>
              </a:rPr>
              <a:t>Conclusione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Es necesario modificar la estructura financiera de la ANFP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No se deben realizar gastos no aproba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No se debería gastar más del 10% de los ingresos del Fútbol que ella recauda por cuenta de los club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Aunque los dirigentes actuales son bastante mejores que los anteriores, cometieron el error de aumentar a 20 el número de clubes de 1ª con un Torneo poco atractiv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4E61E-BFA4-449E-8E6D-B792BF3616B9}" type="slidenum">
              <a:t>41</a:t>
            </a:fld>
          </a:p>
        </p:txBody>
      </p:sp>
    </p:spTree>
  </p:cSld>
  <p:transition>
    <p:random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85800" y="303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 Black"/>
              </a:rPr>
              <a:t>Conclusione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stos y otros problemas fueron diagnosticados en Chile en junio  de 1995. (Ver “Economía y Sociedad” (revista de José Piñera) de julio de 1995: www.claroyasociados.cl/actualidad/papers en el documento “Modernización del Fútbol Chileno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Las soluciones actuales son las mismas que se propusieron en junio de 199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Los únicos Responsables de su no aplicación son los dirigentes de la ANFP (desde esa fecha hasta ahora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7B064-B308-4543-B8B1-E4FB94FAA5B4}" type="slidenum">
              <a:t>42</a:t>
            </a:fld>
          </a:p>
        </p:txBody>
      </p:sp>
    </p:spTree>
  </p:cSld>
  <p:transition>
    <p:random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8002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 Black"/>
              </a:rPr>
              <a:t>Conclusione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Todavía hay tiempo de corregir y refundar esta actividad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, pero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no basta 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sólo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on crear las Sociedades Anónimas Deportiva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Simultáneamente, se debe (al meno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Desarrollar una completa Modernización de la organización global del Fútbol Chileno 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stablecer - con claridad - el Rol de los Clubes (Empresas Privadas) y de la ANFP (Estado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BB9C7-144C-44AA-B632-45F56A5329FE}" type="slidenum">
              <a:t>43</a:t>
            </a:fld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2050920" y="4727520"/>
            <a:ext cx="57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050920" y="4330800"/>
            <a:ext cx="57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0920" y="3933720"/>
            <a:ext cx="57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050920" y="3538440"/>
            <a:ext cx="57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050920" y="3141720"/>
            <a:ext cx="57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050920" y="2746440"/>
            <a:ext cx="57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050920" y="2349360"/>
            <a:ext cx="57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079720" y="2502000"/>
            <a:ext cx="6148440" cy="2550960"/>
          </a:xfrm>
          <a:custGeom>
            <a:avLst/>
            <a:gdLst/>
            <a:ahLst/>
            <a:rect l="l" t="t" r="r" b="b"/>
            <a:pathLst>
              <a:path w="3873" h="1607">
                <a:moveTo>
                  <a:pt x="0" y="1606"/>
                </a:moveTo>
                <a:lnTo>
                  <a:pt x="121" y="1597"/>
                </a:lnTo>
                <a:lnTo>
                  <a:pt x="241" y="1597"/>
                </a:lnTo>
                <a:lnTo>
                  <a:pt x="362" y="1597"/>
                </a:lnTo>
                <a:lnTo>
                  <a:pt x="482" y="1597"/>
                </a:lnTo>
                <a:lnTo>
                  <a:pt x="603" y="1597"/>
                </a:lnTo>
                <a:lnTo>
                  <a:pt x="724" y="1597"/>
                </a:lnTo>
                <a:lnTo>
                  <a:pt x="844" y="1590"/>
                </a:lnTo>
                <a:lnTo>
                  <a:pt x="965" y="1581"/>
                </a:lnTo>
                <a:lnTo>
                  <a:pt x="1092" y="1573"/>
                </a:lnTo>
                <a:lnTo>
                  <a:pt x="1213" y="1556"/>
                </a:lnTo>
                <a:lnTo>
                  <a:pt x="1333" y="1548"/>
                </a:lnTo>
                <a:lnTo>
                  <a:pt x="1454" y="1556"/>
                </a:lnTo>
                <a:lnTo>
                  <a:pt x="1575" y="1539"/>
                </a:lnTo>
                <a:lnTo>
                  <a:pt x="1695" y="1564"/>
                </a:lnTo>
                <a:lnTo>
                  <a:pt x="1816" y="1539"/>
                </a:lnTo>
                <a:lnTo>
                  <a:pt x="1936" y="1515"/>
                </a:lnTo>
                <a:lnTo>
                  <a:pt x="2056" y="1531"/>
                </a:lnTo>
                <a:lnTo>
                  <a:pt x="2177" y="1497"/>
                </a:lnTo>
                <a:lnTo>
                  <a:pt x="2297" y="1490"/>
                </a:lnTo>
                <a:lnTo>
                  <a:pt x="2418" y="1448"/>
                </a:lnTo>
                <a:lnTo>
                  <a:pt x="2539" y="1364"/>
                </a:lnTo>
                <a:lnTo>
                  <a:pt x="2659" y="1264"/>
                </a:lnTo>
                <a:lnTo>
                  <a:pt x="2787" y="1215"/>
                </a:lnTo>
                <a:lnTo>
                  <a:pt x="2907" y="1182"/>
                </a:lnTo>
                <a:lnTo>
                  <a:pt x="3028" y="1131"/>
                </a:lnTo>
                <a:lnTo>
                  <a:pt x="3148" y="1073"/>
                </a:lnTo>
                <a:lnTo>
                  <a:pt x="3269" y="1048"/>
                </a:lnTo>
                <a:lnTo>
                  <a:pt x="3390" y="840"/>
                </a:lnTo>
                <a:lnTo>
                  <a:pt x="3510" y="691"/>
                </a:lnTo>
                <a:lnTo>
                  <a:pt x="3631" y="500"/>
                </a:lnTo>
                <a:lnTo>
                  <a:pt x="3751" y="300"/>
                </a:lnTo>
                <a:lnTo>
                  <a:pt x="3872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2084400" y="2336760"/>
            <a:ext cx="0" cy="278928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506960" y="4606920"/>
            <a:ext cx="590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neva"/>
              </a:rPr>
              <a:t>10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06960" y="4208400"/>
            <a:ext cx="590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neva"/>
              </a:rPr>
              <a:t>20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06960" y="3813120"/>
            <a:ext cx="590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neva"/>
              </a:rPr>
              <a:t>30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506960" y="3416400"/>
            <a:ext cx="590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neva"/>
              </a:rPr>
              <a:t>40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06960" y="3021120"/>
            <a:ext cx="590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neva"/>
              </a:rPr>
              <a:t>50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506960" y="2625840"/>
            <a:ext cx="590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neva"/>
              </a:rPr>
              <a:t>60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506960" y="2227320"/>
            <a:ext cx="590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neva"/>
              </a:rPr>
              <a:t>70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050920" y="5124600"/>
            <a:ext cx="57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085840" y="5124600"/>
            <a:ext cx="6134400" cy="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 flipV="1">
            <a:off x="2084400" y="5072040"/>
            <a:ext cx="0" cy="92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flipV="1">
            <a:off x="2468520" y="5072040"/>
            <a:ext cx="0" cy="9216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flipV="1">
            <a:off x="2851200" y="5072040"/>
            <a:ext cx="0" cy="9216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V="1">
            <a:off x="3233880" y="5072040"/>
            <a:ext cx="0" cy="9216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 flipV="1">
            <a:off x="3616200" y="5072040"/>
            <a:ext cx="0" cy="9216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 flipV="1">
            <a:off x="4011480" y="5072040"/>
            <a:ext cx="0" cy="9216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 flipV="1">
            <a:off x="4392720" y="5072040"/>
            <a:ext cx="0" cy="9216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4776840" y="5072040"/>
            <a:ext cx="0" cy="9216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V="1">
            <a:off x="5159520" y="5072040"/>
            <a:ext cx="0" cy="9216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V="1">
            <a:off x="5541840" y="5072040"/>
            <a:ext cx="0" cy="9216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 flipV="1">
            <a:off x="5924520" y="5072040"/>
            <a:ext cx="0" cy="9216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 flipV="1">
            <a:off x="6305400" y="5072040"/>
            <a:ext cx="0" cy="9216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 flipV="1">
            <a:off x="6700680" y="5072040"/>
            <a:ext cx="0" cy="9216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flipV="1">
            <a:off x="7083360" y="5072040"/>
            <a:ext cx="0" cy="9216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V="1">
            <a:off x="7467480" y="5072040"/>
            <a:ext cx="0" cy="9216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7848720" y="5072040"/>
            <a:ext cx="0" cy="9216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8232840" y="5072040"/>
            <a:ext cx="0" cy="9216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777680" y="500220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neva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933200" y="523872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neva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232720" y="5238720"/>
            <a:ext cx="4878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neva"/>
              </a:rPr>
              <a:t>4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613600" y="5238720"/>
            <a:ext cx="4878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neva"/>
              </a:rPr>
              <a:t>6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2996280" y="5238720"/>
            <a:ext cx="4878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neva"/>
              </a:rPr>
              <a:t>8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324600" y="5238720"/>
            <a:ext cx="590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neva"/>
              </a:rPr>
              <a:t>10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718440" y="5238720"/>
            <a:ext cx="590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neva"/>
              </a:rPr>
              <a:t>12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102560" y="5238720"/>
            <a:ext cx="590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neva"/>
              </a:rPr>
              <a:t>13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484880" y="5238720"/>
            <a:ext cx="590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neva"/>
              </a:rPr>
              <a:t>14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867560" y="5238720"/>
            <a:ext cx="590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neva"/>
              </a:rPr>
              <a:t>16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250240" y="5238720"/>
            <a:ext cx="590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neva"/>
              </a:rPr>
              <a:t>17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631120" y="5238720"/>
            <a:ext cx="590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neva"/>
              </a:rPr>
              <a:t>18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6015240" y="5238720"/>
            <a:ext cx="590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neva"/>
              </a:rPr>
              <a:t>19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410520" y="5238720"/>
            <a:ext cx="590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neva"/>
              </a:rPr>
              <a:t>192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793200" y="5238720"/>
            <a:ext cx="590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neva"/>
              </a:rPr>
              <a:t>194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7175880" y="5238720"/>
            <a:ext cx="590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neva"/>
              </a:rPr>
              <a:t>196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7556760" y="5238720"/>
            <a:ext cx="590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neva"/>
              </a:rPr>
              <a:t>198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7940880" y="5238720"/>
            <a:ext cx="590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neva"/>
              </a:rPr>
              <a:t>20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035160" y="973080"/>
            <a:ext cx="349776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Población Mundi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(millone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884520" y="1792440"/>
            <a:ext cx="12758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Població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660560" y="5638680"/>
            <a:ext cx="5882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añ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3888360" y="2743200"/>
            <a:ext cx="2835360" cy="1940040"/>
            <a:chOff x="3888360" y="2743200"/>
            <a:chExt cx="2835360" cy="1940040"/>
          </a:xfrm>
        </p:grpSpPr>
        <p:sp>
          <p:nvSpPr>
            <p:cNvPr id="342" name=""/>
            <p:cNvSpPr/>
            <p:nvPr/>
          </p:nvSpPr>
          <p:spPr>
            <a:xfrm>
              <a:off x="3888360" y="2743200"/>
              <a:ext cx="2835360" cy="459720"/>
            </a:xfrm>
            <a:prstGeom prst="rect">
              <a:avLst/>
            </a:prstGeom>
            <a:noFill/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400" spc="-1" strike="noStrike">
                  <a:solidFill>
                    <a:srgbClr val="ffffff"/>
                  </a:solidFill>
                  <a:latin typeface="Times New Roman"/>
                </a:rPr>
                <a:t>Revolución Industrial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502240" y="3235320"/>
              <a:ext cx="380880" cy="1447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4079E-A5C7-4DCE-BF91-F2C595D4F008}" type="slidenum">
              <a:t>5</a:t>
            </a:fld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1600200" y="1600200"/>
            <a:ext cx="57150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Times New Roman"/>
              </a:rPr>
              <a:t>Algunas Luces Sobre las Diferencias del Desarrollo por Continente...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71248-AC59-4531-B679-32034F6952F5}" type="slidenum">
              <a:t>6</a:t>
            </a:fld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NORTEAMERICA1" descr=""/>
          <p:cNvPicPr/>
          <p:nvPr/>
        </p:nvPicPr>
        <p:blipFill>
          <a:blip r:embed="rId1"/>
          <a:stretch/>
        </p:blipFill>
        <p:spPr>
          <a:xfrm>
            <a:off x="1365120" y="193680"/>
            <a:ext cx="6864480" cy="6512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BE3E3-90B5-4CA2-ADF5-9A73EFD06227}" type="slidenum">
              <a:t>7</a:t>
            </a:fld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Europa1" descr=""/>
          <p:cNvPicPr/>
          <p:nvPr/>
        </p:nvPicPr>
        <p:blipFill>
          <a:blip r:embed="rId1"/>
          <a:stretch/>
        </p:blipFill>
        <p:spPr>
          <a:xfrm>
            <a:off x="1447920" y="160200"/>
            <a:ext cx="7002360" cy="6545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E52D6-6871-404B-AA7F-146D66B62FFC}" type="slidenum">
              <a:t>8</a:t>
            </a:fld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Asia%601" descr=""/>
          <p:cNvPicPr/>
          <p:nvPr/>
        </p:nvPicPr>
        <p:blipFill>
          <a:blip r:embed="rId1"/>
          <a:stretch/>
        </p:blipFill>
        <p:spPr>
          <a:xfrm>
            <a:off x="990720" y="212760"/>
            <a:ext cx="8043840" cy="6416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83B14-9D23-4E60-9BEB-F0A45C562D69}" type="slidenum">
              <a:t>9</a:t>
            </a:fld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26T16:12:23Z</dcterms:created>
  <dc:creator>Marcela </dc:creator>
  <dc:description/>
  <dc:language>en-US</dc:language>
  <cp:lastModifiedBy>Marcela </cp:lastModifiedBy>
  <dcterms:modified xsi:type="dcterms:W3CDTF">2004-06-08T22:51:55Z</dcterms:modified>
  <cp:revision>29</cp:revision>
  <dc:subject/>
  <dc:title>Regulación en Economía de Mercado Ejemplos Prácticos</dc:title>
</cp:coreProperties>
</file>