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4.jpeg" ContentType="image/jpeg"/>
  <Override PartName="/ppt/media/image5.jpeg" ContentType="image/jpeg"/>
  <Override PartName="/ppt/media/image35.png" ContentType="image/png"/>
  <Override PartName="/ppt/media/image10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2.png" ContentType="image/png"/>
  <Override PartName="/ppt/media/image32.png" ContentType="image/png"/>
  <Override PartName="/ppt/media/image11.png" ContentType="image/png"/>
  <Override PartName="/ppt/media/image6.jpeg" ContentType="image/jpeg"/>
  <Override PartName="/ppt/media/image18.png" ContentType="image/png"/>
  <Override PartName="/ppt/media/image20.png" ContentType="image/png"/>
  <Override PartName="/ppt/media/image25.png" ContentType="image/png"/>
  <Override PartName="/ppt/media/image2.gif" ContentType="image/gif"/>
  <Override PartName="/ppt/media/image7.jpeg" ContentType="image/jpe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DADC-2929-41A0-B31D-CDCC9128F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1E6-1AD6-4078-A5AD-56ED5010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2746-0FA1-440D-89AA-A1CDC48C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0468-3465-45EE-A5E2-BAC2DBD11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B96C-F23B-438D-8672-065E3F222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124A2-015C-4A75-B20C-B999B302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71A-D35F-4D09-AF2A-38676AF86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0283-D252-4F37-A033-294C453E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18F7-D644-43B9-83FA-6E864A5B0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22645-DF66-48C5-A7C0-4938FAB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C9894-8E64-49B5-B118-87C3F75E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B2AC-8D86-44F0-BF02-51A712B46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D353-B82B-41BF-8F18-B688F2510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D624E-C3F9-4E4D-80AB-DD64AF700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267A-A763-4CC5-ABEB-5700F617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4F72F-F748-468E-A64A-F934BC8A6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7E4D8-149C-4AB4-81A8-85F39B64D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F2C-DBAF-4AC1-B05C-F742683FE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068-0764-4A55-99CF-C9FC7F7C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12D0-0AD9-4170-8643-7D302EC95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9E8A8-DD03-4F5A-A9B2-EAA325A58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DDE6-AD3F-414F-A2A4-218D89D5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4CAF-4DEE-40E3-913F-947D4D6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848D-C061-420A-9978-E8CCDDD1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307D-B9F9-450A-9DB6-C8E735E6801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A9449-1944-41AE-AF1D-CE2CFE90D3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image" Target="../media/image29.png"/><Relationship Id="rId15" Type="http://schemas.openxmlformats.org/officeDocument/2006/relationships/image" Target="../media/image30.png"/><Relationship Id="rId16" Type="http://schemas.openxmlformats.org/officeDocument/2006/relationships/image" Target="../media/image31.png"/><Relationship Id="rId17" Type="http://schemas.openxmlformats.org/officeDocument/2006/relationships/image" Target="../media/image32.png"/><Relationship Id="rId18" Type="http://schemas.openxmlformats.org/officeDocument/2006/relationships/image" Target="../media/image33.png"/><Relationship Id="rId19" Type="http://schemas.openxmlformats.org/officeDocument/2006/relationships/image" Target="../media/image34.png"/><Relationship Id="rId20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47920" y="2679480"/>
            <a:ext cx="73152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egulación en Economía de Mercado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Ejemplos Práctic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3048120" y="4114800"/>
            <a:ext cx="5729040" cy="18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Jorge Claro 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21571-8F51-4D15-8D8E-308D0AB40D75}" type="slidenum">
              <a:t>1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SUDAMERICA" descr=""/>
          <p:cNvPicPr/>
          <p:nvPr/>
        </p:nvPicPr>
        <p:blipFill>
          <a:blip r:embed="rId1"/>
          <a:stretch/>
        </p:blipFill>
        <p:spPr>
          <a:xfrm>
            <a:off x="2251080" y="111240"/>
            <a:ext cx="5064120" cy="6670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27B1-B6ED-4A67-B5B5-D262589DB7E7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Africa1" descr=""/>
          <p:cNvPicPr/>
          <p:nvPr/>
        </p:nvPicPr>
        <p:blipFill>
          <a:blip r:embed="rId1"/>
          <a:stretch/>
        </p:blipFill>
        <p:spPr>
          <a:xfrm>
            <a:off x="1973160" y="152280"/>
            <a:ext cx="5494320" cy="6616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7851-40CB-4549-AEE3-4AA47A25A739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2668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L ROL DEL ESTADO EN UNA ECONOMÍA DE MERCADO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 MODERNA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Mejorar la Eficiencia Económic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Asignación de Recurs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Eliminación de las “Fallas del Mercado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Competencia Imperfecta y los monopolios natur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s Externalidades Negativ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Información Imperfec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000" spc="-1" strike="noStrike">
                <a:solidFill>
                  <a:srgbClr val="ffffff"/>
                </a:solidFill>
                <a:latin typeface="Arial"/>
              </a:rPr>
              <a:t>En la provisión de Bienes Públic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Igualación de Oportunidades ante la Vid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SzPct val="1398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Estabilizar la Economía mediante las política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Macroeconómicas (Monetaria y Fisc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398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n 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la Gestión de la Política Económica Internacional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(Tratados de Libre Comercio y su defensa ante el proteccionismo de los socios comercial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27D-6C77-4CA9-B3CB-149170B0011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Modernización del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 continuación se describe un caso de aplicación de una Analogía entre la organización de un Estado Moderno y la Organización del Fútbol Profesional Moder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DFC6-A90D-4F58-AEF2-BE2D81FC1631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iagnóstic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Problemas por cambios recientes que han disminuido los costos de transacción para ver fútbol y la consiguiente globalización de la ac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nos tiempo disponible para adaptarse a los cambios del merca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8907-9F8C-4493-BF2D-673082F83A6B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07760"/>
            <a:ext cx="77724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¿Por qué elegimos la organización del Fútbol como caso aplicado?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el deporte más practicado y el espectáculo más pop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la TV el fútbol se ha globalizado y masificado, además la TV ha generado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uantios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recursos los que todavía no llegan en forma justa a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ste una percepción generalizada de mala organización de la activ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y 2 proyectos de ley para solucionar problemas de esta actividad priv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40B7-3099-4AD9-B28C-A477B49BFCC3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ección libre de los gobernantes por una mayoría inform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l Estad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No discrimina, representa a todos, respeta las minorías y protege a los más débiles, alternancia del poder, garantiza un Estado de Derech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3 Poderes autónomos e independie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jecutivo, Legislativo y Judi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F40A-330C-46F3-9C28-B834154BEAD4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Principios Básicos de la Organización del Estado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Económicamen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Funciona la Economía de Merc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sector privado produce bienes y servicios en competencia, respetando el derecho de propiedad con un estado relativamente subsidi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mple un rol definido en la Constitución para </a:t>
            </a:r>
            <a:r>
              <a:rPr b="0" lang="es-CL" sz="3200" spc="-1" strike="noStrike" u="sng">
                <a:solidFill>
                  <a:srgbClr val="ffffff"/>
                </a:solidFill>
                <a:uFillTx/>
                <a:latin typeface="Arial"/>
              </a:rPr>
              <a:t>PERFECCIONAR LA ACCIÓN DEL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5351-811E-4D0D-957B-19717D42A497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1162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cc00"/>
                </a:solidFill>
                <a:latin typeface="Arial Black"/>
              </a:rPr>
              <a:t>Principios que Deben Guiar la Acción de la ANFP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La acción de los Clubes se basará en la aplicación de los Principios de una Economía de Merc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Sector Privado: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on un Estado: ANF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70D-230A-4B7B-BD9F-5E23A6E616AB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Acciones de la ANFP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 de la organiz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mplementar un sistema tributario eficiente, proveer bienes y servicios públicos, eliminar las fallas del mercado (competencia e información imperfect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Igualar oportunidad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mover, facilitar y difundir el fútb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4AE6-74EB-48BF-AF7E-6C3EE70B8E4A}" type="slidenum">
              <a:t>19</a:t>
            </a:fld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94920" y="3504960"/>
            <a:ext cx="63248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ato: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uimos pobres hasta 1800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762120"/>
            <a:ext cx="5715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¿ Funciona la Economía de Mercado 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8D0A-2949-4770-803D-76F50E4A4D28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federaciones de Fútbol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367" name="AFC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8" name="CAF" descr=""/>
          <p:cNvPicPr/>
          <p:nvPr/>
        </p:nvPicPr>
        <p:blipFill>
          <a:blip r:embed="rId2"/>
          <a:stretch/>
        </p:blipFill>
        <p:spPr>
          <a:xfrm>
            <a:off x="3733920" y="2057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69" name="CONCACAF" descr=""/>
          <p:cNvPicPr/>
          <p:nvPr/>
        </p:nvPicPr>
        <p:blipFill>
          <a:blip r:embed="rId3"/>
          <a:stretch/>
        </p:blipFill>
        <p:spPr>
          <a:xfrm>
            <a:off x="5867280" y="2057400"/>
            <a:ext cx="1646280" cy="1646280"/>
          </a:xfrm>
          <a:prstGeom prst="rect">
            <a:avLst/>
          </a:prstGeom>
          <a:ln w="9360">
            <a:solidFill>
              <a:srgbClr val="808080"/>
            </a:solidFill>
            <a:miter/>
          </a:ln>
        </p:spPr>
      </p:pic>
      <p:pic>
        <p:nvPicPr>
          <p:cNvPr id="370" name="CONMEBOL" descr=""/>
          <p:cNvPicPr/>
          <p:nvPr/>
        </p:nvPicPr>
        <p:blipFill>
          <a:blip r:embed="rId4"/>
          <a:stretch/>
        </p:blipFill>
        <p:spPr>
          <a:xfrm>
            <a:off x="1447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1" name="OFC" descr=""/>
          <p:cNvPicPr/>
          <p:nvPr/>
        </p:nvPicPr>
        <p:blipFill>
          <a:blip r:embed="rId5"/>
          <a:stretch/>
        </p:blipFill>
        <p:spPr>
          <a:xfrm>
            <a:off x="3733920" y="4343400"/>
            <a:ext cx="1646280" cy="1646280"/>
          </a:xfrm>
          <a:prstGeom prst="rect">
            <a:avLst/>
          </a:prstGeom>
          <a:ln w="0">
            <a:noFill/>
          </a:ln>
        </p:spPr>
      </p:pic>
      <p:pic>
        <p:nvPicPr>
          <p:cNvPr id="372" name="UEFA" descr=""/>
          <p:cNvPicPr/>
          <p:nvPr/>
        </p:nvPicPr>
        <p:blipFill>
          <a:blip r:embed="rId6"/>
          <a:stretch/>
        </p:blipFill>
        <p:spPr>
          <a:xfrm>
            <a:off x="5867280" y="4343400"/>
            <a:ext cx="1646280" cy="1646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517-7D62-4FFA-AE45-F3D1CE2BA3F8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onfederacion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Organizan la actividad  y los Torneos a nivel Reg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alta de transparencia en la venta de los derechos de transmisión (Traffic y TyC) se ha prestado a un probable aumento de la corrupción   que ha impedido que los recursos lleguen a los que generan el Espectácu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313B-2F29-4E47-B6E3-329BAF5AA925}" type="slidenum">
              <a:t>21</a:t>
            </a:fld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Federaciones Nacional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981080" y="1828800"/>
            <a:ext cx="2571840" cy="2190600"/>
            <a:chOff x="1981080" y="1828800"/>
            <a:chExt cx="2571840" cy="2190600"/>
          </a:xfrm>
        </p:grpSpPr>
        <p:grpSp>
          <p:nvGrpSpPr>
            <p:cNvPr id="377" name=""/>
            <p:cNvGrpSpPr/>
            <p:nvPr/>
          </p:nvGrpSpPr>
          <p:grpSpPr>
            <a:xfrm>
              <a:off x="1981080" y="1828800"/>
              <a:ext cx="2571840" cy="1047600"/>
              <a:chOff x="1981080" y="1828800"/>
              <a:chExt cx="2571840" cy="1047600"/>
            </a:xfrm>
          </p:grpSpPr>
          <p:pic>
            <p:nvPicPr>
              <p:cNvPr id="378" name="logo_cgo" descr=""/>
              <p:cNvPicPr/>
              <p:nvPr/>
            </p:nvPicPr>
            <p:blipFill>
              <a:blip r:embed="rId1"/>
              <a:stretch/>
            </p:blipFill>
            <p:spPr>
              <a:xfrm>
                <a:off x="1981080" y="1905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79" name="logo_chn" descr=""/>
              <p:cNvPicPr/>
              <p:nvPr/>
            </p:nvPicPr>
            <p:blipFill>
              <a:blip r:embed="rId2"/>
              <a:stretch/>
            </p:blipFill>
            <p:spPr>
              <a:xfrm>
                <a:off x="3581280" y="1828800"/>
                <a:ext cx="971640" cy="9716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380" name="logo_ita" descr=""/>
            <p:cNvPicPr/>
            <p:nvPr/>
          </p:nvPicPr>
          <p:blipFill>
            <a:blip r:embed="rId3"/>
            <a:stretch/>
          </p:blipFill>
          <p:spPr>
            <a:xfrm>
              <a:off x="2819520" y="3048120"/>
              <a:ext cx="971280" cy="97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1" name=""/>
          <p:cNvGrpSpPr/>
          <p:nvPr/>
        </p:nvGrpSpPr>
        <p:grpSpPr>
          <a:xfrm>
            <a:off x="914400" y="3048120"/>
            <a:ext cx="3257640" cy="3333600"/>
            <a:chOff x="914400" y="3048120"/>
            <a:chExt cx="3257640" cy="3333600"/>
          </a:xfrm>
        </p:grpSpPr>
        <p:pic>
          <p:nvPicPr>
            <p:cNvPr id="382" name="logo_arg" descr=""/>
            <p:cNvPicPr/>
            <p:nvPr/>
          </p:nvPicPr>
          <p:blipFill>
            <a:blip r:embed="rId4"/>
            <a:stretch/>
          </p:blipFill>
          <p:spPr>
            <a:xfrm>
              <a:off x="1752480" y="4114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83" name=""/>
            <p:cNvGrpSpPr/>
            <p:nvPr/>
          </p:nvGrpSpPr>
          <p:grpSpPr>
            <a:xfrm>
              <a:off x="914400" y="3048120"/>
              <a:ext cx="3257640" cy="3333600"/>
              <a:chOff x="914400" y="3048120"/>
              <a:chExt cx="3257640" cy="3333600"/>
            </a:xfrm>
          </p:grpSpPr>
          <p:pic>
            <p:nvPicPr>
              <p:cNvPr id="384" name="logo_esp" descr=""/>
              <p:cNvPicPr/>
              <p:nvPr/>
            </p:nvPicPr>
            <p:blipFill>
              <a:blip r:embed="rId5"/>
              <a:stretch/>
            </p:blipFill>
            <p:spPr>
              <a:xfrm>
                <a:off x="1371600" y="3048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5" name="logo_ger" descr=""/>
              <p:cNvPicPr/>
              <p:nvPr/>
            </p:nvPicPr>
            <p:blipFill>
              <a:blip r:embed="rId6"/>
              <a:stretch/>
            </p:blipFill>
            <p:spPr>
              <a:xfrm>
                <a:off x="3200400" y="4191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6" name="logo_pal" descr=""/>
              <p:cNvPicPr/>
              <p:nvPr/>
            </p:nvPicPr>
            <p:blipFill>
              <a:blip r:embed="rId7"/>
              <a:stretch/>
            </p:blipFill>
            <p:spPr>
              <a:xfrm>
                <a:off x="914400" y="5334120"/>
                <a:ext cx="971640" cy="9712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7" name="logo_rus" descr=""/>
              <p:cNvPicPr/>
              <p:nvPr/>
            </p:nvPicPr>
            <p:blipFill>
              <a:blip r:embed="rId8"/>
              <a:stretch/>
            </p:blipFill>
            <p:spPr>
              <a:xfrm>
                <a:off x="2590920" y="5410080"/>
                <a:ext cx="971280" cy="971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388" name=""/>
          <p:cNvGrpSpPr/>
          <p:nvPr/>
        </p:nvGrpSpPr>
        <p:grpSpPr>
          <a:xfrm>
            <a:off x="4114800" y="2895480"/>
            <a:ext cx="2647800" cy="2343240"/>
            <a:chOff x="4114800" y="2895480"/>
            <a:chExt cx="2647800" cy="2343240"/>
          </a:xfrm>
        </p:grpSpPr>
        <p:pic>
          <p:nvPicPr>
            <p:cNvPr id="389" name="logo_chi" descr=""/>
            <p:cNvPicPr/>
            <p:nvPr/>
          </p:nvPicPr>
          <p:blipFill>
            <a:blip r:embed="rId9"/>
            <a:stretch/>
          </p:blipFill>
          <p:spPr>
            <a:xfrm>
              <a:off x="4114800" y="2895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logo_jpn" descr=""/>
            <p:cNvPicPr/>
            <p:nvPr/>
          </p:nvPicPr>
          <p:blipFill>
            <a:blip r:embed="rId10"/>
            <a:stretch/>
          </p:blipFill>
          <p:spPr>
            <a:xfrm>
              <a:off x="4419720" y="4114800"/>
              <a:ext cx="97128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1" name="logo_mex" descr=""/>
            <p:cNvPicPr/>
            <p:nvPr/>
          </p:nvPicPr>
          <p:blipFill>
            <a:blip r:embed="rId11"/>
            <a:stretch/>
          </p:blipFill>
          <p:spPr>
            <a:xfrm>
              <a:off x="5638680" y="297180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logo_uru" descr=""/>
            <p:cNvPicPr/>
            <p:nvPr/>
          </p:nvPicPr>
          <p:blipFill>
            <a:blip r:embed="rId12"/>
            <a:stretch/>
          </p:blipFill>
          <p:spPr>
            <a:xfrm>
              <a:off x="5791320" y="4267080"/>
              <a:ext cx="97128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3" name=""/>
          <p:cNvGrpSpPr/>
          <p:nvPr/>
        </p:nvGrpSpPr>
        <p:grpSpPr>
          <a:xfrm>
            <a:off x="4267080" y="4038480"/>
            <a:ext cx="4248360" cy="2343240"/>
            <a:chOff x="4267080" y="4038480"/>
            <a:chExt cx="4248360" cy="2343240"/>
          </a:xfrm>
        </p:grpSpPr>
        <p:pic>
          <p:nvPicPr>
            <p:cNvPr id="394" name="logo_nig" descr=""/>
            <p:cNvPicPr/>
            <p:nvPr/>
          </p:nvPicPr>
          <p:blipFill>
            <a:blip r:embed="rId13"/>
            <a:stretch/>
          </p:blipFill>
          <p:spPr>
            <a:xfrm>
              <a:off x="7238880" y="40384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5" name="logo_sui" descr=""/>
            <p:cNvPicPr/>
            <p:nvPr/>
          </p:nvPicPr>
          <p:blipFill>
            <a:blip r:embed="rId14"/>
            <a:stretch/>
          </p:blipFill>
          <p:spPr>
            <a:xfrm>
              <a:off x="426708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logo_swe" descr=""/>
            <p:cNvPicPr/>
            <p:nvPr/>
          </p:nvPicPr>
          <p:blipFill>
            <a:blip r:embed="rId15"/>
            <a:stretch/>
          </p:blipFill>
          <p:spPr>
            <a:xfrm>
              <a:off x="6248520" y="5410080"/>
              <a:ext cx="617400" cy="9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7" name="logo_usa" descr=""/>
            <p:cNvPicPr/>
            <p:nvPr/>
          </p:nvPicPr>
          <p:blipFill>
            <a:blip r:embed="rId16"/>
            <a:stretch/>
          </p:blipFill>
          <p:spPr>
            <a:xfrm>
              <a:off x="7543800" y="5410080"/>
              <a:ext cx="971640" cy="97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8" name=""/>
          <p:cNvGrpSpPr/>
          <p:nvPr/>
        </p:nvGrpSpPr>
        <p:grpSpPr>
          <a:xfrm>
            <a:off x="5181480" y="1905120"/>
            <a:ext cx="3105360" cy="2114280"/>
            <a:chOff x="5181480" y="1905120"/>
            <a:chExt cx="3105360" cy="2114280"/>
          </a:xfrm>
        </p:grpSpPr>
        <p:pic>
          <p:nvPicPr>
            <p:cNvPr id="399" name="logo_eng" descr=""/>
            <p:cNvPicPr/>
            <p:nvPr/>
          </p:nvPicPr>
          <p:blipFill>
            <a:blip r:embed="rId17"/>
            <a:stretch/>
          </p:blipFill>
          <p:spPr>
            <a:xfrm>
              <a:off x="662940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" name="logo_cro" descr=""/>
            <p:cNvPicPr/>
            <p:nvPr/>
          </p:nvPicPr>
          <p:blipFill>
            <a:blip r:embed="rId18"/>
            <a:stretch/>
          </p:blipFill>
          <p:spPr>
            <a:xfrm>
              <a:off x="5181480" y="1905120"/>
              <a:ext cx="971640" cy="97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" name="logo_zim" descr=""/>
            <p:cNvPicPr/>
            <p:nvPr/>
          </p:nvPicPr>
          <p:blipFill>
            <a:blip r:embed="rId19"/>
            <a:stretch/>
          </p:blipFill>
          <p:spPr>
            <a:xfrm>
              <a:off x="7315200" y="3048120"/>
              <a:ext cx="971640" cy="971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3F38-E694-4C05-8304-D8C5765B0338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Roles de las Organizac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Federaciones (Estad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n la actividad nacional (torne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n la actividad de las Selecciones 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presenta al país frente a la Confederacían y FI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pera según Estatutos (Constitución) y Reglamentos (Ley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lubes Depor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pel análogo a las empresas privadas (sólo que la mayoría 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no tiene dueñ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ción espontanea, sin principios ni objetivos cla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5416-4C5C-4A3F-8FC4-35E41C392DED}" type="slidenum">
              <a:t>23</a:t>
            </a:fld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Nueva 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Organizar al fútbol de una forma análoga a la de un Estado Democrático y de Derecho moderno en el que se aplica un modelo de Economía de Mercado en la asignación de recursos para competir por el creciente tiempo libre de las person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EF90-245B-492D-89D2-166DD2D04622}" type="slidenum">
              <a:t>24</a:t>
            </a:fld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rganización Propuesta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CONSTITUYEN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sejo de Presidentes el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ido por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EJECU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esidente de la ANFP elegido por el Consejo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istros: Resto del Directo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LEGISLATIV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nadores: Responsables de Legislar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iputados: Responsables de la Fiscalización. Elegidos por el Consejo entre personas idón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DER JUDICI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uerpo de Árbitros: Elegidos por el Consej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ibunales : De Honor y de Disciplina (ídem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12DD-C002-427D-B572-D2BE2FB8927E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ejorar la Eficiencia Econó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vitar gastos excesivos o compromisos de recursos inexistentes, recurriendo a 2 tipos de impuestos y subsid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único y parejo a los ingresos generados por los clubes mediante contratos de T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 impuesto a la inversión excesiva en planteles de jugadores (c/r a la inversión promedio de la liga) y su devolución, mediante subsidios, a los que – superando un mínimo de rendimiento – invirtieron menos que la 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BF77-2B54-4056-AE4B-6FBB08502D5E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- Competitividad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Gary Becker (premio Nobel de economía) sugiere este sistema, el qu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ye las diferencias deportiv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menta el atractivo del torneo (mediante el aumento racional y calculado de la incertidumbr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ncentiva la formación y contratación de jugadores nacionales jóv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854A-654C-478A-A357-EC1C559BC2FD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9132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Control de Gast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Anualmente el Ejecutivo deberá proponer al Nuevo “Poder Legislativo” una Ley de Presupuestos que definirá en Qué y Cuánto puede gastar el Estado (la ANFP) para financiar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rbitrajes, funciones administrativas generales, el costo de las selecciones y la difusión nacional e internacion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BB08-0129-4AFF-B3CB-54E36C43EF7A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35316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Distribución de Ingresos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ingresos por borderó y por televisación de partidos deben pertenecer al equipo loc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isminuir el número de equipos jugando con MENOS equipos (12 en tot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acer 2 torneos anuales de 2 ruedas cada uno con partidos de ida y vuelta =&gt; 44 partidos al año por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o anterior implica jugar del orden de 6 partidos “atractivos” como local para cada equip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para los Torneos Nacionales una calidad menos dispareja entre los equip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1428-B972-4BAA-BE66-88E2F0E2CC09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261240" y="838080"/>
            <a:ext cx="33408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ducto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m US $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3960" y="571176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760400" y="1676520"/>
            <a:ext cx="0" cy="349704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709640" y="51735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09640" y="48276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09640" y="44816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09640" y="41227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09640" y="37767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09640" y="34322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09640" y="308628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709640" y="273996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709640" y="239400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09640" y="204804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09640" y="1689120"/>
            <a:ext cx="9072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60400" y="5173560"/>
            <a:ext cx="681696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17604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21826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179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0402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3475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897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4319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4754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1753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5976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0325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45480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687708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7311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3424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816912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8589960" y="5109840"/>
            <a:ext cx="0" cy="11412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754280" y="1849320"/>
            <a:ext cx="6831000" cy="3256200"/>
          </a:xfrm>
          <a:custGeom>
            <a:avLst/>
            <a:gdLst/>
            <a:ahLst/>
            <a:rect l="l" t="t" r="r" b="b"/>
            <a:pathLst>
              <a:path w="4303" h="2051">
                <a:moveTo>
                  <a:pt x="0" y="2050"/>
                </a:moveTo>
                <a:lnTo>
                  <a:pt x="137" y="2050"/>
                </a:lnTo>
                <a:lnTo>
                  <a:pt x="266" y="2050"/>
                </a:lnTo>
                <a:lnTo>
                  <a:pt x="403" y="2050"/>
                </a:lnTo>
                <a:lnTo>
                  <a:pt x="540" y="2042"/>
                </a:lnTo>
                <a:lnTo>
                  <a:pt x="677" y="2042"/>
                </a:lnTo>
                <a:lnTo>
                  <a:pt x="806" y="2042"/>
                </a:lnTo>
                <a:lnTo>
                  <a:pt x="943" y="2042"/>
                </a:lnTo>
                <a:lnTo>
                  <a:pt x="1080" y="2033"/>
                </a:lnTo>
                <a:lnTo>
                  <a:pt x="1209" y="2025"/>
                </a:lnTo>
                <a:lnTo>
                  <a:pt x="1346" y="2009"/>
                </a:lnTo>
                <a:lnTo>
                  <a:pt x="1483" y="2001"/>
                </a:lnTo>
                <a:lnTo>
                  <a:pt x="1612" y="2009"/>
                </a:lnTo>
                <a:lnTo>
                  <a:pt x="1749" y="1993"/>
                </a:lnTo>
                <a:lnTo>
                  <a:pt x="1886" y="2009"/>
                </a:lnTo>
                <a:lnTo>
                  <a:pt x="2014" y="1993"/>
                </a:lnTo>
                <a:lnTo>
                  <a:pt x="2151" y="1969"/>
                </a:lnTo>
                <a:lnTo>
                  <a:pt x="2288" y="1985"/>
                </a:lnTo>
                <a:lnTo>
                  <a:pt x="2417" y="1961"/>
                </a:lnTo>
                <a:lnTo>
                  <a:pt x="2554" y="1953"/>
                </a:lnTo>
                <a:lnTo>
                  <a:pt x="2691" y="1912"/>
                </a:lnTo>
                <a:lnTo>
                  <a:pt x="2820" y="1791"/>
                </a:lnTo>
                <a:lnTo>
                  <a:pt x="2957" y="1719"/>
                </a:lnTo>
                <a:lnTo>
                  <a:pt x="3094" y="1678"/>
                </a:lnTo>
                <a:lnTo>
                  <a:pt x="3223" y="1638"/>
                </a:lnTo>
                <a:lnTo>
                  <a:pt x="3360" y="1590"/>
                </a:lnTo>
                <a:lnTo>
                  <a:pt x="3497" y="1469"/>
                </a:lnTo>
                <a:lnTo>
                  <a:pt x="3634" y="1332"/>
                </a:lnTo>
                <a:lnTo>
                  <a:pt x="3763" y="1138"/>
                </a:lnTo>
                <a:lnTo>
                  <a:pt x="3900" y="944"/>
                </a:lnTo>
                <a:lnTo>
                  <a:pt x="4037" y="694"/>
                </a:lnTo>
                <a:lnTo>
                  <a:pt x="4166" y="379"/>
                </a:lnTo>
                <a:lnTo>
                  <a:pt x="430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998640" y="1562040"/>
            <a:ext cx="7822440" cy="4011480"/>
            <a:chOff x="998640" y="1562040"/>
            <a:chExt cx="7822440" cy="4011480"/>
          </a:xfrm>
        </p:grpSpPr>
        <p:sp>
          <p:nvSpPr>
            <p:cNvPr id="179" name=""/>
            <p:cNvSpPr/>
            <p:nvPr/>
          </p:nvSpPr>
          <p:spPr>
            <a:xfrm>
              <a:off x="1359720" y="50468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79360" y="470052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089720" y="435456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9720" y="400860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998640" y="3662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998640" y="3328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11240" y="29462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98640" y="260028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998640" y="226692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998640" y="192096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35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998640" y="1562040"/>
              <a:ext cx="615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20360" y="53020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94112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36340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98280" y="5302080"/>
              <a:ext cx="4420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77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99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2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204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3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455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4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776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6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9992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7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480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8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157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793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2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014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4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43508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6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996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92240" y="5302080"/>
              <a:ext cx="52884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Genev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3948840" y="2708280"/>
            <a:ext cx="2835360" cy="1940040"/>
            <a:chOff x="3948840" y="2708280"/>
            <a:chExt cx="2835360" cy="1940040"/>
          </a:xfrm>
        </p:grpSpPr>
        <p:sp>
          <p:nvSpPr>
            <p:cNvPr id="208" name=""/>
            <p:cNvSpPr/>
            <p:nvPr/>
          </p:nvSpPr>
          <p:spPr>
            <a:xfrm>
              <a:off x="3948840" y="270828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320040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9283-8143-4C50-A62A-51857733D7D3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40608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1800" spc="-1" strike="noStrike">
                <a:solidFill>
                  <a:srgbClr val="ffcc00"/>
                </a:solidFill>
                <a:latin typeface="Arial Black"/>
              </a:rPr>
              <a:t>(Eficiencia Económica – Estructura Regional Competitiva)</a:t>
            </a:r>
            <a:endParaRPr b="0" lang="en-US" sz="1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gionalizar los equipos (12 concesion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Reemplazar la 1ªB por campeonatos regionales de tipo Amateur para reemplazar al </a:t>
            </a:r>
            <a:r>
              <a:rPr b="0" lang="es-CL" sz="2800" spc="-1" strike="noStrike" u="sng">
                <a:solidFill>
                  <a:srgbClr val="ffffff"/>
                </a:solidFill>
                <a:uFillTx/>
                <a:latin typeface="Arial"/>
              </a:rPr>
              <a:t>club regional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que desci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8" name=""/>
          <p:cNvGraphicFramePr/>
          <p:nvPr/>
        </p:nvGraphicFramePr>
        <p:xfrm>
          <a:off x="1787400" y="2209680"/>
          <a:ext cx="5873760" cy="1987560"/>
        </p:xfrm>
        <a:graphic>
          <a:graphicData uri="http://schemas.openxmlformats.org/drawingml/2006/table">
            <a:tbl>
              <a:tblPr/>
              <a:tblGrid>
                <a:gridCol w="1187280"/>
                <a:gridCol w="990720"/>
                <a:gridCol w="1517760"/>
                <a:gridCol w="1187280"/>
                <a:gridCol w="9907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# Club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g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y 2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ª y 7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y 4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ª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8195-BCCB-46DB-A354-951ED9AE6432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Producto Competitivo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Televisación del Torneo local y las clasificatorias para el mund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oy la ANFP dispone del CDF y ZA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l CDF transmite 4 partidos en directo y 5 en difer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ZAP distribuye en el básico el CDF y su objetivo es maximizar la penetración del CDF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xigir que los derechos televisivos de las competencias internacionales pertenezcan a los clubes del país loc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F921-82D8-4B0A-8F4D-DC782E42B8C2}" type="slidenum">
              <a:t>31</a:t>
            </a:fld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Algunas de las funciones de la ANFP serán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al máximo la calidad del espectácu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sarrollar el marketing integral del fútb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difusión y práctica del fútbol en los coleg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omentar la creación de Colegios Depor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CAA4-ACCA-4EE3-963E-75FF979CB290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Hacer responsables a los clubes del control de la violencia en los estad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m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edir el acceso de los hinchas violentistas a todos los estadios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mediante el uso de tecnologí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entrad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deben ser numeradas y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venderán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o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quienes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que se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identifiquen y asuman la responsabilidad de la localidad adquir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7836-7707-49E6-B80D-FC37114F8B44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4294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br>
              <a:rPr sz="3600"/>
            </a:br>
            <a:r>
              <a:rPr b="0" lang="es-CL" sz="2000" spc="-1" strike="noStrike">
                <a:solidFill>
                  <a:srgbClr val="ffcc00"/>
                </a:solidFill>
                <a:latin typeface="Arial Black"/>
              </a:rPr>
              <a:t>(Eficiencia Económica – Sanciones Violencia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ancionar en puntos y localía a los clubes cuyos hinchas causen desórde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filmación constituirá Plena Prueba para aplicar sanc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a principal sanción será la imposibilidad de ingresar a cualquier estadio de Chile por 6 meses, castigo que se duplicará por cada reincid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Cumplida la pena deberá acreditarse la asistencia a un curso de 4 hrs. sobre normas de comportamiento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468F-2E90-4070-B001-22469BFFB4D0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8372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Organizar los Torneos Nacionales e Internacion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estionar las Selecciones Nacionales sin costos exagerados y superflu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Garantizar el cumplimiento de los contratos y la administración de justicia a clubes, dirigentes y juga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mover el Fútbol deporte – espectácu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0FE-4506-400D-91E7-4F4EDB7E76E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Hacer transparente y eficiente los mercados, la relación entre club, jugador y entrenad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xigir responsabilidad de los Dir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jorar la calidad del espectáculo y erradicar la violencia en los estad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D5A2-4ED1-44C1-A324-E92F2E153797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8600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Proveer Bienes y Servicios Públ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standarizar y difundir información pública detallada del fútbol (financiera, arbitraje, jugadores, clubes y selec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Modificar la existencia del “pase” (naciona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ambiarlo por un crédito, a tasa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Descontable en las 1ª transferencias y remuner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Toda transferencia al extranjero cancela el 100% del sal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9A86-5FB1-408F-A451-8677C39D4462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nerar igualdad de oportunidades entre los clubes de menor convocato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yudar a financiar la formación de jugadores de escasos recursos por parte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romover el rol educacional-formador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la formación de dirigentes de los club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inanciar desarrollo de software de sistemas de gestión para club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F3B3-A95D-4E06-B1A4-DC539618173A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1712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Nuevas Funciones de la ANFP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Representar a Chile Internacionalm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Gestionar a la Selección Nacion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No duplicar la labor de formación de los club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Financiar, mediante fondos concursabl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Becas para la formación de entrenadores jóv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isitas de profesores de entrenadores y profesores de árbitros a dictar seminarios en Ch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7906-70EE-43A1-A99D-2A3ABCC8EB59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46560"/>
            <a:ext cx="7772400" cy="106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nta per capita</a:t>
            </a:r>
            <a:br>
              <a:rPr sz="4400"/>
            </a:br>
            <a:r>
              <a:rPr b="0" lang="en-US" sz="2000" spc="-1" strike="noStrike">
                <a:solidFill>
                  <a:srgbClr val="ffcc00"/>
                </a:solidFill>
                <a:latin typeface="Arial Black"/>
              </a:rPr>
              <a:t>(US$ 1990 en PPP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1" name=""/>
          <p:cNvSpPr/>
          <p:nvPr/>
        </p:nvSpPr>
        <p:spPr>
          <a:xfrm>
            <a:off x="1219320" y="1905120"/>
            <a:ext cx="7340400" cy="3166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68280" y="1917720"/>
            <a:ext cx="423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Añ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19480" y="19177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4200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5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98508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8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058240" y="1917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267920" y="2179800"/>
            <a:ext cx="7110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Mund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6920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84236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1372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4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985440" y="2179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75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82920" y="217980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,188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413360" y="244152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Occiden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6920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3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236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06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13720" y="24415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6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11560" y="24415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,149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65560" y="2441520"/>
            <a:ext cx="84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19,990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02000" y="2709720"/>
            <a:ext cx="6987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792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31080" y="27097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928200" y="27097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69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882560" y="270972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7,456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598480" y="2971800"/>
            <a:ext cx="604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EEUU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8620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95792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31080" y="29718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28200" y="29718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82560" y="297180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2,93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589120" y="3233880"/>
            <a:ext cx="590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Japón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792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3108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102440" y="32338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882560" y="3233880"/>
            <a:ext cx="662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9,72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20560" y="3490920"/>
            <a:ext cx="9975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- El Resto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76920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3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84236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42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1372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32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85440" y="3490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594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882920" y="3490920"/>
            <a:ext cx="721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$2,971 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45800" y="3757680"/>
            <a:ext cx="11772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a Europ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792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3108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9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102440" y="37576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80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99920" y="37576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147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70920" y="4021200"/>
            <a:ext cx="1323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Latin Amé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88620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792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3108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102440" y="40212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7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999920" y="40212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,03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13600" y="4282920"/>
            <a:ext cx="56772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hin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95792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5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3108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102440" y="42829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99920" y="428292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653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166840" y="4545000"/>
            <a:ext cx="100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Otros Asi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88620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95792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3108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25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102440" y="454500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999920" y="454500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2,768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21880" y="4807080"/>
            <a:ext cx="5540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95792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3108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102440" y="48070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999920" y="4807080"/>
            <a:ext cx="54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1,221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5867280"/>
            <a:ext cx="528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uente: A. Maddison, "Monitoring the World Economy" (1995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2EE8-CE92-4314-A320-B1A71249637E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Los principales problemas del Fútbol Chileno se deriva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 cambios recientes que han disminuido los costos de transacción para ver fútbol y la consiguiente globalización de la activ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umento generalizado de la competencia por captar el tiempo libre de los consumid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existencia de responsabilidades de los dirigentes. Una forma de resolverla consiste en aplicar las normas que riguen las sociedades anóni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F2ED-B407-4FEC-A29F-800169C56694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Es necesario modificar la estructura financiera de la ANFP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n realizar gastos no aprob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 se debería gastar más del 10% de los ingresos del Fútbol que ella recauda por cuenta de los club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Aunque los dirigentes actuales son bastante mejores que los anteriores, cometieron el error de aumentar a 20 el número de clubes de 1ª con un Torneo poco atractiv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AB8D-6F05-49F3-A19D-2036FCCCABBF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os y otros problemas fueron diagnosticados en Chile en junio  de 1995. (Ver “Economía y Sociedad” (revista de José Piñera) de julio de 1995: www.claroyasociados.cl/actualidad/papers en el documento “Modernización del Fútbol Chileno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soluciones actuales son las mismas que se propusieron en junio de 199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únicos Responsables de su no aplicación son los dirigentes de la ANFP (desde esa fecha hasta ahor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CC994-76DA-401A-AFB1-9BE0A0DFA878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Conclusion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vía hay tiempo de corregir y refundar esta actividad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, per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o basta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sólo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 crear las Sociedades Anónimas Deportiv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imultáneamente, se debe (al men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sarrollar una completa Modernización de la organización global del Fútbol Chileno 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stablecer - con claridad - el Rol de los Clubes (Empresas Privadas) y de la ANFP (Estado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4360-8D84-4AE3-B959-3A799E830DDF}" type="slidenum">
              <a:t>43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050920" y="47275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050920" y="43308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0920" y="3933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050920" y="3538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0920" y="314172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050920" y="274644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34936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079720" y="2502000"/>
            <a:ext cx="6148440" cy="2550960"/>
          </a:xfrm>
          <a:custGeom>
            <a:avLst/>
            <a:gdLst/>
            <a:ahLst/>
            <a:rect l="l" t="t" r="r" b="b"/>
            <a:pathLst>
              <a:path w="3873" h="1607">
                <a:moveTo>
                  <a:pt x="0" y="1606"/>
                </a:moveTo>
                <a:lnTo>
                  <a:pt x="121" y="1597"/>
                </a:lnTo>
                <a:lnTo>
                  <a:pt x="241" y="1597"/>
                </a:lnTo>
                <a:lnTo>
                  <a:pt x="362" y="1597"/>
                </a:lnTo>
                <a:lnTo>
                  <a:pt x="482" y="1597"/>
                </a:lnTo>
                <a:lnTo>
                  <a:pt x="603" y="1597"/>
                </a:lnTo>
                <a:lnTo>
                  <a:pt x="724" y="1597"/>
                </a:lnTo>
                <a:lnTo>
                  <a:pt x="844" y="1590"/>
                </a:lnTo>
                <a:lnTo>
                  <a:pt x="965" y="1581"/>
                </a:lnTo>
                <a:lnTo>
                  <a:pt x="1092" y="1573"/>
                </a:lnTo>
                <a:lnTo>
                  <a:pt x="1213" y="1556"/>
                </a:lnTo>
                <a:lnTo>
                  <a:pt x="1333" y="1548"/>
                </a:lnTo>
                <a:lnTo>
                  <a:pt x="1454" y="1556"/>
                </a:lnTo>
                <a:lnTo>
                  <a:pt x="1575" y="1539"/>
                </a:lnTo>
                <a:lnTo>
                  <a:pt x="1695" y="1564"/>
                </a:lnTo>
                <a:lnTo>
                  <a:pt x="1816" y="1539"/>
                </a:lnTo>
                <a:lnTo>
                  <a:pt x="1936" y="1515"/>
                </a:lnTo>
                <a:lnTo>
                  <a:pt x="2056" y="1531"/>
                </a:lnTo>
                <a:lnTo>
                  <a:pt x="2177" y="1497"/>
                </a:lnTo>
                <a:lnTo>
                  <a:pt x="2297" y="1490"/>
                </a:lnTo>
                <a:lnTo>
                  <a:pt x="2418" y="1448"/>
                </a:lnTo>
                <a:lnTo>
                  <a:pt x="2539" y="1364"/>
                </a:lnTo>
                <a:lnTo>
                  <a:pt x="2659" y="1264"/>
                </a:lnTo>
                <a:lnTo>
                  <a:pt x="2787" y="1215"/>
                </a:lnTo>
                <a:lnTo>
                  <a:pt x="2907" y="1182"/>
                </a:lnTo>
                <a:lnTo>
                  <a:pt x="3028" y="1131"/>
                </a:lnTo>
                <a:lnTo>
                  <a:pt x="3148" y="1073"/>
                </a:lnTo>
                <a:lnTo>
                  <a:pt x="3269" y="1048"/>
                </a:lnTo>
                <a:lnTo>
                  <a:pt x="3390" y="840"/>
                </a:lnTo>
                <a:lnTo>
                  <a:pt x="3510" y="691"/>
                </a:lnTo>
                <a:lnTo>
                  <a:pt x="3631" y="500"/>
                </a:lnTo>
                <a:lnTo>
                  <a:pt x="3751" y="300"/>
                </a:lnTo>
                <a:lnTo>
                  <a:pt x="3872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2084400" y="2336760"/>
            <a:ext cx="0" cy="278928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506960" y="46069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06960" y="4208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06960" y="3813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3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06960" y="341640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06960" y="30211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5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06960" y="262584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506960" y="22273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7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0920" y="5124600"/>
            <a:ext cx="57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085840" y="5124600"/>
            <a:ext cx="6134400" cy="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V="1">
            <a:off x="2084400" y="5072040"/>
            <a:ext cx="0" cy="92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2468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2851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32338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36162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flipV="1">
            <a:off x="4011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4392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776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V="1">
            <a:off x="5159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5541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59245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630540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67006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708336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746748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784872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8232840" y="5072040"/>
            <a:ext cx="0" cy="92160"/>
          </a:xfrm>
          <a:prstGeom prst="line">
            <a:avLst/>
          </a:prstGeom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77680" y="500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933200" y="5238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3272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61360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2996280" y="5238720"/>
            <a:ext cx="48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246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7184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2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102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3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484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4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8675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6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250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7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6311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8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01524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41052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79320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4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175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76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198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40880" y="5238720"/>
            <a:ext cx="5900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neva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035160" y="973080"/>
            <a:ext cx="34977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oblación Mundi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(millon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84520" y="1792440"/>
            <a:ext cx="1275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bl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660560" y="5638680"/>
            <a:ext cx="5882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a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888360" y="2743200"/>
            <a:ext cx="2835360" cy="1940040"/>
            <a:chOff x="3888360" y="2743200"/>
            <a:chExt cx="2835360" cy="1940040"/>
          </a:xfrm>
        </p:grpSpPr>
        <p:sp>
          <p:nvSpPr>
            <p:cNvPr id="342" name=""/>
            <p:cNvSpPr/>
            <p:nvPr/>
          </p:nvSpPr>
          <p:spPr>
            <a:xfrm>
              <a:off x="3888360" y="2743200"/>
              <a:ext cx="2835360" cy="459720"/>
            </a:xfrm>
            <a:prstGeom prst="rect">
              <a:avLst/>
            </a:prstGeom>
            <a:noFill/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Times New Roman"/>
                </a:rPr>
                <a:t>Revolución Industri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502240" y="3235320"/>
              <a:ext cx="380880" cy="1447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E8F-CA39-47E2-8BF1-E9D4BFC0E30B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600200" y="1600200"/>
            <a:ext cx="5715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Times New Roman"/>
              </a:rPr>
              <a:t>Algunas Luces Sobre las Diferencias del Desarrollo por Continente...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0C979-107F-478B-A18C-5EFC0C219470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NORTEAMERICA1" descr=""/>
          <p:cNvPicPr/>
          <p:nvPr/>
        </p:nvPicPr>
        <p:blipFill>
          <a:blip r:embed="rId1"/>
          <a:stretch/>
        </p:blipFill>
        <p:spPr>
          <a:xfrm>
            <a:off x="1365120" y="193680"/>
            <a:ext cx="6864480" cy="651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C8315-F24C-49F5-903A-13836D6D64E8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uropa1" descr=""/>
          <p:cNvPicPr/>
          <p:nvPr/>
        </p:nvPicPr>
        <p:blipFill>
          <a:blip r:embed="rId1"/>
          <a:stretch/>
        </p:blipFill>
        <p:spPr>
          <a:xfrm>
            <a:off x="1447920" y="160200"/>
            <a:ext cx="7002360" cy="654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0832-A74D-45F8-A069-AA5C2D086C75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Asia%601" descr=""/>
          <p:cNvPicPr/>
          <p:nvPr/>
        </p:nvPicPr>
        <p:blipFill>
          <a:blip r:embed="rId1"/>
          <a:stretch/>
        </p:blipFill>
        <p:spPr>
          <a:xfrm>
            <a:off x="990720" y="212760"/>
            <a:ext cx="8043840" cy="6416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482C-2A93-4F31-A897-4D51EEA903D5}" type="slidenum">
              <a:t>9</a:t>
            </a:fld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6T16:12:23Z</dcterms:created>
  <dc:creator>Marcela </dc:creator>
  <dc:description/>
  <dc:language>en-US</dc:language>
  <cp:lastModifiedBy>Marcela </cp:lastModifiedBy>
  <dcterms:modified xsi:type="dcterms:W3CDTF">2004-06-08T22:51:55Z</dcterms:modified>
  <cp:revision>29</cp:revision>
  <dc:subject/>
  <dc:title>Regulación en Economía de Mercado Ejemplos Prácticos</dc:title>
</cp:coreProperties>
</file>