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5.jpeg" ContentType="image/jpeg"/>
  <Override PartName="/ppt/media/image35.png" ContentType="image/pn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2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2.gif" ContentType="image/gif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A8C-275A-4C0D-8DBA-FEF1E1EB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251-90C7-45C7-8E72-A2C4528D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854-C532-427F-BE40-DC175F51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5C5-9E37-4992-9DA2-76B0461D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F958-5013-4A08-87B7-4EC51060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E6F8-CB07-4C51-AFBE-6D2B4156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F6AD-BAF4-48E4-981F-3FE24E3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1E8C-7C64-463F-AFE4-1C9BE34A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495F-7ACD-425B-A9C3-714204F8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F3FB-4EF1-4FE0-96B2-F7F06982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FDCD-A954-42CE-9414-DD0F4988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620-70C6-49A4-A3B4-7F9A5975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195A-E68F-4E5C-984C-186862B0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AFEE-B575-476C-AC1A-C797ADAC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FBDE-0281-4B19-9873-F9A518B3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FAD7-82BE-4F60-A7FC-F2446BD7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BF57-FD8C-4C93-B801-A6933EFD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18D-0EB8-4629-9797-219DCBDD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59D-6FC6-41BC-8F5F-0E3ED1CF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FAE-B411-4038-8EB2-21C7DA9A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FA6-28FA-400F-9E5F-3BDC7D66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EFB-9774-45EF-8FA6-A02BD7D3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70A-E40B-4524-81FE-38A0A0B9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AD9-B306-4343-9615-0FD80B8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D50-F188-4A26-8B00-4490DCA935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DB6A-80C1-4E89-802F-C02F378922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679480"/>
            <a:ext cx="73152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gulación en Economía de Mercado</a:t>
            </a: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jemplos Prácti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8120" y="4114800"/>
            <a:ext cx="5729040" cy="18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Jorge Claro 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2D95-1469-4969-B3BF-61FB38713230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SUDAMERICA" descr=""/>
          <p:cNvPicPr/>
          <p:nvPr/>
        </p:nvPicPr>
        <p:blipFill>
          <a:blip r:embed="rId1"/>
          <a:stretch/>
        </p:blipFill>
        <p:spPr>
          <a:xfrm>
            <a:off x="2251080" y="111240"/>
            <a:ext cx="5064120" cy="667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FF1-A45A-4261-9B76-95799EFF6C04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Africa1" descr=""/>
          <p:cNvPicPr/>
          <p:nvPr/>
        </p:nvPicPr>
        <p:blipFill>
          <a:blip r:embed="rId1"/>
          <a:stretch/>
        </p:blipFill>
        <p:spPr>
          <a:xfrm>
            <a:off x="1973160" y="152280"/>
            <a:ext cx="5494320" cy="661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C31-6C9E-4C8F-A696-98E7CB71C8F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EL ROL DEL ESTADO EN UNA ECONOMÍA DE MERCADO</a:t>
            </a: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 MODER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Eficiencia Económ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Asignación de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Eliminación de las “Fallas del Mercad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Competencia Imperfecta y los monopolios na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Externalidades Nega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formación Imperf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provisión de Bien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Igualación de Oportunidades ante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bilizar la Economía mediante las polític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croeconómicas (Monetaria y Fisc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Gestión de la Política Económica Internac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Tratados de Libre Comercio y su defensa ante el proteccionismo de los socios comerci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838-5C17-4498-8AAB-03F4942C5695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rnización del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 continuación se describe un caso de aplicación de una Analogía entre la organización de un Estado Moderno y la Organización del Fútbol Profesional Mode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22B-D2E8-4825-9116-BF5BB9A575C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Diag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 por cambios recientes que han disminuido los costos de transacción para ver fútbol y la consiguiente globalización de la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nos tiempo disponible para adaptarse a los cambios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2AC-6FFC-49F1-9EAC-D4648FD4022E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¿Por qué elegimos la organización del Fútbol como caso aplicado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el deporte más practicado y el espectáculo más 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la TV el fútbol se ha globalizado y masificado, además la TV ha generado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uantios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recursos los que todavía no llegan en forma justa a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 una percepción generalizada de mala organización de la ac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2 proyectos de ley para solucionar problemas de esta actividad 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0A2-AF0A-419A-BA11-8116ADDC85E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ección libre de los gobernantes por una mayoría inform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discrimina, representa a todos, respeta las minorías y protege a los más débiles, alternancia del poder, garantiza un Estado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3 Poderes autónomos e independ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jecutivo, Legislativo y Jud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C89-9D62-4148-8605-E65F2868D8EE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conómicam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ona la Economía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sector privado produce bienes y servicios en competencia, respetando el derecho de propiedad con un estado relativamente subsi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mple un rol definido en la Constitución para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PERFECCIONAR LA ACCIÓN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C15-9E3E-4C2D-B25D-23FFDE68F1A1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162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Principios que Deben Guiar la Acción de la ANF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acción de los Clubes se basará en la aplicación de los Principios de una Economía de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Sector Privado: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Estado: AN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527-E28C-4D06-BC70-AFC29B5151D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cciones de la ANFP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 de la organiz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mplementar un sistema tributario eficiente, proveer bienes y servicios públicos, eliminar las fallas del mercado (competencia e información imperfec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gualar oport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mover, facilitar y difundir el fút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582-D685-49F6-9478-2F043F524ECA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6324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to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uimos pobres hasta 180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76212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¿ Funciona la Economía de Mercado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8642-FCB5-4E50-A670-8B9DF7DD34A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federaciones de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AFC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8" name="CAF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9" name="CONCACAF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1646280" cy="1646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0" name="CONMEBOL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1" name="OFC" descr=""/>
          <p:cNvPicPr/>
          <p:nvPr/>
        </p:nvPicPr>
        <p:blipFill>
          <a:blip r:embed="rId5"/>
          <a:stretch/>
        </p:blipFill>
        <p:spPr>
          <a:xfrm>
            <a:off x="3733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2" name="UEFA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1646280" cy="16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F67-9990-447F-A74E-40493EAC3454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feder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n la actividad  y los Torneos a nivel Reg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alta de transparencia en la venta de los derechos de transmisión (Traffic y TyC) se ha prestado a un probable aumento de la corrupción   que ha impedido que los recursos lleguen a los que generan el Espectá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377-59FE-4CEA-89D1-396C1CEA39EF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ederaciones Naciona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81080" y="1828800"/>
            <a:ext cx="2571840" cy="2190600"/>
            <a:chOff x="1981080" y="1828800"/>
            <a:chExt cx="2571840" cy="2190600"/>
          </a:xfrm>
        </p:grpSpPr>
        <p:grpSp>
          <p:nvGrpSpPr>
            <p:cNvPr id="377" name=""/>
            <p:cNvGrpSpPr/>
            <p:nvPr/>
          </p:nvGrpSpPr>
          <p:grpSpPr>
            <a:xfrm>
              <a:off x="1981080" y="1828800"/>
              <a:ext cx="2571840" cy="1047600"/>
              <a:chOff x="1981080" y="1828800"/>
              <a:chExt cx="2571840" cy="1047600"/>
            </a:xfrm>
          </p:grpSpPr>
          <p:pic>
            <p:nvPicPr>
              <p:cNvPr id="378" name="logo_c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1905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logo_chn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1280" y="1828800"/>
                <a:ext cx="971640" cy="97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0" name="logo_ita" descr=""/>
            <p:cNvPicPr/>
            <p:nvPr/>
          </p:nvPicPr>
          <p:blipFill>
            <a:blip r:embed="rId3"/>
            <a:stretch/>
          </p:blipFill>
          <p:spPr>
            <a:xfrm>
              <a:off x="2819520" y="3048120"/>
              <a:ext cx="971280" cy="97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914400" y="3048120"/>
            <a:ext cx="3257640" cy="3333600"/>
            <a:chOff x="914400" y="3048120"/>
            <a:chExt cx="3257640" cy="3333600"/>
          </a:xfrm>
        </p:grpSpPr>
        <p:pic>
          <p:nvPicPr>
            <p:cNvPr id="382" name="logo_arg" descr=""/>
            <p:cNvPicPr/>
            <p:nvPr/>
          </p:nvPicPr>
          <p:blipFill>
            <a:blip r:embed="rId4"/>
            <a:stretch/>
          </p:blipFill>
          <p:spPr>
            <a:xfrm>
              <a:off x="1752480" y="4114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3" name=""/>
            <p:cNvGrpSpPr/>
            <p:nvPr/>
          </p:nvGrpSpPr>
          <p:grpSpPr>
            <a:xfrm>
              <a:off x="914400" y="3048120"/>
              <a:ext cx="3257640" cy="3333600"/>
              <a:chOff x="914400" y="3048120"/>
              <a:chExt cx="3257640" cy="3333600"/>
            </a:xfrm>
          </p:grpSpPr>
          <p:pic>
            <p:nvPicPr>
              <p:cNvPr id="384" name="logo_esp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048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logo_ger" descr=""/>
              <p:cNvPicPr/>
              <p:nvPr/>
            </p:nvPicPr>
            <p:blipFill>
              <a:blip r:embed="rId6"/>
              <a:stretch/>
            </p:blipFill>
            <p:spPr>
              <a:xfrm>
                <a:off x="3200400" y="4191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logo_pal" descr=""/>
              <p:cNvPicPr/>
              <p:nvPr/>
            </p:nvPicPr>
            <p:blipFill>
              <a:blip r:embed="rId7"/>
              <a:stretch/>
            </p:blipFill>
            <p:spPr>
              <a:xfrm>
                <a:off x="914400" y="5334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logo_rus" descr=""/>
              <p:cNvPicPr/>
              <p:nvPr/>
            </p:nvPicPr>
            <p:blipFill>
              <a:blip r:embed="rId8"/>
              <a:stretch/>
            </p:blipFill>
            <p:spPr>
              <a:xfrm>
                <a:off x="2590920" y="5410080"/>
                <a:ext cx="971280" cy="9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8" name=""/>
          <p:cNvGrpSpPr/>
          <p:nvPr/>
        </p:nvGrpSpPr>
        <p:grpSpPr>
          <a:xfrm>
            <a:off x="4114800" y="2895480"/>
            <a:ext cx="2647800" cy="2343240"/>
            <a:chOff x="4114800" y="2895480"/>
            <a:chExt cx="2647800" cy="2343240"/>
          </a:xfrm>
        </p:grpSpPr>
        <p:pic>
          <p:nvPicPr>
            <p:cNvPr id="389" name="logo_chi" descr=""/>
            <p:cNvPicPr/>
            <p:nvPr/>
          </p:nvPicPr>
          <p:blipFill>
            <a:blip r:embed="rId9"/>
            <a:stretch/>
          </p:blipFill>
          <p:spPr>
            <a:xfrm>
              <a:off x="4114800" y="2895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logo_jpn" descr=""/>
            <p:cNvPicPr/>
            <p:nvPr/>
          </p:nvPicPr>
          <p:blipFill>
            <a:blip r:embed="rId10"/>
            <a:stretch/>
          </p:blipFill>
          <p:spPr>
            <a:xfrm>
              <a:off x="4419720" y="4114800"/>
              <a:ext cx="9712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logo_mex" descr=""/>
            <p:cNvPicPr/>
            <p:nvPr/>
          </p:nvPicPr>
          <p:blipFill>
            <a:blip r:embed="rId11"/>
            <a:stretch/>
          </p:blipFill>
          <p:spPr>
            <a:xfrm>
              <a:off x="5638680" y="2971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logo_uru" descr=""/>
            <p:cNvPicPr/>
            <p:nvPr/>
          </p:nvPicPr>
          <p:blipFill>
            <a:blip r:embed="rId12"/>
            <a:stretch/>
          </p:blipFill>
          <p:spPr>
            <a:xfrm>
              <a:off x="5791320" y="4267080"/>
              <a:ext cx="97128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267080" y="4038480"/>
            <a:ext cx="4248360" cy="2343240"/>
            <a:chOff x="4267080" y="4038480"/>
            <a:chExt cx="4248360" cy="2343240"/>
          </a:xfrm>
        </p:grpSpPr>
        <p:pic>
          <p:nvPicPr>
            <p:cNvPr id="394" name="logo_nig" descr=""/>
            <p:cNvPicPr/>
            <p:nvPr/>
          </p:nvPicPr>
          <p:blipFill>
            <a:blip r:embed="rId13"/>
            <a:stretch/>
          </p:blipFill>
          <p:spPr>
            <a:xfrm>
              <a:off x="7238880" y="4038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logo_sui" descr=""/>
            <p:cNvPicPr/>
            <p:nvPr/>
          </p:nvPicPr>
          <p:blipFill>
            <a:blip r:embed="rId14"/>
            <a:stretch/>
          </p:blipFill>
          <p:spPr>
            <a:xfrm>
              <a:off x="426708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logo_swe" descr=""/>
            <p:cNvPicPr/>
            <p:nvPr/>
          </p:nvPicPr>
          <p:blipFill>
            <a:blip r:embed="rId15"/>
            <a:stretch/>
          </p:blipFill>
          <p:spPr>
            <a:xfrm>
              <a:off x="6248520" y="5410080"/>
              <a:ext cx="6174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logo_usa" descr=""/>
            <p:cNvPicPr/>
            <p:nvPr/>
          </p:nvPicPr>
          <p:blipFill>
            <a:blip r:embed="rId16"/>
            <a:stretch/>
          </p:blipFill>
          <p:spPr>
            <a:xfrm>
              <a:off x="754380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5181480" y="1905120"/>
            <a:ext cx="3105360" cy="2114280"/>
            <a:chOff x="5181480" y="1905120"/>
            <a:chExt cx="3105360" cy="2114280"/>
          </a:xfrm>
        </p:grpSpPr>
        <p:pic>
          <p:nvPicPr>
            <p:cNvPr id="399" name="logo_eng" descr=""/>
            <p:cNvPicPr/>
            <p:nvPr/>
          </p:nvPicPr>
          <p:blipFill>
            <a:blip r:embed="rId17"/>
            <a:stretch/>
          </p:blipFill>
          <p:spPr>
            <a:xfrm>
              <a:off x="662940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logo_cro" descr=""/>
            <p:cNvPicPr/>
            <p:nvPr/>
          </p:nvPicPr>
          <p:blipFill>
            <a:blip r:embed="rId18"/>
            <a:stretch/>
          </p:blipFill>
          <p:spPr>
            <a:xfrm>
              <a:off x="518148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logo_zim" descr=""/>
            <p:cNvPicPr/>
            <p:nvPr/>
          </p:nvPicPr>
          <p:blipFill>
            <a:blip r:embed="rId19"/>
            <a:stretch/>
          </p:blipFill>
          <p:spPr>
            <a:xfrm>
              <a:off x="7315200" y="3048120"/>
              <a:ext cx="971640" cy="97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387-1398-49E5-8DF1-A92C416469FB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ederaciones (Esta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n la actividad nacional (torne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n la actividad de las Selecciones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 al país frente a la Confederacían y FI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pera según Estatutos (Constitución) y Reglamentos (Ley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lubes Depor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pel análogo a las empresas privadas (sólo que la mayoría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no tiene dueñ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ción espontanea, sin principios ni objetivos cl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09B-D194-41C2-939C-71069117FA2F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ueva 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ganizar al fútbol de una forma análoga a la de un Estado Democrático y de Derecho moderno en el que se aplica un modelo de Economía de Mercado en la asignación de recursos para competir por el creciente tiempo libre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AF0-DBC3-4C1B-834E-4809B337AF38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CONSTITUY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de Presidentes e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o por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EJECU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idente de la ANFP elegido por el Conse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istros: Resto del Direc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LEGISL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adores: Responsables de Legislar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putados: Responsables de la Fiscalización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JUDI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erpo de Árbitros: Elegidos por el Conse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ibunales : De Honor y de Disciplina (ídem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918-F48F-4F40-82B4-FD62B7BD7AF6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vitar gastos excesivos o compromisos de recursos inexistentes, recurriendo a 2 tipos de impuestos y subsid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único y parejo a los ingresos generados por los clubes mediante contratos de 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a la inversión excesiva en planteles de jugadores (c/r a la inversión promedio de la liga) y su devolución, mediante subsidios, a los que – superando un mínimo de rendimiento – invirtieron menos que la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1A6-D182-4550-9782-596D335430B5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ary Becker (premio Nobel de economía) sugiere este sistema, el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ye las diferencias depor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a el atractivo del torneo (mediante el aumento racional y calculado de la incertidumb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centiva la formación y contratación de jugadores nacionales jóv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6E9-5388-472B-BDC4-BB7D11D14CFB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Control de Gast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ualmente el Ejecutivo deberá proponer al Nuevo “Poder Legislativo” una Ley de Presupuestos que definirá en Qué y Cuánto puede gastar el Estado (la ANFP) para financi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rbitrajes, funciones administrativas generales, el costo de las selecciones y la difusión nacional e internacion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91C-0E8F-4C8B-8BE2-97B2E785BD8C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Distribución de Ingres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ingresos por borderó y por televisación de partidos deben pertenecer al equipo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ir el número de equipos jugando con MENOS equipos (12 en to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r 2 torneos anuales de 2 ruedas cada uno con partidos de ida y vuelta =&gt; 44 partidos al año por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anterior implica jugar del orden de 6 partidos “atractivos” como local para cada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para los Torneos Nacionales una calidad menos dispareja entre los equi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D3C-9665-4C58-BEE0-B42657231EB0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61240" y="838080"/>
            <a:ext cx="334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ducto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m US $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93960" y="571176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60400" y="1676520"/>
            <a:ext cx="0" cy="34970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9640" y="51735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9640" y="48276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09640" y="44816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09640" y="41227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09640" y="37767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09640" y="34322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9640" y="308628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9640" y="27399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09640" y="23940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9640" y="20480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9640" y="16891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0400" y="5173560"/>
            <a:ext cx="68169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604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826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179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0402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75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97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19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754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75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97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32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548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77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11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342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1691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589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4280" y="1849320"/>
            <a:ext cx="6831000" cy="3256200"/>
          </a:xfrm>
          <a:custGeom>
            <a:avLst/>
            <a:gdLst/>
            <a:ahLst/>
            <a:rect l="l" t="t" r="r" b="b"/>
            <a:pathLst>
              <a:path w="4303" h="2051">
                <a:moveTo>
                  <a:pt x="0" y="2050"/>
                </a:moveTo>
                <a:lnTo>
                  <a:pt x="137" y="2050"/>
                </a:lnTo>
                <a:lnTo>
                  <a:pt x="266" y="2050"/>
                </a:lnTo>
                <a:lnTo>
                  <a:pt x="403" y="2050"/>
                </a:lnTo>
                <a:lnTo>
                  <a:pt x="540" y="2042"/>
                </a:lnTo>
                <a:lnTo>
                  <a:pt x="677" y="2042"/>
                </a:lnTo>
                <a:lnTo>
                  <a:pt x="806" y="2042"/>
                </a:lnTo>
                <a:lnTo>
                  <a:pt x="943" y="2042"/>
                </a:lnTo>
                <a:lnTo>
                  <a:pt x="1080" y="2033"/>
                </a:lnTo>
                <a:lnTo>
                  <a:pt x="1209" y="2025"/>
                </a:lnTo>
                <a:lnTo>
                  <a:pt x="1346" y="2009"/>
                </a:lnTo>
                <a:lnTo>
                  <a:pt x="1483" y="2001"/>
                </a:lnTo>
                <a:lnTo>
                  <a:pt x="1612" y="2009"/>
                </a:lnTo>
                <a:lnTo>
                  <a:pt x="1749" y="1993"/>
                </a:lnTo>
                <a:lnTo>
                  <a:pt x="1886" y="2009"/>
                </a:lnTo>
                <a:lnTo>
                  <a:pt x="2014" y="1993"/>
                </a:lnTo>
                <a:lnTo>
                  <a:pt x="2151" y="1969"/>
                </a:lnTo>
                <a:lnTo>
                  <a:pt x="2288" y="1985"/>
                </a:lnTo>
                <a:lnTo>
                  <a:pt x="2417" y="1961"/>
                </a:lnTo>
                <a:lnTo>
                  <a:pt x="2554" y="1953"/>
                </a:lnTo>
                <a:lnTo>
                  <a:pt x="2691" y="1912"/>
                </a:lnTo>
                <a:lnTo>
                  <a:pt x="2820" y="1791"/>
                </a:lnTo>
                <a:lnTo>
                  <a:pt x="2957" y="1719"/>
                </a:lnTo>
                <a:lnTo>
                  <a:pt x="3094" y="1678"/>
                </a:lnTo>
                <a:lnTo>
                  <a:pt x="3223" y="1638"/>
                </a:lnTo>
                <a:lnTo>
                  <a:pt x="3360" y="1590"/>
                </a:lnTo>
                <a:lnTo>
                  <a:pt x="3497" y="1469"/>
                </a:lnTo>
                <a:lnTo>
                  <a:pt x="3634" y="1332"/>
                </a:lnTo>
                <a:lnTo>
                  <a:pt x="3763" y="1138"/>
                </a:lnTo>
                <a:lnTo>
                  <a:pt x="3900" y="944"/>
                </a:lnTo>
                <a:lnTo>
                  <a:pt x="4037" y="694"/>
                </a:lnTo>
                <a:lnTo>
                  <a:pt x="4166" y="379"/>
                </a:lnTo>
                <a:lnTo>
                  <a:pt x="430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8640" y="1562040"/>
            <a:ext cx="7822440" cy="4011480"/>
            <a:chOff x="998640" y="1562040"/>
            <a:chExt cx="7822440" cy="4011480"/>
          </a:xfrm>
        </p:grpSpPr>
        <p:sp>
          <p:nvSpPr>
            <p:cNvPr id="179" name=""/>
            <p:cNvSpPr/>
            <p:nvPr/>
          </p:nvSpPr>
          <p:spPr>
            <a:xfrm>
              <a:off x="1359720" y="50468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79360" y="470052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89720" y="435456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400860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8640" y="3662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8640" y="3328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11240" y="29462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8640" y="2600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8640" y="2266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8640" y="192096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8640" y="15620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20360" y="53020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112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340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828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77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9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2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204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3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5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7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992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7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480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57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79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14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35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99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92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48840" y="2708280"/>
            <a:ext cx="2835360" cy="1940040"/>
            <a:chOff x="3948840" y="2708280"/>
            <a:chExt cx="2835360" cy="1940040"/>
          </a:xfrm>
        </p:grpSpPr>
        <p:sp>
          <p:nvSpPr>
            <p:cNvPr id="208" name=""/>
            <p:cNvSpPr/>
            <p:nvPr/>
          </p:nvSpPr>
          <p:spPr>
            <a:xfrm>
              <a:off x="3948840" y="270828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320040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CBC-AD8C-4E75-BFC9-F53C20337569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1800" spc="-1" strike="noStrike">
                <a:solidFill>
                  <a:srgbClr val="ffcc00"/>
                </a:solidFill>
                <a:latin typeface="Arial Black"/>
              </a:rPr>
              <a:t>(Eficiencia Económica – Estructura Regional Competitiva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gionalizar los equipos (12 concesi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emplazar la 1ªB por campeonatos regionales de tipo Amateur para reemplazar al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lub regiona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que desc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787400" y="2209680"/>
          <a:ext cx="5873760" cy="1987560"/>
        </p:xfrm>
        <a:graphic>
          <a:graphicData uri="http://schemas.openxmlformats.org/drawingml/2006/table">
            <a:tbl>
              <a:tblPr/>
              <a:tblGrid>
                <a:gridCol w="1187280"/>
                <a:gridCol w="990720"/>
                <a:gridCol w="1517760"/>
                <a:gridCol w="118728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ª y 2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ª y 7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y 4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779-58B8-457F-911C-C70F56F82D95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Producto Competitivo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levisación del Torneo local y las clasificatorias para el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oy la ANFP dispone del CDF y Z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DF transmite 4 partidos en directo y 5 en difer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ZAP distribuye en el básico el CDF y su objetivo es maximizar la penetración del CD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gir que los derechos televisivos de las competencias internacionales pertenezcan a los clubes del país lo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507-C6B2-42FA-A398-7AE55A48CCE7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lgunas de las funciones de la ANFP será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al máximo la calidad del espectá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sarrollar el marketing integr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difusión y práctica del fútbol en los coleg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creación de Colegios Depor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E98-D529-4586-AB5E-46DD049533C9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cer responsables a los clubes del control de la violencia en los esta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dir el acceso de los hinchas violentistas a todos los estadi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mediante el uso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entrad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ben ser numeradas y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venderán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o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quien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e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dentifiquen y asuman la responsabilidad de la localidad adqui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3DB-6DDD-4DC9-9F13-063570196C04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Sanciones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ancionar en puntos y localía a los clubes cuyos hinchas causen desórd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ilmación constituirá Plena Prueba para aplicar san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principal sanción será la imposibilidad de ingresar a cualquier estadio de Chile por 6 meses, castigo que se duplicará por cada reinci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mplida la pena deberá acreditarse la asistencia a un curso de 4 hrs. sobre normas de comportamiento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85E-7DD2-4B1B-91D4-8AFB767697C8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837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r los Torneos Nacionales e Inter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r las Selecciones Nacionales sin costos exagerados y superfl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arantizar el cumplimiento de los contratos y la administración de justicia a clubes, dirigentes y jug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mover el Fútbol deporte – espectác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19D-1625-493A-9120-F86151068A72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cer transparente y eficiente los mercados, la relación entre club, jugador y entren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gir responsabilidad de los Dir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la calidad del espectáculo y erradicar la violencia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8EB-FD28-4157-A99B-977E87FAF581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ndarizar y difundir información pública detallada del fútbol (financiera, arbitraje, jugadores, clubes y selec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odificar la existencia del “pase” (nac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mbiarlo por un crédito, a tasa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contable en las 1ª transferencias y remuner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oda transferencia al extranjero cancela el 100% del sal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2B1-61D0-44A6-83C9-EA12E89C510B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r igualdad de oportunidades entre los clubes de menor convoc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yudar a financiar la formación de jugadores de escasos recursos por parte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mover el rol educacional-formador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la formación de dirigentes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desarrollo de software de sistemas de gestión para club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A23-2DB3-41A8-8A52-D2665556B202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stionar a la Selección N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duplicar la labor de formación de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inanciar, 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Becas para la formación de entrenadores jóv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sitas de profesores de entrenadores y profesores de árbitros a dictar seminarios en 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4E0-488C-4A56-86E5-5F33D28D35B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nta per capita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(US$ 1990 en PPP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1905120"/>
            <a:ext cx="734040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8280" y="191772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ñ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9480" y="1917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4200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508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8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5824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7920" y="217980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6920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4236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1372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4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8544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7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82920" y="217980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,188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360" y="244152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Occiden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6920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3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236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06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1372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11560" y="24415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,14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65560" y="2441520"/>
            <a:ext cx="84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9,99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2000" y="270972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792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3108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8200" y="27097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6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82560" y="2709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7,456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8480" y="2971800"/>
            <a:ext cx="6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EU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792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3108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28200" y="2971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82560" y="297180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2,9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89120" y="3233880"/>
            <a:ext cx="59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Jap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792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3108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244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82560" y="323388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9,7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0560" y="3490920"/>
            <a:ext cx="99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El Res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6920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3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236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1372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32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44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9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82920" y="34909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2,971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5800" y="375768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a 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792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9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0244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80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99920" y="37576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14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0920" y="4021200"/>
            <a:ext cx="132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Latin Amé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792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0244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99920" y="40212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03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13600" y="4282920"/>
            <a:ext cx="56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792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3108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0244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99920" y="4282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65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66840" y="4545000"/>
            <a:ext cx="100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os As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792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3108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0244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99920" y="45450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768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1880" y="4807080"/>
            <a:ext cx="55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792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3108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0244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99920" y="48070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2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586728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A. Maddison, "Monitoring the World Economy" (199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7FC-6740-49BE-A244-6D2DFF17E4AF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principales problemas del Fútbol Chileno se deriv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 cambios recientes que han disminuido los costos de transacción para ver fútbol y la consiguiente globalización de la activ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existencia de responsabilidades de los dirigentes. Una forma de resolverla consiste en aplicar las normas que riguen las sociedades anón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6A1-14D0-446E-B995-8010981F4F6C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necesario modificar la estructura financiera de la ANF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n realizar gastos no aprob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ría gastar más del 10% de los ingresos del Fútbol que ella recauda por cuenta de los club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nque los dirigentes actuales son bastante mejores que los anteriores, cometieron el error de aumentar a 20 el número de clubes de 1ª con un Torneo poco atra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9FC-771A-4E25-8451-C85534F2D5B6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s y otros problemas fueron diagnosticados en Chile en junio  de 1995. (Ver “Economía y Sociedad” (revista de José Piñera) de julio de 1995: www.claroyasociados.cl/actualidad/papers en el documento “Modernización del Fútbol Chileno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soluciones actuales son las mismas que se propusieron en junio de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únicos Responsables de su no aplicación son los dirigentes de la ANFP (desde esa fecha hasta aho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8CD-44B1-48FF-AEA0-13515F1589D4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avía hay tiempo de corregir y refundar esta activ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, per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bast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ó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crear las Sociedades Anónimas Depor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multáneamente, se debe (al me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arrollar una completa Modernización de la organización global del Fútbol Chileno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- con claridad - el Rol de los Clubes (Empresas Privadas) y de la ANFP (Estad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D88-D859-4E7E-BAB0-6CF1444F3126}" type="slidenum">
              <a:t>43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050920" y="47275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43308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3933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3538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3141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746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34936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79720" y="2502000"/>
            <a:ext cx="6148440" cy="2550960"/>
          </a:xfrm>
          <a:custGeom>
            <a:avLst/>
            <a:gdLst/>
            <a:ahLst/>
            <a:rect l="l" t="t" r="r" b="b"/>
            <a:pathLst>
              <a:path w="3873" h="1607">
                <a:moveTo>
                  <a:pt x="0" y="1606"/>
                </a:moveTo>
                <a:lnTo>
                  <a:pt x="121" y="1597"/>
                </a:lnTo>
                <a:lnTo>
                  <a:pt x="241" y="1597"/>
                </a:lnTo>
                <a:lnTo>
                  <a:pt x="362" y="1597"/>
                </a:lnTo>
                <a:lnTo>
                  <a:pt x="482" y="1597"/>
                </a:lnTo>
                <a:lnTo>
                  <a:pt x="603" y="1597"/>
                </a:lnTo>
                <a:lnTo>
                  <a:pt x="724" y="1597"/>
                </a:lnTo>
                <a:lnTo>
                  <a:pt x="844" y="1590"/>
                </a:lnTo>
                <a:lnTo>
                  <a:pt x="965" y="1581"/>
                </a:lnTo>
                <a:lnTo>
                  <a:pt x="1092" y="1573"/>
                </a:lnTo>
                <a:lnTo>
                  <a:pt x="1213" y="1556"/>
                </a:lnTo>
                <a:lnTo>
                  <a:pt x="1333" y="1548"/>
                </a:lnTo>
                <a:lnTo>
                  <a:pt x="1454" y="1556"/>
                </a:lnTo>
                <a:lnTo>
                  <a:pt x="1575" y="1539"/>
                </a:lnTo>
                <a:lnTo>
                  <a:pt x="1695" y="1564"/>
                </a:lnTo>
                <a:lnTo>
                  <a:pt x="1816" y="1539"/>
                </a:lnTo>
                <a:lnTo>
                  <a:pt x="1936" y="1515"/>
                </a:lnTo>
                <a:lnTo>
                  <a:pt x="2056" y="1531"/>
                </a:lnTo>
                <a:lnTo>
                  <a:pt x="2177" y="1497"/>
                </a:lnTo>
                <a:lnTo>
                  <a:pt x="2297" y="1490"/>
                </a:lnTo>
                <a:lnTo>
                  <a:pt x="2418" y="1448"/>
                </a:lnTo>
                <a:lnTo>
                  <a:pt x="2539" y="1364"/>
                </a:lnTo>
                <a:lnTo>
                  <a:pt x="2659" y="1264"/>
                </a:lnTo>
                <a:lnTo>
                  <a:pt x="2787" y="1215"/>
                </a:lnTo>
                <a:lnTo>
                  <a:pt x="2907" y="1182"/>
                </a:lnTo>
                <a:lnTo>
                  <a:pt x="3028" y="1131"/>
                </a:lnTo>
                <a:lnTo>
                  <a:pt x="3148" y="1073"/>
                </a:lnTo>
                <a:lnTo>
                  <a:pt x="3269" y="1048"/>
                </a:lnTo>
                <a:lnTo>
                  <a:pt x="3390" y="840"/>
                </a:lnTo>
                <a:lnTo>
                  <a:pt x="3510" y="691"/>
                </a:lnTo>
                <a:lnTo>
                  <a:pt x="3631" y="500"/>
                </a:lnTo>
                <a:lnTo>
                  <a:pt x="3751" y="300"/>
                </a:lnTo>
                <a:lnTo>
                  <a:pt x="387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84400" y="2336760"/>
            <a:ext cx="0" cy="2789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06960" y="46069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06960" y="4208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06960" y="3813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3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6960" y="3416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6960" y="3021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5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06960" y="262584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06960" y="22273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7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0920" y="51246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85840" y="5124600"/>
            <a:ext cx="61344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084400" y="507204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68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851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2338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16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011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392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76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59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541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924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054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7006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08336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467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848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232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77680" y="500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33200" y="5238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3272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360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628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46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3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67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0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7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11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5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105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932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75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7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40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35160" y="973080"/>
            <a:ext cx="349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blación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ill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84520" y="1792440"/>
            <a:ext cx="127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b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0560" y="563868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88360" y="2743200"/>
            <a:ext cx="2835360" cy="1940040"/>
            <a:chOff x="3888360" y="2743200"/>
            <a:chExt cx="2835360" cy="1940040"/>
          </a:xfrm>
        </p:grpSpPr>
        <p:sp>
          <p:nvSpPr>
            <p:cNvPr id="342" name=""/>
            <p:cNvSpPr/>
            <p:nvPr/>
          </p:nvSpPr>
          <p:spPr>
            <a:xfrm>
              <a:off x="3888360" y="274320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2240" y="323532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0D3-5DE8-4642-8974-68E613CCD1DC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00200" y="1600200"/>
            <a:ext cx="571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Algunas Luces Sobre las Diferencias del Desarrollo por Continente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57FB-2707-4AB7-8BE5-A83255DCEB0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NORTEAMERICA1" descr=""/>
          <p:cNvPicPr/>
          <p:nvPr/>
        </p:nvPicPr>
        <p:blipFill>
          <a:blip r:embed="rId1"/>
          <a:stretch/>
        </p:blipFill>
        <p:spPr>
          <a:xfrm>
            <a:off x="1365120" y="193680"/>
            <a:ext cx="6864480" cy="651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15D-C627-4617-BB91-3C6373C8655E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uropa1" descr=""/>
          <p:cNvPicPr/>
          <p:nvPr/>
        </p:nvPicPr>
        <p:blipFill>
          <a:blip r:embed="rId1"/>
          <a:stretch/>
        </p:blipFill>
        <p:spPr>
          <a:xfrm>
            <a:off x="1447920" y="160200"/>
            <a:ext cx="7002360" cy="654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CC6-AE55-4E0E-8659-97C2C6271E4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sia%601" descr=""/>
          <p:cNvPicPr/>
          <p:nvPr/>
        </p:nvPicPr>
        <p:blipFill>
          <a:blip r:embed="rId1"/>
          <a:stretch/>
        </p:blipFill>
        <p:spPr>
          <a:xfrm>
            <a:off x="990720" y="212760"/>
            <a:ext cx="804384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134-858F-4511-A808-303CEE1576D2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6:12:23Z</dcterms:created>
  <dc:creator>Marcela </dc:creator>
  <dc:description/>
  <dc:language>en-US</dc:language>
  <cp:lastModifiedBy>Marcela </cp:lastModifiedBy>
  <dcterms:modified xsi:type="dcterms:W3CDTF">2004-06-08T22:51:55Z</dcterms:modified>
  <cp:revision>29</cp:revision>
  <dc:subject/>
  <dc:title>Regulación en Economía de Mercado Ejemplos Prácticos</dc:title>
</cp:coreProperties>
</file>