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jpeg" ContentType="image/jpeg"/>
  <Override PartName="/ppt/media/image5.jpeg" ContentType="image/jpeg"/>
  <Override PartName="/ppt/media/image35.png" ContentType="image/png"/>
  <Override PartName="/ppt/media/image10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12.png" ContentType="image/png"/>
  <Override PartName="/ppt/media/image32.png" ContentType="image/png"/>
  <Override PartName="/ppt/media/image11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5.png" ContentType="image/png"/>
  <Override PartName="/ppt/media/image2.gif" ContentType="image/gif"/>
  <Override PartName="/ppt/media/image7.jpeg" ContentType="image/jpe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79D6-CE25-42D5-B9FA-49C83DDDE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5832-99BA-4610-8B93-317F28A0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24FC-175F-4EAC-B01F-162A0A767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DDD5-776E-473F-B060-1F1138DB0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22C0-94AF-43C6-BEB5-EBD3EC11D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9BDE-3A39-41AA-B6A2-B324FC43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018E-5C59-4ABA-A032-C62995A8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0113-829D-49AF-A7B0-362B54D2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0A0D-E54E-46BB-BAEE-6AAE4348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8F72-94DB-4B5D-AC74-93FAEF66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677E-0B31-4480-9109-631CA67C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5971-DD35-43AC-AD5C-EF06FEB9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E6EF-47B2-46A2-82D9-16D53EBE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7021-2761-4D65-889A-D77C6DD5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D96B-D01E-4335-95D2-EA2559EC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11F3-CC95-438E-94FD-F3A58E10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0748-D653-4731-A0E9-7B7F3631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B186-F53F-411B-97C0-1A1AB574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DDAC-3DF9-4CBB-921A-941BF615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F5F5-FC64-4FE3-8AFC-97CC6DBD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3D11-2CE2-45B2-A60A-7FD1CDEB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8180-C13B-4FF8-8130-3EDE4DD8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501F-C2C4-459F-B223-9D95D60E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01B1-1DF2-4114-BC21-2A356F9D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041F-128B-42DC-9438-62632331C8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DD7D-9C16-4AE5-932A-9B2F4F25A0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image" Target="../media/image30.png"/><Relationship Id="rId16" Type="http://schemas.openxmlformats.org/officeDocument/2006/relationships/image" Target="../media/image31.png"/><Relationship Id="rId17" Type="http://schemas.openxmlformats.org/officeDocument/2006/relationships/image" Target="../media/image32.png"/><Relationship Id="rId18" Type="http://schemas.openxmlformats.org/officeDocument/2006/relationships/image" Target="../media/image33.png"/><Relationship Id="rId19" Type="http://schemas.openxmlformats.org/officeDocument/2006/relationships/image" Target="../media/image34.png"/><Relationship Id="rId2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920" y="2679480"/>
            <a:ext cx="7315200" cy="74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Regulación en Economía de Mercado</a:t>
            </a:r>
            <a:br>
              <a:rPr sz="4400"/>
            </a:b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Ejemplos Práctic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048120" y="4114800"/>
            <a:ext cx="5729040" cy="18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Jorge Claro 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F21D-38BB-4171-916C-3BF9914137B7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SUDAMERICA" descr=""/>
          <p:cNvPicPr/>
          <p:nvPr/>
        </p:nvPicPr>
        <p:blipFill>
          <a:blip r:embed="rId1"/>
          <a:stretch/>
        </p:blipFill>
        <p:spPr>
          <a:xfrm>
            <a:off x="2251080" y="111240"/>
            <a:ext cx="5064120" cy="6670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D0F0-81A3-4638-BEC3-220446FE6716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Africa1" descr=""/>
          <p:cNvPicPr/>
          <p:nvPr/>
        </p:nvPicPr>
        <p:blipFill>
          <a:blip r:embed="rId1"/>
          <a:stretch/>
        </p:blipFill>
        <p:spPr>
          <a:xfrm>
            <a:off x="1973160" y="152280"/>
            <a:ext cx="5494320" cy="6616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1154-17A3-4082-98DA-249ABF748E36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52668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Arial Black"/>
              </a:rPr>
              <a:t>EL ROL DEL ESTADO EN UNA ECONOMÍA DE MERCADO</a:t>
            </a: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 MODERN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Mejorar la Eficiencia Económic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n la Asignación de Recur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n la Eliminación de las “Fallas del Mercado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Competencia Imperfecta y los monopolios natur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Externalidades Negativ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Información Imperfec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n la provisión de Bienes Públ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n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 Igualación de Oportunidades ante la V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n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stabilizar la Economía mediante las política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croeconómicas (Monetaria y Fisca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n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 Gestión de la Política Económica Internacional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(Tratados de Libre Comercio y su defensa ante el proteccionismo de los socios comercial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FCA6-EEC3-4D49-9243-14B1766C4ABD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Modernización del Fútbol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 continuación se describe un caso de aplicación de una Analogía entre la organización de un Estado Moderno y la Organización del Fútbol Profesional Moder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B38C-0B90-4700-8A99-9C01CCEC857F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Diagnóstic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oblemas por cambios recientes que han disminuido los costos de transacción para ver fútbol y la consiguiente globalización de la activ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umento generalizado de la competencia por captar el tiempo libre de los consumi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nos tiempo disponible para adaptarse a los cambios del merc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EF41-5522-4DE2-BC1B-34ECB0EF2D21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¿Por qué elegimos la organización del Fútbol como caso aplicado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 el deporte más practicado y el espectáculo más pop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diante la TV el fútbol se ha globalizado y masificado, además la TV ha generado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Arial"/>
              </a:rPr>
              <a:t>cuantiosos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recursos los que todavía no llegan en forma justa a los clu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xiste una percepción generalizada de mala organización de la activ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Hay 2 proyectos de ley para solucionar problemas de esta actividad priv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6386-9061-42AA-AF23-1B309641FD51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Principios Básicos de la Organización del Estad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lección libre de los gobernantes por una mayoría inform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l Estad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 discrimina, representa a todos, respeta las minorías y protege a los más débiles, alternancia del poder, garantiza un Estado de Derech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3 Poderes autónomos e independie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jecutivo, Legislativo y Judi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2C26-536F-4DE0-A15F-06FA22FCDDAE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Principios Básicos de la Organización del Estad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conómicamen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unciona la Economía de Merc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l sector privado produce bienes y servicios en competencia, respetando el derecho de propiedad con un estado relativamente subsidi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mple un rol definido en la Constitución para </a:t>
            </a:r>
            <a:r>
              <a:rPr b="0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PERFECCIONAR LA ACCIÓN DEL MERC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26EC-1EE7-41C2-B992-AF6CB6A79B2D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11628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cc00"/>
                </a:solidFill>
                <a:latin typeface="Arial Black"/>
              </a:rPr>
              <a:t>Principios que Deben Guiar la Acción de la ANFP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a acción de los Clubes se basará en la aplicación de los Principios de una Economía de Merc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 un Sector Privado: Clu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 un Estado: ANF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60FD-0B6F-4555-8CCD-8F087DCDE728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Acciones de la ANFP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ejorar la eficiencia económica de la organiz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mplementar un sistema tributario eficiente, proveer bienes y servicios públicos, eliminar las fallas del mercado (competencia e información imperfect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gualar oportunid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mover, facilitar y difundir el fútb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presentar a Chile internacionalm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2DE8-0014-4BBF-8AB9-B69941DF2F50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4920" y="3504960"/>
            <a:ext cx="63248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ato: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uimos pobres hasta 180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762120"/>
            <a:ext cx="5715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imes New Roman"/>
              </a:rPr>
              <a:t>¿ Funciona la Economía de Mercado 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5767-9777-4215-BF03-0B8D072B1181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onfederaciones de Fútbol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7" name="AFC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1646280" cy="1646280"/>
          </a:xfrm>
          <a:prstGeom prst="rect">
            <a:avLst/>
          </a:prstGeom>
          <a:ln w="0">
            <a:noFill/>
          </a:ln>
        </p:spPr>
      </p:pic>
      <p:pic>
        <p:nvPicPr>
          <p:cNvPr id="368" name="CAF" descr=""/>
          <p:cNvPicPr/>
          <p:nvPr/>
        </p:nvPicPr>
        <p:blipFill>
          <a:blip r:embed="rId2"/>
          <a:stretch/>
        </p:blipFill>
        <p:spPr>
          <a:xfrm>
            <a:off x="3733920" y="2057400"/>
            <a:ext cx="1646280" cy="1646280"/>
          </a:xfrm>
          <a:prstGeom prst="rect">
            <a:avLst/>
          </a:prstGeom>
          <a:ln w="0">
            <a:noFill/>
          </a:ln>
        </p:spPr>
      </p:pic>
      <p:pic>
        <p:nvPicPr>
          <p:cNvPr id="369" name="CONCACAF" descr=""/>
          <p:cNvPicPr/>
          <p:nvPr/>
        </p:nvPicPr>
        <p:blipFill>
          <a:blip r:embed="rId3"/>
          <a:stretch/>
        </p:blipFill>
        <p:spPr>
          <a:xfrm>
            <a:off x="5867280" y="2057400"/>
            <a:ext cx="1646280" cy="16462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370" name="CONMEBOL" descr=""/>
          <p:cNvPicPr/>
          <p:nvPr/>
        </p:nvPicPr>
        <p:blipFill>
          <a:blip r:embed="rId4"/>
          <a:stretch/>
        </p:blipFill>
        <p:spPr>
          <a:xfrm>
            <a:off x="1447920" y="4343400"/>
            <a:ext cx="1646280" cy="1646280"/>
          </a:xfrm>
          <a:prstGeom prst="rect">
            <a:avLst/>
          </a:prstGeom>
          <a:ln w="0">
            <a:noFill/>
          </a:ln>
        </p:spPr>
      </p:pic>
      <p:pic>
        <p:nvPicPr>
          <p:cNvPr id="371" name="OFC" descr=""/>
          <p:cNvPicPr/>
          <p:nvPr/>
        </p:nvPicPr>
        <p:blipFill>
          <a:blip r:embed="rId5"/>
          <a:stretch/>
        </p:blipFill>
        <p:spPr>
          <a:xfrm>
            <a:off x="3733920" y="4343400"/>
            <a:ext cx="1646280" cy="1646280"/>
          </a:xfrm>
          <a:prstGeom prst="rect">
            <a:avLst/>
          </a:prstGeom>
          <a:ln w="0">
            <a:noFill/>
          </a:ln>
        </p:spPr>
      </p:pic>
      <p:pic>
        <p:nvPicPr>
          <p:cNvPr id="372" name="UEFA" descr=""/>
          <p:cNvPicPr/>
          <p:nvPr/>
        </p:nvPicPr>
        <p:blipFill>
          <a:blip r:embed="rId6"/>
          <a:stretch/>
        </p:blipFill>
        <p:spPr>
          <a:xfrm>
            <a:off x="5867280" y="4343400"/>
            <a:ext cx="1646280" cy="164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3DF4-F367-48BE-A958-A15DC5197060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Roles de las Organizac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nfederaci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Organizan la actividad  y los Torneos a nivel Reg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falta de transparencia en la venta de los derechos de transmisión (Traffic y TyC) se ha prestado a un probable aumento de la corrupción   que ha impedido que los recursos lleguen a los que generan el Espectácul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3251-0202-4BD6-93EA-32CFFED84728}" type="slidenum">
              <a:t>21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Federaciones Nacional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1981080" y="1828800"/>
            <a:ext cx="2571840" cy="2190600"/>
            <a:chOff x="1981080" y="1828800"/>
            <a:chExt cx="2571840" cy="2190600"/>
          </a:xfrm>
        </p:grpSpPr>
        <p:grpSp>
          <p:nvGrpSpPr>
            <p:cNvPr id="377" name=""/>
            <p:cNvGrpSpPr/>
            <p:nvPr/>
          </p:nvGrpSpPr>
          <p:grpSpPr>
            <a:xfrm>
              <a:off x="1981080" y="1828800"/>
              <a:ext cx="2571840" cy="1047600"/>
              <a:chOff x="1981080" y="1828800"/>
              <a:chExt cx="2571840" cy="1047600"/>
            </a:xfrm>
          </p:grpSpPr>
          <p:pic>
            <p:nvPicPr>
              <p:cNvPr id="378" name="logo_cgo" descr=""/>
              <p:cNvPicPr/>
              <p:nvPr/>
            </p:nvPicPr>
            <p:blipFill>
              <a:blip r:embed="rId1"/>
              <a:stretch/>
            </p:blipFill>
            <p:spPr>
              <a:xfrm>
                <a:off x="1981080" y="1905120"/>
                <a:ext cx="971640" cy="97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9" name="logo_chn" descr=""/>
              <p:cNvPicPr/>
              <p:nvPr/>
            </p:nvPicPr>
            <p:blipFill>
              <a:blip r:embed="rId2"/>
              <a:stretch/>
            </p:blipFill>
            <p:spPr>
              <a:xfrm>
                <a:off x="3581280" y="1828800"/>
                <a:ext cx="971640" cy="971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80" name="logo_ita" descr=""/>
            <p:cNvPicPr/>
            <p:nvPr/>
          </p:nvPicPr>
          <p:blipFill>
            <a:blip r:embed="rId3"/>
            <a:stretch/>
          </p:blipFill>
          <p:spPr>
            <a:xfrm>
              <a:off x="2819520" y="3048120"/>
              <a:ext cx="971280" cy="97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1" name=""/>
          <p:cNvGrpSpPr/>
          <p:nvPr/>
        </p:nvGrpSpPr>
        <p:grpSpPr>
          <a:xfrm>
            <a:off x="914400" y="3048120"/>
            <a:ext cx="3257640" cy="3333600"/>
            <a:chOff x="914400" y="3048120"/>
            <a:chExt cx="3257640" cy="3333600"/>
          </a:xfrm>
        </p:grpSpPr>
        <p:pic>
          <p:nvPicPr>
            <p:cNvPr id="382" name="logo_arg" descr=""/>
            <p:cNvPicPr/>
            <p:nvPr/>
          </p:nvPicPr>
          <p:blipFill>
            <a:blip r:embed="rId4"/>
            <a:stretch/>
          </p:blipFill>
          <p:spPr>
            <a:xfrm>
              <a:off x="1752480" y="4114800"/>
              <a:ext cx="971640" cy="97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3" name=""/>
            <p:cNvGrpSpPr/>
            <p:nvPr/>
          </p:nvGrpSpPr>
          <p:grpSpPr>
            <a:xfrm>
              <a:off x="914400" y="3048120"/>
              <a:ext cx="3257640" cy="3333600"/>
              <a:chOff x="914400" y="3048120"/>
              <a:chExt cx="3257640" cy="3333600"/>
            </a:xfrm>
          </p:grpSpPr>
          <p:pic>
            <p:nvPicPr>
              <p:cNvPr id="384" name="logo_esp" descr=""/>
              <p:cNvPicPr/>
              <p:nvPr/>
            </p:nvPicPr>
            <p:blipFill>
              <a:blip r:embed="rId5"/>
              <a:stretch/>
            </p:blipFill>
            <p:spPr>
              <a:xfrm>
                <a:off x="1371600" y="3048120"/>
                <a:ext cx="971640" cy="97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5" name="logo_ger" descr=""/>
              <p:cNvPicPr/>
              <p:nvPr/>
            </p:nvPicPr>
            <p:blipFill>
              <a:blip r:embed="rId6"/>
              <a:stretch/>
            </p:blipFill>
            <p:spPr>
              <a:xfrm>
                <a:off x="3200400" y="4191120"/>
                <a:ext cx="971640" cy="97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" name="logo_pal" descr=""/>
              <p:cNvPicPr/>
              <p:nvPr/>
            </p:nvPicPr>
            <p:blipFill>
              <a:blip r:embed="rId7"/>
              <a:stretch/>
            </p:blipFill>
            <p:spPr>
              <a:xfrm>
                <a:off x="914400" y="5334120"/>
                <a:ext cx="971640" cy="97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7" name="logo_rus" descr=""/>
              <p:cNvPicPr/>
              <p:nvPr/>
            </p:nvPicPr>
            <p:blipFill>
              <a:blip r:embed="rId8"/>
              <a:stretch/>
            </p:blipFill>
            <p:spPr>
              <a:xfrm>
                <a:off x="2590920" y="5410080"/>
                <a:ext cx="971280" cy="97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88" name=""/>
          <p:cNvGrpSpPr/>
          <p:nvPr/>
        </p:nvGrpSpPr>
        <p:grpSpPr>
          <a:xfrm>
            <a:off x="4114800" y="2895480"/>
            <a:ext cx="2647800" cy="2343240"/>
            <a:chOff x="4114800" y="2895480"/>
            <a:chExt cx="2647800" cy="2343240"/>
          </a:xfrm>
        </p:grpSpPr>
        <p:pic>
          <p:nvPicPr>
            <p:cNvPr id="389" name="logo_chi" descr=""/>
            <p:cNvPicPr/>
            <p:nvPr/>
          </p:nvPicPr>
          <p:blipFill>
            <a:blip r:embed="rId9"/>
            <a:stretch/>
          </p:blipFill>
          <p:spPr>
            <a:xfrm>
              <a:off x="4114800" y="2895480"/>
              <a:ext cx="97164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logo_jpn" descr=""/>
            <p:cNvPicPr/>
            <p:nvPr/>
          </p:nvPicPr>
          <p:blipFill>
            <a:blip r:embed="rId10"/>
            <a:stretch/>
          </p:blipFill>
          <p:spPr>
            <a:xfrm>
              <a:off x="4419720" y="4114800"/>
              <a:ext cx="97128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logo_mex" descr=""/>
            <p:cNvPicPr/>
            <p:nvPr/>
          </p:nvPicPr>
          <p:blipFill>
            <a:blip r:embed="rId11"/>
            <a:stretch/>
          </p:blipFill>
          <p:spPr>
            <a:xfrm>
              <a:off x="5638680" y="2971800"/>
              <a:ext cx="97164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logo_uru" descr=""/>
            <p:cNvPicPr/>
            <p:nvPr/>
          </p:nvPicPr>
          <p:blipFill>
            <a:blip r:embed="rId12"/>
            <a:stretch/>
          </p:blipFill>
          <p:spPr>
            <a:xfrm>
              <a:off x="5791320" y="4267080"/>
              <a:ext cx="971280" cy="97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3" name=""/>
          <p:cNvGrpSpPr/>
          <p:nvPr/>
        </p:nvGrpSpPr>
        <p:grpSpPr>
          <a:xfrm>
            <a:off x="4267080" y="4038480"/>
            <a:ext cx="4248360" cy="2343240"/>
            <a:chOff x="4267080" y="4038480"/>
            <a:chExt cx="4248360" cy="2343240"/>
          </a:xfrm>
        </p:grpSpPr>
        <p:pic>
          <p:nvPicPr>
            <p:cNvPr id="394" name="logo_nig" descr=""/>
            <p:cNvPicPr/>
            <p:nvPr/>
          </p:nvPicPr>
          <p:blipFill>
            <a:blip r:embed="rId13"/>
            <a:stretch/>
          </p:blipFill>
          <p:spPr>
            <a:xfrm>
              <a:off x="7238880" y="4038480"/>
              <a:ext cx="97164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logo_sui" descr=""/>
            <p:cNvPicPr/>
            <p:nvPr/>
          </p:nvPicPr>
          <p:blipFill>
            <a:blip r:embed="rId14"/>
            <a:stretch/>
          </p:blipFill>
          <p:spPr>
            <a:xfrm>
              <a:off x="4267080" y="5410080"/>
              <a:ext cx="97164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logo_swe" descr=""/>
            <p:cNvPicPr/>
            <p:nvPr/>
          </p:nvPicPr>
          <p:blipFill>
            <a:blip r:embed="rId15"/>
            <a:stretch/>
          </p:blipFill>
          <p:spPr>
            <a:xfrm>
              <a:off x="6248520" y="5410080"/>
              <a:ext cx="61740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logo_usa" descr=""/>
            <p:cNvPicPr/>
            <p:nvPr/>
          </p:nvPicPr>
          <p:blipFill>
            <a:blip r:embed="rId16"/>
            <a:stretch/>
          </p:blipFill>
          <p:spPr>
            <a:xfrm>
              <a:off x="7543800" y="5410080"/>
              <a:ext cx="971640" cy="97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8" name=""/>
          <p:cNvGrpSpPr/>
          <p:nvPr/>
        </p:nvGrpSpPr>
        <p:grpSpPr>
          <a:xfrm>
            <a:off x="5181480" y="1905120"/>
            <a:ext cx="3105360" cy="2114280"/>
            <a:chOff x="5181480" y="1905120"/>
            <a:chExt cx="3105360" cy="2114280"/>
          </a:xfrm>
        </p:grpSpPr>
        <p:pic>
          <p:nvPicPr>
            <p:cNvPr id="399" name="logo_eng" descr=""/>
            <p:cNvPicPr/>
            <p:nvPr/>
          </p:nvPicPr>
          <p:blipFill>
            <a:blip r:embed="rId17"/>
            <a:stretch/>
          </p:blipFill>
          <p:spPr>
            <a:xfrm>
              <a:off x="6629400" y="1905120"/>
              <a:ext cx="97164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logo_cro" descr=""/>
            <p:cNvPicPr/>
            <p:nvPr/>
          </p:nvPicPr>
          <p:blipFill>
            <a:blip r:embed="rId18"/>
            <a:stretch/>
          </p:blipFill>
          <p:spPr>
            <a:xfrm>
              <a:off x="5181480" y="1905120"/>
              <a:ext cx="97164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logo_zim" descr=""/>
            <p:cNvPicPr/>
            <p:nvPr/>
          </p:nvPicPr>
          <p:blipFill>
            <a:blip r:embed="rId19"/>
            <a:stretch/>
          </p:blipFill>
          <p:spPr>
            <a:xfrm>
              <a:off x="7315200" y="3048120"/>
              <a:ext cx="971640" cy="97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4CE3-A46D-44C5-B55B-0A5666EE4D92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Roles de las Organizac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Federaciones (Estad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rganizan la actividad nacional (torne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Gestionan la actividad de las Selecciones Nacio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presenta al país frente a la Confederacían y FI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pera según Estatutos (Constitución) y Reglamentos (Ley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lubes Depor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pel análogo a las empresas privadas (sólo que la mayoría 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no tiene dueñ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rganización espontanea, sin principios ni objetivos cla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E9B7-BB54-4399-84D9-9E5101AF220F}" type="slidenum">
              <a:t>23</a:t>
            </a:fld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Nueva Organización Propuest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rganizar al fútbol de una forma análoga a la de un Estado Democrático y de Derecho moderno en el que se aplica un modelo de Economía de Mercado en la asignación de recursos para competir por el creciente tiempo libre de las perso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D3A3-C251-4ABD-8C92-F4A75B1B51F7}" type="slidenum">
              <a:t>24</a:t>
            </a:fld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Organización Propuest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DER CONSTITUYEN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sejo de Presidentes el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do por los Club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DER EJECUTIV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sidente de la ANFP elegido por el Consej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nistros: Resto del Directo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DER LEGISLATIV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nadores: Responsables de Legislar. Elegidos por el Consejo entre personas idón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putados: Responsables de la Fiscalización. Elegidos por el Consejo entre personas idón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DER JUDICI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erpo de Árbitros: Elegidos por el Conse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ibunales : De Honor y de Disciplina (ídem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1729-D4CE-49DA-8B03-1AEF4999F3D7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9132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(Eficiencia Económica - Competitividad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ejorar la Eficiencia Económ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vitar gastos excesivos o compromisos de recursos inexistentes, recurriendo a 2 tipos de impuestos y subsid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 impuesto único y parejo a los ingresos generados por los clubes mediante contratos de T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 impuesto a la inversión excesiva en planteles de jugadores (c/r a la inversión promedio de la liga) y su devolución, mediante subsidios, a los que – superando un mínimo de rendimiento – invirtieron menos que la 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6BBB-751D-4FE7-9FF1-48B22EF7EB17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5316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(Eficiencia Económica - Competitividad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Gary Becker (premio Nobel de economía) sugiere este sistema, el qu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isminuye las diferencias deportiv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umenta el atractivo del torneo (mediante el aumento racional y calculado de la incertidumb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centiva la formación y contratación de jugadores nacionales jóv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6DE8-5F13-40F1-B9FF-E6058A8D0AB6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9132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(Eficiencia Económica – Control de Gastos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nualmente el Ejecutivo deberá proponer al Nuevo “Poder Legislativo” una Ley de Presupuestos que definirá en Qué y Cuánto puede gastar el Estado (la ANFP) para financia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rbitrajes, funciones administrativas generales, el costo de las selecciones y la difusión nacional e internacional del fútb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81EC-557E-417B-A909-3BFA5F693877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35316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(Eficiencia Económica – Distribución de Ingresos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os ingresos por borderó y por televisación de partidos deben pertenecer al equipo lo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isminuir el número de equipos jugando con MENOS equipos (12 en tot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acer 2 torneos anuales de 2 ruedas cada uno con partidos de ida y vuelta =&gt; 44 partidos al año por equip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 anterior implica jugar del orden de 6 partidos “atractivos” como local para cada equip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omentar para los Torneos Nacionales una calidad menos dispareja entre los equip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C846-9F38-4A9C-B8F6-CF2EEE1446AF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61240" y="838080"/>
            <a:ext cx="334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roducto Mund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(mm US $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93960" y="5711760"/>
            <a:ext cx="588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760400" y="1676520"/>
            <a:ext cx="0" cy="349704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09640" y="517356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09640" y="482760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09640" y="448164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09640" y="412272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09640" y="377676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09640" y="343224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09640" y="308628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9640" y="273996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09640" y="239400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09640" y="204804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09640" y="168912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60400" y="5173560"/>
            <a:ext cx="681696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76040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18268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61792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304020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47508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89736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31964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75452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17536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59764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03252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45480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87708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31196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3424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816912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858996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4280" y="1849320"/>
            <a:ext cx="6831000" cy="3256200"/>
          </a:xfrm>
          <a:custGeom>
            <a:avLst/>
            <a:gdLst/>
            <a:ahLst/>
            <a:rect l="l" t="t" r="r" b="b"/>
            <a:pathLst>
              <a:path w="4303" h="2051">
                <a:moveTo>
                  <a:pt x="0" y="2050"/>
                </a:moveTo>
                <a:lnTo>
                  <a:pt x="137" y="2050"/>
                </a:lnTo>
                <a:lnTo>
                  <a:pt x="266" y="2050"/>
                </a:lnTo>
                <a:lnTo>
                  <a:pt x="403" y="2050"/>
                </a:lnTo>
                <a:lnTo>
                  <a:pt x="540" y="2042"/>
                </a:lnTo>
                <a:lnTo>
                  <a:pt x="677" y="2042"/>
                </a:lnTo>
                <a:lnTo>
                  <a:pt x="806" y="2042"/>
                </a:lnTo>
                <a:lnTo>
                  <a:pt x="943" y="2042"/>
                </a:lnTo>
                <a:lnTo>
                  <a:pt x="1080" y="2033"/>
                </a:lnTo>
                <a:lnTo>
                  <a:pt x="1209" y="2025"/>
                </a:lnTo>
                <a:lnTo>
                  <a:pt x="1346" y="2009"/>
                </a:lnTo>
                <a:lnTo>
                  <a:pt x="1483" y="2001"/>
                </a:lnTo>
                <a:lnTo>
                  <a:pt x="1612" y="2009"/>
                </a:lnTo>
                <a:lnTo>
                  <a:pt x="1749" y="1993"/>
                </a:lnTo>
                <a:lnTo>
                  <a:pt x="1886" y="2009"/>
                </a:lnTo>
                <a:lnTo>
                  <a:pt x="2014" y="1993"/>
                </a:lnTo>
                <a:lnTo>
                  <a:pt x="2151" y="1969"/>
                </a:lnTo>
                <a:lnTo>
                  <a:pt x="2288" y="1985"/>
                </a:lnTo>
                <a:lnTo>
                  <a:pt x="2417" y="1961"/>
                </a:lnTo>
                <a:lnTo>
                  <a:pt x="2554" y="1953"/>
                </a:lnTo>
                <a:lnTo>
                  <a:pt x="2691" y="1912"/>
                </a:lnTo>
                <a:lnTo>
                  <a:pt x="2820" y="1791"/>
                </a:lnTo>
                <a:lnTo>
                  <a:pt x="2957" y="1719"/>
                </a:lnTo>
                <a:lnTo>
                  <a:pt x="3094" y="1678"/>
                </a:lnTo>
                <a:lnTo>
                  <a:pt x="3223" y="1638"/>
                </a:lnTo>
                <a:lnTo>
                  <a:pt x="3360" y="1590"/>
                </a:lnTo>
                <a:lnTo>
                  <a:pt x="3497" y="1469"/>
                </a:lnTo>
                <a:lnTo>
                  <a:pt x="3634" y="1332"/>
                </a:lnTo>
                <a:lnTo>
                  <a:pt x="3763" y="1138"/>
                </a:lnTo>
                <a:lnTo>
                  <a:pt x="3900" y="944"/>
                </a:lnTo>
                <a:lnTo>
                  <a:pt x="4037" y="694"/>
                </a:lnTo>
                <a:lnTo>
                  <a:pt x="4166" y="379"/>
                </a:lnTo>
                <a:lnTo>
                  <a:pt x="4302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998640" y="1562040"/>
            <a:ext cx="7822440" cy="4011480"/>
            <a:chOff x="998640" y="1562040"/>
            <a:chExt cx="7822440" cy="4011480"/>
          </a:xfrm>
        </p:grpSpPr>
        <p:sp>
          <p:nvSpPr>
            <p:cNvPr id="179" name=""/>
            <p:cNvSpPr/>
            <p:nvPr/>
          </p:nvSpPr>
          <p:spPr>
            <a:xfrm>
              <a:off x="1359720" y="50468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79360" y="4700520"/>
              <a:ext cx="44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5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89720" y="435456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9720" y="400860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5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98640" y="366228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0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98640" y="332892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5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11240" y="294624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20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98640" y="260028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25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98640" y="226692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30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98640" y="192096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35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98640" y="156204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40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20360" y="530208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941120" y="5302080"/>
              <a:ext cx="44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4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63400" y="5302080"/>
              <a:ext cx="44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6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98280" y="5302080"/>
              <a:ext cx="44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8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7736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9964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2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02048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3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5536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4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7764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6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29992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7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3480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8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5708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9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57936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92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01424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94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43508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96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6996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9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9224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948840" y="2708280"/>
            <a:ext cx="2835360" cy="1940040"/>
            <a:chOff x="3948840" y="2708280"/>
            <a:chExt cx="2835360" cy="1940040"/>
          </a:xfrm>
        </p:grpSpPr>
        <p:sp>
          <p:nvSpPr>
            <p:cNvPr id="208" name=""/>
            <p:cNvSpPr/>
            <p:nvPr/>
          </p:nvSpPr>
          <p:spPr>
            <a:xfrm>
              <a:off x="3948840" y="2708280"/>
              <a:ext cx="2835360" cy="45972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Times New Roman"/>
                </a:rPr>
                <a:t>Revolución Industri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3200400"/>
              <a:ext cx="380880" cy="1447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E88E-05A2-42E1-A4E2-6914F0EB9824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40608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1800" spc="-1" strike="noStrike">
                <a:solidFill>
                  <a:srgbClr val="ffcc00"/>
                </a:solidFill>
                <a:latin typeface="Arial Black"/>
              </a:rPr>
              <a:t>(Eficiencia Económica – Estructura Regional Competitiva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Regionalizar los equipos (12 concesion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Reemplazar la 1ªB por campeonatos regionales de tipo Amateur para reemplazar al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Arial"/>
              </a:rPr>
              <a:t>club regional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que desci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1787400" y="2209680"/>
          <a:ext cx="5873760" cy="1987560"/>
        </p:xfrm>
        <a:graphic>
          <a:graphicData uri="http://schemas.openxmlformats.org/drawingml/2006/table">
            <a:tbl>
              <a:tblPr/>
              <a:tblGrid>
                <a:gridCol w="1187280"/>
                <a:gridCol w="990720"/>
                <a:gridCol w="1517760"/>
                <a:gridCol w="1187280"/>
                <a:gridCol w="990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 Club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 Club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ª y 2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ª y 7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ª y 4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976C-996D-4411-B839-BEF6A871653A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4294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(Eficiencia Económica – Producto Competitivo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elevisación del Torneo local y las clasificatorias para el mund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oy la ANFP dispone del CDF y ZA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l CDF transmite 4 partidos en directo y 5 en difer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ZAP distribuye en el básico el CDF y su objetivo es maximizar la penetración del CD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xigir que los derechos televisivos de las competencias internacionales pertenezcan a los clubes del país loc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FAB6-367A-46E7-A035-4FCCF6ACB4A5}" type="slidenum">
              <a:t>31</a:t>
            </a:fld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4294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(Eficiencia Económica – Violencia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Algunas de las funciones de la ANFP será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jorar al máximo la calidad del espectácu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esarrollar el marketing integral del fútb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omentar la difusión y práctica del fútbol en los coleg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omentar la creación de Colegios Deporti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1504-E5CE-48C4-8031-7B0F2A9AB33D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294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(Eficiencia Económica – Violencia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Hacer responsables a los clubes del control de la violencia en los estad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m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dir el acceso de los hinchas violentistas a todos los estadios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mediante el uso de tecnolog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s entradas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eben ser numeradas y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 venderán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olo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quienes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que se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dentifiquen y asuman la responsabilidad de la localidad adquir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E556-1C31-4A97-988A-2879ABA613AC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4294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(Eficiencia Económica – Sanciones Violencia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ancionar en puntos y localía a los clubes cuyos hinchas causen desórd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filmación constituirá Plena Prueba para aplicar sanci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principal sanción será la imposibilidad de ingresar a cualquier estadio de Chile por 6 meses, castigo que se duplicará por cada reincide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umplida la pena deberá acreditarse la asistencia a un curso de 4 hrs. sobre normas de comportamiento en los estad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76BB-CDB6-4212-9C38-2A8EC92DC9BE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837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veer Bienes y Servicios Públ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rganizar los Torneos Nacionales e Internacio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Gestionar las Selecciones Nacionales sin costos exagerados y superflu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Garantizar el cumplimiento de los contratos y la administración de justicia a clubes, dirigentes y jugad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mover el Fútbol deporte – espectácu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3648-DB36-4715-9595-FE22B3E4292F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Proveer Bienes y Servicios Públic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Hacer transparente y eficiente los mercados, la relación entre club, jugador y entren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xigir responsabilidad de los Dirig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jorar la calidad del espectáculo y erradicar la violencia en los estad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DF14-9DD8-4C3E-B9E3-64E3055D85F7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veer Bienes y Servicios Públ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standarizar y difundir información pública detallada del fútbol (financiera, arbitraje, jugadores, clubes y seleccion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Modificar la existencia del “pase” (nacion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ambiarlo por un crédito, a tasa de merc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scontable en las 1ª transferencias y remuner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Toda transferencia al extranjero cancela el 100% del sal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5453-13D7-4555-B3EB-1DB3143C5851}" type="slidenum">
              <a:t>37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Generar igualdad de oportunidades entre los clubes de menor convocato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diante fondos concursab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yudar a financiar la formación de jugadores de escasos recursos por parte de los club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mover el rol educacional-formador de los club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Financiar la formación de dirigentes de los club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Financiar desarrollo de software de sistemas de gestión para club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DF57-6CB0-4B5A-8808-1856F741CFED}" type="slidenum">
              <a:t>38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717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presentar a Chile Internacionalm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Gestionar a la Selección Naci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No duplicar la labor de formación de los clu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inanciar, mediante fondos concursab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Becas para la formación de entrenadores jóv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isitas de profesores de entrenadores y profesores de árbitros a dictar seminarios en Ch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44F8-B8A3-422C-8BB3-B358FDCCE60D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46560"/>
            <a:ext cx="7772400" cy="10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enta per capita</a:t>
            </a:r>
            <a:br>
              <a:rPr sz="44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(US$ 1990 en PPP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1219320" y="1905120"/>
            <a:ext cx="7340400" cy="316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68280" y="1917720"/>
            <a:ext cx="42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Año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19480" y="19177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42000" y="1917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1917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15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985080" y="1917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18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058240" y="1917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67920" y="2179800"/>
            <a:ext cx="711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Mundo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69200" y="217980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425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42360" y="217980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420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13720" y="217980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545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985440" y="217980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675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82920" y="2179800"/>
            <a:ext cx="721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5,188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13360" y="2441520"/>
            <a:ext cx="1177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- Occident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69200" y="24415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439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42360" y="24415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406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13720" y="24415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624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11560" y="2441520"/>
            <a:ext cx="721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1,149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765560" y="2441520"/>
            <a:ext cx="842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19,990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02000" y="2709720"/>
            <a:ext cx="698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urop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27097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5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7920" y="27097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31080" y="27097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67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28200" y="27097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1,269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82560" y="2709720"/>
            <a:ext cx="662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17,456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98480" y="2971800"/>
            <a:ext cx="604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EUU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86200" y="29718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57920" y="29718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31080" y="29718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928200" y="297180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1,233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882560" y="2971800"/>
            <a:ext cx="662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2,933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89120" y="3233880"/>
            <a:ext cx="590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Japón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32338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957920" y="32338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31080" y="32338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52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02440" y="32338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67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882560" y="3233880"/>
            <a:ext cx="662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19,7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20560" y="3490920"/>
            <a:ext cx="997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- El Resto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69200" y="34909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423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42360" y="34909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424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13720" y="34909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532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85440" y="34909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594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882920" y="3490920"/>
            <a:ext cx="721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2,971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5800" y="3757680"/>
            <a:ext cx="1177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Otra Europ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86200" y="37576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57920" y="37576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31080" y="37576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597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102440" y="37576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803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999920" y="375768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5,147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70920" y="4021200"/>
            <a:ext cx="132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Latin Améric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86200" y="40212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957920" y="40212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1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31080" y="40212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1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02440" y="40212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671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999920" y="402120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5,031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613600" y="4282920"/>
            <a:ext cx="567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hin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42829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5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957920" y="42829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5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31080" y="42829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102440" y="42829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999920" y="42829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,653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166840" y="4545000"/>
            <a:ext cx="100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Otros Asi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86200" y="45450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57920" y="45450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31080" y="45450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52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102440" y="45450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56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999920" y="454500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,768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21880" y="4807080"/>
            <a:ext cx="554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fric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86200" y="48070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57920" y="48070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31080" y="48070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102440" y="48070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999920" y="480708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1,221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5867280"/>
            <a:ext cx="52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ente: A. Maddison, "Monitoring the World Economy" (1995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58D1-E903-46C6-94D8-4F783227820E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onclus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os principales problemas del Fútbol Chileno se deriva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 cambios recientes que han disminuido los costos de transacción para ver fútbol y la consiguiente globalización de la activ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umento generalizado de la competencia por captar el tiempo libre de los consumid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existencia de responsabilidades de los dirigentes. Una forma de resolverla consiste en aplicar las normas que riguen las sociedades anóni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8CFE-0D07-48EB-836D-8A3316E25F86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onclus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 necesario modificar la estructura financiera de la ANF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 se deben realizar gastos no aprob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 se debería gastar más del 10% de los ingresos del Fútbol que ella recauda por cuenta de los club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unque los dirigentes actuales son bastante mejores que los anteriores, cometieron el error de aumentar a 20 el número de clubes de 1ª con un Torneo poco atracti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D1A5-9D82-4D5B-AC67-1444B67F3DA3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onclus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os y otros problemas fueron diagnosticados en Chile en junio  de 1995. (Ver “Economía y Sociedad” (revista de José Piñera) de julio de 1995: www.claroyasociados.cl/actualidad/papers en el documento “Modernización del Fútbol Chileno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s soluciones actuales son las mismas que se propusieron en junio de 19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os únicos Responsables de su no aplicación son los dirigentes de la ANFP (desde esa fecha hasta ahor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4A0D-2F7B-45B4-82E1-B394540172DB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onclus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odavía hay tiempo de corregir y refundar esta actividad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, pero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 basta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ólo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 crear las Sociedades Anónimas Deportiv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multáneamente, se debe (al me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sarrollar una completa Modernización de la organización global del Fútbol Chileno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ablecer - con claridad - el Rol de los Clubes (Empresas Privadas) y de la ANFP (Estado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CF39-7149-4552-B7B6-13BB6CBD0633}" type="slidenum">
              <a:t>43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050920" y="472752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0920" y="433080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0920" y="393372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50920" y="353844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50920" y="314172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050920" y="274644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050920" y="234936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079720" y="2502000"/>
            <a:ext cx="6148440" cy="2550960"/>
          </a:xfrm>
          <a:custGeom>
            <a:avLst/>
            <a:gdLst/>
            <a:ahLst/>
            <a:rect l="l" t="t" r="r" b="b"/>
            <a:pathLst>
              <a:path w="3873" h="1607">
                <a:moveTo>
                  <a:pt x="0" y="1606"/>
                </a:moveTo>
                <a:lnTo>
                  <a:pt x="121" y="1597"/>
                </a:lnTo>
                <a:lnTo>
                  <a:pt x="241" y="1597"/>
                </a:lnTo>
                <a:lnTo>
                  <a:pt x="362" y="1597"/>
                </a:lnTo>
                <a:lnTo>
                  <a:pt x="482" y="1597"/>
                </a:lnTo>
                <a:lnTo>
                  <a:pt x="603" y="1597"/>
                </a:lnTo>
                <a:lnTo>
                  <a:pt x="724" y="1597"/>
                </a:lnTo>
                <a:lnTo>
                  <a:pt x="844" y="1590"/>
                </a:lnTo>
                <a:lnTo>
                  <a:pt x="965" y="1581"/>
                </a:lnTo>
                <a:lnTo>
                  <a:pt x="1092" y="1573"/>
                </a:lnTo>
                <a:lnTo>
                  <a:pt x="1213" y="1556"/>
                </a:lnTo>
                <a:lnTo>
                  <a:pt x="1333" y="1548"/>
                </a:lnTo>
                <a:lnTo>
                  <a:pt x="1454" y="1556"/>
                </a:lnTo>
                <a:lnTo>
                  <a:pt x="1575" y="1539"/>
                </a:lnTo>
                <a:lnTo>
                  <a:pt x="1695" y="1564"/>
                </a:lnTo>
                <a:lnTo>
                  <a:pt x="1816" y="1539"/>
                </a:lnTo>
                <a:lnTo>
                  <a:pt x="1936" y="1515"/>
                </a:lnTo>
                <a:lnTo>
                  <a:pt x="2056" y="1531"/>
                </a:lnTo>
                <a:lnTo>
                  <a:pt x="2177" y="1497"/>
                </a:lnTo>
                <a:lnTo>
                  <a:pt x="2297" y="1490"/>
                </a:lnTo>
                <a:lnTo>
                  <a:pt x="2418" y="1448"/>
                </a:lnTo>
                <a:lnTo>
                  <a:pt x="2539" y="1364"/>
                </a:lnTo>
                <a:lnTo>
                  <a:pt x="2659" y="1264"/>
                </a:lnTo>
                <a:lnTo>
                  <a:pt x="2787" y="1215"/>
                </a:lnTo>
                <a:lnTo>
                  <a:pt x="2907" y="1182"/>
                </a:lnTo>
                <a:lnTo>
                  <a:pt x="3028" y="1131"/>
                </a:lnTo>
                <a:lnTo>
                  <a:pt x="3148" y="1073"/>
                </a:lnTo>
                <a:lnTo>
                  <a:pt x="3269" y="1048"/>
                </a:lnTo>
                <a:lnTo>
                  <a:pt x="3390" y="840"/>
                </a:lnTo>
                <a:lnTo>
                  <a:pt x="3510" y="691"/>
                </a:lnTo>
                <a:lnTo>
                  <a:pt x="3631" y="500"/>
                </a:lnTo>
                <a:lnTo>
                  <a:pt x="3751" y="300"/>
                </a:lnTo>
                <a:lnTo>
                  <a:pt x="3872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084400" y="2336760"/>
            <a:ext cx="0" cy="278928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06960" y="46069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06960" y="420840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06960" y="38131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3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06960" y="341640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4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06960" y="30211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5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06960" y="262584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6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506960" y="22273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7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50920" y="512460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085840" y="5124600"/>
            <a:ext cx="613440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2084400" y="507204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246852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285120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323388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61620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401148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439272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77684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15952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554184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592452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630540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670068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708336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746748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784872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823284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777680" y="50022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33200" y="52387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32720" y="5238720"/>
            <a:ext cx="48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4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613600" y="5238720"/>
            <a:ext cx="48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6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996280" y="5238720"/>
            <a:ext cx="48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8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2460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71844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2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10256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3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8488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4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6756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6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25024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7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3112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8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1524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9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1052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9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79320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9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7588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96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55676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98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94088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35160" y="973080"/>
            <a:ext cx="34977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oblación Mund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(millon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84520" y="1792440"/>
            <a:ext cx="1275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bl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60560" y="5638680"/>
            <a:ext cx="588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888360" y="2743200"/>
            <a:ext cx="2835360" cy="1940040"/>
            <a:chOff x="3888360" y="2743200"/>
            <a:chExt cx="2835360" cy="1940040"/>
          </a:xfrm>
        </p:grpSpPr>
        <p:sp>
          <p:nvSpPr>
            <p:cNvPr id="342" name=""/>
            <p:cNvSpPr/>
            <p:nvPr/>
          </p:nvSpPr>
          <p:spPr>
            <a:xfrm>
              <a:off x="3888360" y="2743200"/>
              <a:ext cx="2835360" cy="45972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Times New Roman"/>
                </a:rPr>
                <a:t>Revolución Industri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02240" y="3235320"/>
              <a:ext cx="380880" cy="1447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8503-40F0-4155-A0DB-8C79CC5438E3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600200" y="1600200"/>
            <a:ext cx="5715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imes New Roman"/>
              </a:rPr>
              <a:t>Algunas Luces Sobre las Diferencias del Desarrollo por Continente.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0E39-AF7A-4988-B9DD-BC62394FE162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NORTEAMERICA1" descr=""/>
          <p:cNvPicPr/>
          <p:nvPr/>
        </p:nvPicPr>
        <p:blipFill>
          <a:blip r:embed="rId1"/>
          <a:stretch/>
        </p:blipFill>
        <p:spPr>
          <a:xfrm>
            <a:off x="1365120" y="193680"/>
            <a:ext cx="6864480" cy="651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33CC-4091-4559-82D4-423923247AAD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Europa1" descr=""/>
          <p:cNvPicPr/>
          <p:nvPr/>
        </p:nvPicPr>
        <p:blipFill>
          <a:blip r:embed="rId1"/>
          <a:stretch/>
        </p:blipFill>
        <p:spPr>
          <a:xfrm>
            <a:off x="1447920" y="160200"/>
            <a:ext cx="7002360" cy="654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0768-6537-43D4-B041-B97E5978141E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Asia%601" descr=""/>
          <p:cNvPicPr/>
          <p:nvPr/>
        </p:nvPicPr>
        <p:blipFill>
          <a:blip r:embed="rId1"/>
          <a:stretch/>
        </p:blipFill>
        <p:spPr>
          <a:xfrm>
            <a:off x="990720" y="212760"/>
            <a:ext cx="8043840" cy="641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FD26-AFDC-45BD-B2DC-8CCFEAFE0831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6T16:12:23Z</dcterms:created>
  <dc:creator>Marcela </dc:creator>
  <dc:description/>
  <dc:language>en-US</dc:language>
  <cp:lastModifiedBy>Marcela </cp:lastModifiedBy>
  <dcterms:modified xsi:type="dcterms:W3CDTF">2004-06-08T22:51:55Z</dcterms:modified>
  <cp:revision>29</cp:revision>
  <dc:subject/>
  <dc:title>Regulación en Economía de Mercado Ejemplos Prácticos</dc:title>
</cp:coreProperties>
</file>