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5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6D9-2DDA-4804-9406-6643CB65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7B4-C589-48F0-B02E-596278E9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26B-4593-4C20-9E83-3718C17B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7FC-2AA3-4A71-B568-C9395F23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9D3F-1991-49DE-90BD-ADA5B77F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5326-CC78-45A4-A850-56D9F337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18A8-1BCF-4997-8BDD-FBB8739E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2313-C1BA-4306-88F7-E9E9AC89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1AAC-22F0-400F-B477-19669070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1A66-4A6B-4598-AF04-5B030C8A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98F8-B342-4B0B-B41B-210E5B63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D55-BC56-406B-A71B-6DC115FE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A0CB-2008-48AC-8CB7-5D145D1A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17DB-119E-4994-8390-21B17AA1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9F04-F79B-486A-889B-A5FC56FB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9725-1742-4BD9-8C18-FA302BB5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218C-ADF5-49C3-A5FB-DAE4E9ED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985-85C7-4135-9027-8BEEBDFD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2DC-4FA9-47A7-B9C7-BCF3EC8C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BC9-DC56-43F2-ADDB-BEC49C0C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610-3BEA-4217-8DD7-FE996494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478-23C8-47EF-AE98-B0D1F55E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EA3-0069-4540-85FB-A3BB307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291-6F7B-49B0-8C1A-427B361B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1873-C89E-4350-963E-BB9A5BF973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EE81-D327-4D27-96DB-24AACC38D2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lase de Simul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95320" y="411444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rso: IN44A Investigación Operat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fesores: Pablo Rey, Denis Sauré, Ariel Schilkr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uxiliares: C. Berner, M. Guajardo, J.Guajardo, P. Hernánde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Ejemplo chan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viones llegan en tiempos distribuidos uniformente de tasa 10 aviones/ho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 probabilidad 0.5 un avión irá a reparación. Los otros se guard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paración para cada uno dura 15 minutos y es constante. Posterior a esto se van a guard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Layou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57146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necesita un separador y un proce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7162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5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ara la entrada, proceso y separador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08200" y="2630520"/>
          <a:ext cx="36064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2630520"/>
                    <a:ext cx="36064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876920" y="2057400"/>
          <a:ext cx="3606840" cy="369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057400"/>
                    <a:ext cx="360684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90720" y="5105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reación de lleg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5791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Separad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1676520"/>
          <a:ext cx="380988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380988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76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designa la acción y el porcentaje para VERDADE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ara considerar...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s simulaciones cada vez entregan datos diferentes, por lo que usualmente se corren los programas un cierto número de veces y se promedian los 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debe revisar que las entradas y salidas estén acordes a las tasas de llegada y atención del siste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versión estudiante sólo permite una simulación de 150 entidades. Es por eso que se debe correr el programa para tiempos mas cortos y extrapolar los val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xiste un comando de ayuda super claro, en el cual se pueden hacer consultas de todo tip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informe debe ser detallado preciso y sól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egunda simulación que se debe hacer, sólo representa un cambio en las tasas de llegad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 más importante es el análisis y la forma a enfrentar los puntos que se pi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achar al informe, como Anexo, la simulación desarroll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Simulació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simulación, consiste en a partir de datos obtenidos por medio de la investigación de un sistema, generación de eventos aleatorios con el fin de determinar como fucio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ada simulación es distinta y posee distintos números aleatorios para cada ev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gunos programas buenos para utilizar son Excel, Service Model y Arena entre ot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Layout del Sistem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reación de la tarea en Aren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tienen 8 procesos bás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rear.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acar.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ceso.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cidir.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B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Separ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Asig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Grab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690480" y="1371600"/>
            <a:ext cx="379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382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¿Quiénes participan en estos Proceso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tidades. Son quienes se mueven a través del sistema. Pueden ser autos, personas, carros de comida, av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cursos: Son quienes participan en los procesos. Pueden ser cajeros, gomas, empleados en gene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juntos de recursos. Son conjuntos de emple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ada participante y proceso presentará comportamientos particulares que se detallan a contin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4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reando llegad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79480" y="2021040"/>
          <a:ext cx="39686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9480" y="2021040"/>
                    <a:ext cx="39686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esta estapa se crean las entidades que llegan al sistema. Se les da un nombre, sus tasas de llegada, número de entidades por llegada y capacidad máxima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Sacar y decidir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05160" y="10663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caso de sacar del sistema sólo se le debe hacer alusión por medio de una lín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las decisiones se da un porcentaje de valor, al cual responderá el verdad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asigna que tipo de entidad estará en el proceso deci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057400" y="1371600"/>
            <a:ext cx="2362320" cy="1320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H="1">
            <a:off x="1066680" y="1905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143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50532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2590920"/>
          <a:ext cx="4267080" cy="26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590920"/>
                    <a:ext cx="426708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" y="5410080"/>
          <a:ext cx="4724280" cy="11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410080"/>
                    <a:ext cx="47242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roceso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los procesos se les da un nombre, una acción a ejecutar, los recursos que posee y la distribución del tiempo de retra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Notar que en este caso se le pide que sus recursos sean un “se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447920"/>
          <a:ext cx="4267080" cy="47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47920"/>
                    <a:ext cx="42670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4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onjuntos de recurs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3962520"/>
          <a:ext cx="419112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62520"/>
                    <a:ext cx="41911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l crear un conjunto, se debe crear el ícono “set” y describir el conjunto y cada uno de sus componentes como se muestra en la figura. Notar que a cada recurso se le podría asignar una distinta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04920" y="1523880"/>
          <a:ext cx="1371600" cy="234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523880"/>
                    <a:ext cx="1371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22:26:44Z</dcterms:created>
  <dc:creator>.. ..</dc:creator>
  <dc:description/>
  <dc:language>en-US</dc:language>
  <cp:lastModifiedBy>.. ..</cp:lastModifiedBy>
  <dcterms:modified xsi:type="dcterms:W3CDTF">2004-06-14T00:50:33Z</dcterms:modified>
  <cp:revision>6</cp:revision>
  <dc:subject/>
  <dc:title>Simulación.</dc:title>
</cp:coreProperties>
</file>