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5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D9F-695A-4958-9EEA-73D7CCF4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C3E-A8F7-43E6-BBEA-8486B00D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694-4D88-46FE-8908-678CEA10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207-A83D-4B30-BE34-EF334CD5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2793-B88B-4E18-AB37-48865F76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D1A9-01C8-4AF3-994E-09D2FB6D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A0E4-23B6-471C-9262-09E5EF09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8BEC-9A5F-4E03-87B4-B9EBA768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A84E-5136-4C8C-BD07-DCC6964F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68AC-D195-4FA1-9238-FA314901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C082-98AD-4CBD-814B-8DE3F9D6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6AF-EE8D-4D27-A0E0-DB419C31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3D36-D7E0-4855-8438-5F63978A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D0A9-50DB-491B-8482-392CFD3A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A9DB-AB25-4B42-84FB-FEBA769A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3252-D6DC-447F-968D-1BCBB2F8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8384-07BF-4BC6-ABE7-5D725DD3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822-3F45-4658-97A7-7C078C71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026-536D-4F2D-80A2-C7E88A28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335-721F-4ACE-8C2B-C8CB35D2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F3B-4BB4-4EBE-AF43-04463D77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EEB-5E12-4CCA-BFFD-6BA49F5A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EE9-5107-4075-82B8-38570FB3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A4C-C999-4AEB-9CA5-703E8804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F7CE-52B8-4B56-94F1-9E82105692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C45B-CA5A-431A-A9E5-89B512247C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lase de Simula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95320" y="411444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rso: IN44A Investigación Operat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fesores: Pablo Rey, Denis Sauré, Ariel Schilkr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uxiliares: C. Berner, M. Guajardo, J.Guajardo, P. Hernánde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Ejemplo chan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viones llegan en tiempos distribuidos uniformente de tasa 10 aviones/ho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 probabilidad 0.5 un avión irá a reparación. Los otros se guard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reparación para cada uno dura 15 minutos y es constante. Posterior a esto se van a guard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Layou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57146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necesita un separador y un proce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7162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5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ara la entrada, proceso y separador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08200" y="2630520"/>
          <a:ext cx="36064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2630520"/>
                    <a:ext cx="36064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876920" y="2057400"/>
          <a:ext cx="3606840" cy="369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057400"/>
                    <a:ext cx="360684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90720" y="5105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reación de lleg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5791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Separad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1676520"/>
          <a:ext cx="380988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380988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765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designa la acción y el porcentaje para VERDADE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ara considerar..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s simulaciones cada vez entregan datos diferentes, por lo que usualmente se corren los programas un cierto número de veces y se promedian los 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debe revisar que las entradas y salidas estén acordes a las tasas de llegada y atención del siste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versión estudiante sólo permite una simulación de 150 entidades. Es por eso que se debe correr el programa para tiempos mas cortos y extrapolar los val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xiste un comando de ayuda super claro, en el cual se pueden hacer consultas de todo tip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informe debe ser detallado preciso y sól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egunda simulación que se debe hacer, sólo representa un cambio en las tasas de llegad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 más importante es el análisis y la forma a enfrentar los puntos que se pi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achar al informe, como Anexo, la simulación desarroll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Simulació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simulación, consiste en a partir de datos obtenidos por medio de la investigación de un sistema, generación de eventos aleatorios con el fin de determinar como fucio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ada simulación es distinta y posee distintos números aleatorios para cada ev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gunos programas buenos para utilizar son Excel, Service Model y Arena entre ot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Layout del Sistem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reación de la tarea en Aren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tienen 8 procesos básic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rear.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acar.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ceso.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cidir.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B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Separ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Asig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Grab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690480" y="1371600"/>
            <a:ext cx="379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1382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¿Quiénes participan en estos Proceso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tidades. Son quienes se mueven a través del sistema. Pueden ser autos, personas, carros de comida, av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cursos: Son quienes participan en los procesos. Pueden ser cajeros, gomas, empleados en gene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juntos de recursos. Son conjuntos de emple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ada participante y proceso presentará comportamientos particulares que se detallan a contin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reando llegad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79480" y="2021040"/>
          <a:ext cx="39686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9480" y="2021040"/>
                    <a:ext cx="39686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 esta estapa se crean las entidades que llegan al sistema. Se les da un nombre, sus tasas de llegada, número de entidades por llegada y capacidad máxima del sis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Sacar y decidir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05160" y="10663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caso de sacar del sistema sólo se le debe hacer alusión por medio de una lín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las decisiones se da un porcentaje de valor, al cual responderá el verdad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e asigna que tipo de entidad estará en el proceso deci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057400" y="1371600"/>
            <a:ext cx="2362320" cy="1320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>
            <a:off x="1066680" y="1905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143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50532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590920"/>
          <a:ext cx="4267080" cy="26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590920"/>
                    <a:ext cx="426708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" y="5410080"/>
          <a:ext cx="4724280" cy="11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410080"/>
                    <a:ext cx="47242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roceso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los procesos se les da un nombre, una acción a ejecutar, los recursos que posee y la distribución del tiempo de retra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Notar que en este caso se le pide que sus recursos sean un “se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" y="1447920"/>
          <a:ext cx="4267080" cy="47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42670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onjuntos de recurs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3962520"/>
          <a:ext cx="419112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62520"/>
                    <a:ext cx="41911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l crear un conjunto, se debe crear el ícono “set” y describir el conjunto y cada uno de sus componentes como se muestra en la figura. Notar que a cada recurso se le podría asignar una distinta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04920" y="1523880"/>
          <a:ext cx="1371600" cy="234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523880"/>
                    <a:ext cx="1371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22:26:44Z</dcterms:created>
  <dc:creator>.. ..</dc:creator>
  <dc:description/>
  <dc:language>en-US</dc:language>
  <cp:lastModifiedBy>.. ..</cp:lastModifiedBy>
  <dcterms:modified xsi:type="dcterms:W3CDTF">2004-06-14T00:50:33Z</dcterms:modified>
  <cp:revision>6</cp:revision>
  <dc:subject/>
  <dc:title>Simulación.</dc:title>
</cp:coreProperties>
</file>