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7BA-F3C8-486C-BFF9-D4036FE7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751-5D66-4AED-A65C-0BCD7D5D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DB62-C36E-4384-AB00-B52DCA3B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F8A-67FF-43BC-BBE2-DCC9D258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97A5-942F-49B4-8110-90669909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E973-FC7D-46DB-B383-D20FB0DF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FD5D-0EB5-4D00-B060-21AE1510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FEB9-A9A5-4EB1-9F76-93548F4E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31AB-D001-4A35-8F60-A5956FD5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FB5F-1B98-4C43-AAC0-33C4FFBA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BE1D-885E-479B-904D-DF9B8130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18A-EB3C-4A5B-821F-3CD82A4C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4178-2D81-4BEC-B405-C242E588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2936-02C9-4DA5-B646-740B20DD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5EBC-DBD2-4002-B83D-99FADC21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62A0-95FA-4CB8-A118-ABFDA71B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3FA1-7D4B-4CD0-86FE-FF89FC06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DC75-9125-4351-B6ED-667BCCAC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C77-459A-4967-A644-34BAB3E4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48D-7018-4127-8992-B543286D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8E1-37C0-4BB0-9496-2E36EA4B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E35-3F44-400D-B1A6-F5D09A4E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AD9-29D7-4AE9-B73A-CBBADADC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09F-3DFB-4381-9D26-DCA7A30F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3A42-812D-423C-BFA0-A2E2BB9DA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AA43-195A-4B57-B8EE-592466883E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27280" y="5105520"/>
            <a:ext cx="381636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atricio Bra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icolás Fr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oreto Tamb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e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68360" y="3500280"/>
                <a:ext cx="455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195640" y="1989000"/>
                <a:ext cx="3570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11280" y="2781360"/>
            <a:ext cx="7405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quivalencia de tasa anual y tasa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340000" y="4869000"/>
                <a:ext cx="3382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,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idiem</cp:lastModifiedBy>
  <dcterms:modified xsi:type="dcterms:W3CDTF">2004-03-24T17:14:33Z</dcterms:modified>
  <cp:revision>18</cp:revision>
  <dc:subject>Evaluación de Proyectos</dc:subject>
  <dc:title>Auxiliar Nº 2</dc:title>
</cp:coreProperties>
</file>