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69A-18F4-41EB-AD8D-D5EE83D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46D-083E-43E0-AE03-7FB6DFB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D3E-F31C-4CE0-BB1E-BF9A9C27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54E-D203-4553-971B-75D1168E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B33D-6B3F-4FC3-A4F9-DE1469A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65EC-7D15-4562-8887-C05AF61B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C2B-ABDD-432A-B32B-AD9B64F2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4F9F-B1EA-498C-BCB3-2CC7FD9D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766F-21E0-4DC5-B3F9-46A64B10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72BC-3DE2-4020-902E-0EA37A5C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05FC-7856-4F6E-B712-399BFF5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64E-0EFF-4874-ABF9-2C86B315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0105-58DC-406B-8CA0-CA4223A8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FF19-E592-458C-B4DA-23D5F473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4D30-129D-47D4-8CB4-146B59F5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D8C8-B4B0-4536-9126-DE6395F0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178-E099-46F9-B0CA-FD0FB91C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094-34EF-4C5E-A372-31666BE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E91C-941A-4910-9BE6-1E7200E2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ADD-DAFE-40C3-9A4B-95352071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C89-7CE3-4347-9BA3-161224B4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5AD-6FD4-40B2-B65B-98F8EBE9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F48-D84A-42C6-9E1A-BE01076F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BE4-3C5E-44C4-8F93-B6CB739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5CAA-7DE0-4583-A42C-50C90B709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BEC-445F-4488-AB41-A1CFC9622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105520"/>
            <a:ext cx="381636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atricio Bra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reto Tamb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idiem</cp:lastModifiedBy>
  <dcterms:modified xsi:type="dcterms:W3CDTF">2004-03-24T17:14:33Z</dcterms:modified>
  <cp:revision>18</cp:revision>
  <dc:subject>Evaluación de Proyectos</dc:subject>
  <dc:title>Auxiliar Nº 2</dc:title>
</cp:coreProperties>
</file>