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DE1-F48C-40A8-86BB-88F7EBDA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D60-7A19-42CD-95E1-14257F2B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EEB-F7EF-4221-B8F3-6E19A527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8F0A-17C4-4D30-9844-B28CAF52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BC46-9CE7-4240-A29F-34DE204E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1E65-E7C0-4378-9E79-30F4B8F1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21E3-0544-4C59-B3D3-C83C747E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B14D-1FA3-4EB1-B620-468EE19F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A08F-DF07-4EFD-B2C5-CDBC84F6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07AD-75C6-45FB-B5C9-8F46E2E9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A594-8722-436A-A3F2-3CAB33CE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D9B-4376-4590-8058-8BD6D5F4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522F-2858-4FC8-9BEC-C6431C08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0C23-1FE2-40CC-AE13-12476DAD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95A9-2166-4FBB-B3F1-F383028B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466F-38E7-4D5D-822C-BD705632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3B06-8484-4374-AE2B-40BAA518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68C-1F0A-4DB6-BD75-8F368E78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D2C-C947-4ECE-ABF0-013A05CC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820-4AE5-4222-8C73-0335CBAC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189-1AD7-4CE4-8621-04369EC1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335-7770-41E0-9FC4-E8B3C650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E7F-A04E-4A08-A958-02B5D27A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A1C-7214-456D-9C43-AD7D1ED1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1281-38C0-4314-BDF3-ABD25D2B4E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9CCE-7F45-4845-ADD8-078BF5D141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27280" y="5105520"/>
            <a:ext cx="381636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atricio Bra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icolás Fr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oreto Tamb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e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3500280"/>
                <a:ext cx="455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195640" y="1989000"/>
                <a:ext cx="3570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1280" y="2781360"/>
            <a:ext cx="7405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quivalencia de tasa anual y tasa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340000" y="4869000"/>
                <a:ext cx="3382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,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idiem</cp:lastModifiedBy>
  <dcterms:modified xsi:type="dcterms:W3CDTF">2004-03-24T17:14:33Z</dcterms:modified>
  <cp:revision>18</cp:revision>
  <dc:subject>Evaluación de Proyectos</dc:subject>
  <dc:title>Auxiliar Nº 2</dc:title>
</cp:coreProperties>
</file>