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32304-2225-4739-8DB7-80B056345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7074A-F5EF-4E3C-AA5B-72DB2B534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8996C-FF10-44D5-B6A7-B4F93F9A8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BD419-A44D-41ED-A587-CBA0F2946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6DD6A-2702-4981-9771-1F5EA9AB1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52855-E8FA-44AD-BE43-1747B4BC7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33BB9-A6AD-48E4-B541-AD6C0053F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B46A7-433A-4402-8D0B-807F1212F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C8018-5900-431A-B2C2-FE474ABCB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8C19D-A0F4-48C8-B3A5-47E23D52B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55160-EE01-4671-91CF-19F2A358C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67DE9-60C0-448D-B0F8-FCC29BB98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0EAEC-90EA-426F-A200-3B71FED7D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8A60D-9CE2-4F2D-9E94-FFC1AABEB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668EA-524A-4FAF-ADBD-0A232D51A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25E62-063E-415D-ADEF-89535D0A1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8F6FE-A87F-446B-B37A-D61D6587E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BA773-1F07-424E-BEEB-827771881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95104-E92D-4A9C-A64F-E79010967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D83D1-925A-4C43-9C9B-DF6C2220D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CE2D2-F54D-4A40-AD2B-D8C758692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B185-7491-4329-9656-B6A486C6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38523-C80C-41BC-B2E7-9185656C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DC70D-1B3C-496E-A145-5393E9D1A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6B16-7695-4788-B43D-E79B0F46D9C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28A5-1472-4464-821F-A7794346BF0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ostos Fijos:</a:t>
            </a:r>
            <a:r>
              <a:rPr b="0" lang="es-ES_tradnl" sz="20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27280"/>
            <a:ext cx="7772400" cy="4533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ostos Variables:</a:t>
            </a:r>
            <a:r>
              <a:rPr b="0" lang="es-ES_tradnl" sz="2000" spc="-1" strike="noStrike">
                <a:solidFill>
                  <a:srgbClr val="000000"/>
                </a:solidFill>
                <a:latin typeface="Tahoma"/>
              </a:rPr>
              <a:t> éstos dependen del volumen de producción, y pueden incluir la compra de insumos, mano de obra directa, distribución,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ago de Intereses por Créditos (también llamado Gastos Financieros):</a:t>
            </a:r>
            <a:r>
              <a:rPr b="0" lang="es-ES_tradnl" sz="20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4000"/>
          </a:bodyPr>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hasta por cinco años, con excepción de las actividades agrícolas y forestales, las que pueden acumular pérdidas de ejercicios anteriores indefinidamente.</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60" name=""/>
          <p:cNvGraphicFramePr/>
          <p:nvPr/>
        </p:nvGraphicFramePr>
        <p:xfrm>
          <a:off x="981000" y="804960"/>
          <a:ext cx="8059680" cy="5668920"/>
        </p:xfrm>
        <a:graphic>
          <a:graphicData uri="http://schemas.openxmlformats.org/presentationml/2006/ole">
            <p:oleObj progId="Excel.Sheet.12" r:id="rId1" spid="">
              <p:embed/>
              <p:pic>
                <p:nvPicPr>
                  <p:cNvPr id="161"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947880" y="395280"/>
          <a:ext cx="8164440" cy="6183360"/>
        </p:xfrm>
        <a:graphic>
          <a:graphicData uri="http://schemas.openxmlformats.org/presentationml/2006/ole">
            <p:oleObj progId="Excel.Sheet.12" r:id="rId1" spid="">
              <p:embed/>
              <p:pic>
                <p:nvPicPr>
                  <p:cNvPr id="163"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6"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2-07-22T17:56:40Z</dcterms:modified>
  <cp:revision>156</cp:revision>
  <dc:subject/>
  <dc:title>Evaluación de Proyectos</dc:title>
</cp:coreProperties>
</file>