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DC05-DE2D-4A9F-B3AB-D8391E6B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0843-1F0F-4D76-A6AE-872DD187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0118-AC43-467D-92EA-60B61EB2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6522-FA5A-4334-AC2C-018904D69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2C88-64CB-47D3-8E51-E3F64A88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B708-1A61-446C-8B3B-313843F8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1EC5-FA0E-44C0-8D03-514BFAB1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CBFF-2617-48EA-AC1D-40ADA011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C834-38BC-4E3E-99B6-E24B289C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C6D2-7250-4C77-8381-51BF316D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1E46-A03F-4AED-85A3-123CA51D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43CA-FE12-40F7-B928-132B74B1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23D2-9674-4247-A399-BEAD1D6E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450C-77AD-4473-A9D0-5868FD6E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5C08-F1F2-4AF2-B9AC-47467115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5D37-E318-4EC8-8F5B-203B6F99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CFA8-A7F6-476B-BB74-C68C81D7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E9C6-A357-45A9-A540-529A76B4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AF3C-603A-4860-A31B-8D2AF1A7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F0D9-67AE-44C0-9B26-39907C92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FEA1-CBC2-4D20-A99E-5DF67352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0CE7-7565-40F1-B8AE-498F9030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E3AE-D9F9-4C52-9C3C-8264FB78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8261-C997-46F5-84C1-BE88F0F0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4094-0458-498B-8F22-D4E27F1F67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6FD6-340E-429A-AC94-61A2039DF8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Optimización de Proyect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13372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J. Patricio Bra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icolás Fr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reto Tamb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09480" y="1295280"/>
          <a:ext cx="8045640" cy="289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804564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762120" y="762120"/>
          <a:ext cx="75438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5438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762120" y="914400"/>
          <a:ext cx="746748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14400"/>
                    <a:ext cx="74674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TIR marginal indica el retorno de un año respecto al anteri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VAN del proyecto liquidando la inversión en cada período, se hace máximo cuando TIRMg =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 o TIRMg = r, entonces ese debe postergar el cor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BAUE del proyecto, repitiendo el proyecto en diferentes períodos, se hace máximo cuando la TIR es máxima o igual a TIRM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el inversionista pudiera comprar y vender árboles repetidamente, entonces el mejor negocio sería comprarlos al final del año 3 y venderlos al final del año 4, ya que con ello obtiene una rentabilidad de 13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ué ocurre, si no corta los árboles al final del período 6 (momento óptimo) y se los vende a otra persona para que los corte más adela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vende el bosque a una persona cuya alternativa es tomar depósitos al 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e cobra por el bosque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67,69, el comprador puede venderlo luego en el año 8 en 191,98, obteniendo una rentabilidad del 7%, ya que:  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abiendo que el Costo de Oportunidad del dinero del comprador es de 5%, entonces el vendedor, podría cobrar el máximo precio posible que es: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91,98/(1,05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74,13             A este precio el VAN del comprador = 0, así entonces, si el dueño del bosque vende su bosque el año 6 en 174,13, obtiene una TIR de: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(174,13/100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1 = 9,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e conviene anticipar la venta del bosque al año 5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precio máximo que se puede obtener por el bosque al final del año 5, es igual al Valor Actualizado de los 191,98 al final del año 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91,98/1,0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65,8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TIR que obtendría el inversionista sería:                                       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(165,84/100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10,6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or lo tanto, si vende el bosque el año 5 es más conven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l postergar la venta al año 6, la rentabilidad marginal que obtiene el dueño del proyecto es 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65,84 * 1,05 = 174,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viene adelantar aún más la vent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respuesta es si, veamos que ocurre si planta y vende instantánea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91,98/1,05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29,9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a ganancia instantánea de 29,9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a situación es de desequilibrio. En un mercado competitivo, las utilidades del negocio harían subir los costos o bajar los precios de venta de la mad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se logra cuando entran nuevos empresarios al negocio de la mad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Localizac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15238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be realizar un análisis comparativo entre una situación base y otras situac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gunos factores que se deben tener en cuen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sto de Transport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stos y Disponibilidad de Mano de Ob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ercanía con proveedor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es Ambient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ercanía con l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Selección entre un set de proyect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447920"/>
            <a:ext cx="77724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a vimos que se pueden jerarquizar los proyec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importa diferenciar ent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independientes: son aquellos proyectos que no afectan sus flujos unos con ot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complementarios dependientes: son proyectos en que la ejecución de uno afecta positivamente los flujos de beneficios netos del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sustitutos: son proyectos en que la ejecución de uno afecta negativamente los flujos de beneficios del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bcbcb"/>
                </a:solidFill>
                <a:latin typeface="Times New Roman"/>
              </a:rPr>
              <a:t>Distribución temporal óptima de inversiones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52388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nemos la posibilidad de talar un bosque hoy, o en los años sucesivos, hasta el año 5. Debido a que los árboles crecerán con el tiempo, se genera mayor flujo en la medida que transcurren los años, de la siguiente form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35812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96252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41148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lujo Futuro       50         64,4       77,5        89,4       100        109,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3657600"/>
            <a:ext cx="556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32767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ño de Ta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46483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que año se debe realizar la inversión, si r=10%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5257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571500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57150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50         58,5       64,0       67,2        68,3        67,9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866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Objetivo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1523880"/>
            <a:ext cx="74678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ido a que buscamos maximizar la riqueza, se puede evaluar para un proyecto el momento óptimo de inicio del proyecto, el tamaño, la localización y momento óptimo de liquidación del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demás, si consideramos que existen restricciones de capital para poder invertir, ya no podremos hacer todos los proyectos, hasta aquél que iguale nuestro costo de oportunidad del din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bcbcb"/>
                </a:solidFill>
                <a:latin typeface="Times New Roman"/>
              </a:rPr>
              <a:t>Elección entre equipos de distinta duración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990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ueremos elegir entre dos equipos que hacen el mismo trabajo, tienen idénticas capacidades, es decir generan los mismos flujos de ingresos, pero el equipo A cuesta $15.000 y dura 3 años, su costo de operación es de $4.000/año. El equipo B, tiene un costo de $10.000, dura dos años y el costo de operación es de $6.000/añ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3733920"/>
            <a:ext cx="815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quip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 (r=1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411480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028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41148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15            4            4            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4          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45720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10            6            6            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20,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3352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stos de cada perí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3733920"/>
            <a:ext cx="4647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55627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ué equipo seleccionamo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33520" y="6858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seleccionar, los proyectos deben tener igual duración, podemos entonces consideran que al término de cada proyecto, se puede volver a comprar el equipo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2666880"/>
            <a:ext cx="822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30481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048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   15            4            4           19           4             4            4            43,69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505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      10            6            16           6          16            6            6            51,22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35053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5909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43800" y="2590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259092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42670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hora podemos comparar los dos equipos y seleccionamos el A, que tiene un VAN de los costos men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38080" y="838080"/>
            <a:ext cx="762012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ambién podemos calcular el flujo equivalente de los co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ost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C/r * (1- 1/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valor de las anualidades es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0,03  (t=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1,76 (t=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sí, el proyecto con equipos A, es equivalente a un egreso anual de 10,03 y el tipo B, equivalente a egreso anual de 11,76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4952880"/>
            <a:ext cx="6476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533412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76520" y="53341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        15           4            4             4   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57150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ualidad              10,03     10,03      10,03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5029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49528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para iniciar un proyecto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600200"/>
            <a:ext cx="74678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bemos que si el VAN de un proyecto es positivo, entonces es conveniente realizarlo, pero es conveniente hacer el proyecto ahora o es mejor esperar un tiemp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puede deberse 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) Cambios en la Tasa de Descu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) Cambios en los fluj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609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1: Proyecto no repetible, con flujos crecientes en el tiempo, como es el caso de inversiones en infraestructura v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20968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-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2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………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25909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2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6668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2666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2666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76720"/>
            <a:ext cx="655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 -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3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………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3733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3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37339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37339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37339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37339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4419720"/>
            <a:ext cx="7315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&gt; 0, entonces es conveniente postergar, esto 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r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+ 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&gt;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541008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54100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410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85800"/>
            <a:ext cx="777240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y  n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 Inv*r           Poster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&gt; Inv*r          no Postergar, en este caso, el costo de capital de la inversión, es igual al beneficio neto del primer fluj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990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1600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2133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352680"/>
            <a:ext cx="7772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2: Proyecto repetible, con flujos crecientes en el 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3: Proyecto no repetible, con flujos crecientes en el tiempo y que dependen además del momento de inicio de la inver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4: Cambios en la tasa de descu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Tamaño de la invers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1600200"/>
            <a:ext cx="7619760" cy="32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quí se puede calcular el VAN marginal, que corresponde al VAN de producir una ampli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es equivalente a calcular un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 y ver si es mayor o menor que c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ambién se puede ver (es equivalente), los flujos que genera el diferencial de inversión en el tiemp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 = 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 +     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4343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4800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33920" y="4267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4800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t=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52578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demos entonces para el proyecto marginal, encontrar un TIR marginal, que en el caso límite, será igual al costo de oportunidad del din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de liquidación de una invers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447920"/>
            <a:ext cx="75438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este caso, se puede calcular el VAN para distintos períodos, debemos ver como evoluciona y estudiar las variaciones de éste de un período a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 t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 VAN    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3048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3048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de reemplazo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1447920"/>
            <a:ext cx="82296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y que maximizar el VPN al infinito, de los diferentes períodos posibles de reemplazo, o lo que es equivalente, maximizar el Beneficio Anual Uniforme Equivalente (BAUE) o minimizar el CA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n/Max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AUE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       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*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3048120"/>
            <a:ext cx="228600" cy="761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3581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72200" y="35812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3048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36576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t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2971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0120" y="3048120"/>
            <a:ext cx="75960" cy="76176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962520"/>
            <a:ext cx="8153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jemplo: Se invierte $100mm en plantar un bosque, el que se puede vender en diferentes años, a mayor precio. Consideremos un costo de oportunidad del dinero de 5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Cuándo se debería vender el bosque si el proyecto no es repetib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 Cada cuantos años es conveniente repetir el proyec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alculem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828800"/>
            <a:ext cx="8229600" cy="28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-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/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AUE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RM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(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-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(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743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2T21:40:55Z</dcterms:created>
  <dc:creator>Mario Morales Parrague</dc:creator>
  <dc:description/>
  <dc:language>en-US</dc:language>
  <cp:lastModifiedBy>idiem</cp:lastModifiedBy>
  <cp:lastPrinted>2004-05-01T19:23:34Z</cp:lastPrinted>
  <dcterms:modified xsi:type="dcterms:W3CDTF">2004-05-01T19:26:30Z</dcterms:modified>
  <cp:revision>7</cp:revision>
  <dc:subject/>
  <dc:title>Optimización de Proyectos</dc:title>
</cp:coreProperties>
</file>