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965B-9585-4B96-80D6-978E4AE58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8D59-B133-4AC3-BCB8-2C0D4CFA2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5908-7EB9-423F-B90F-535877FEB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175C-9DCF-4716-AA3E-9BC8D85DD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BBD1E-68D7-4AD3-B10F-13248DD69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117BA-A511-49FA-82FF-D62FB8AC0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DC5E5-B352-4911-86F9-8B959BD55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2EC45-48E0-4AE4-8E81-439AD0C46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CD0F9-DE51-4395-A93C-5BAE2721F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66597-ABB1-47ED-BE9F-8762B7BAD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2BB5B-5F82-4923-8204-98B45120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EEA0-5BC4-4D1B-8EBC-FC49D5320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E1D97-ECDC-452E-91BC-0A6240B1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1E129-8B15-4FF7-A1CF-81EA69D3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9E9B5-BA8D-46D4-9A1E-B29A8A078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FD6F6-4C00-4063-A0AE-0273A1E00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E1495-8509-4E4E-BB40-62FBFB65B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05CF-B786-4DB7-8EE8-742D60245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D476-2E34-4D4F-A4FD-6C302E999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F044-0263-4659-8B03-526E4CEE3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E3B1-9A09-4CA8-9182-B6CD71CDF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872A-D510-42F9-BE78-EA84C253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230D-7A9A-4943-A026-5BA2A4C2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E4AE-5A3B-4838-B48F-CCE7EFE1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0AEFA-F68F-4745-85A1-24A1826D85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9C614-38ED-4DE0-9E0C-2737A6EA22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bcbcb"/>
                </a:solidFill>
                <a:latin typeface="Times New Roman"/>
              </a:rPr>
              <a:t>Optimización de Proyecto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133720" y="44956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J. Patricio Bra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Nicolás Frit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oreto Tambl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609480" y="1295280"/>
          <a:ext cx="8045640" cy="289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95280"/>
                    <a:ext cx="8045640" cy="28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762120" y="762120"/>
          <a:ext cx="754380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762120"/>
                    <a:ext cx="75438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762120" y="914400"/>
          <a:ext cx="746748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914400"/>
                    <a:ext cx="746748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Comentario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 TIR marginal indica el retorno de un año respecto al anteri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VAN del proyecto liquidando la inversión en cada período, se hace máximo cuando TIRMg = 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0 o TIRMg = r, entonces ese debe postergar el cor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BAUE del proyecto, repitiendo el proyecto en diferentes períodos, se hace máximo cuando la TIR es máxima o igual a TIRM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 el inversionista pudiera comprar y vender árboles repetidamente, entonces el mejor negocio sería comprarlos al final del año 3 y venderlos al final del año 4, ya que con ello obtiene una rentabilidad de 13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Comentario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ué ocurre, si no corta los árboles al final del período 6 (momento óptimo) y se los vende a otra persona para que los corte más adelant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 vende el bosque a una persona cuya alternativa es tomar depósitos al 5%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 le cobra por el bosque 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= 167,69, el comprador puede venderlo luego en el año 8 en 191,98, obteniendo una rentabilidad del 7%, ya que:   TIR = (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/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1/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-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abiendo que el Costo de Oportunidad del dinero del comprador es de 5%, entonces el vendedor, podría cobrar el máximo precio posible que es: 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= 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/(1+r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= 191,98/(1,05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= 174,13             A este precio el VAN del comprador = 0, así entonces, si el dueño del bosque vende su bosque el año 6 en 174,13, obtiene una TIR de: TIR = (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/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1/6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- 1 = (174,13/100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1/6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-1 = 9,7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Comentario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e conviene anticipar la venta del bosque al año 5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l precio máximo que se puede obtener por el bosque al final del año 5, es igual al Valor Actualizado de los 191,98 al final del año 5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= 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/(1+r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= 191,98/1,05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= 165,8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a TIR que obtendría el inversionista sería:                                        TIR = (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/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1/5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- 1 = (165,84/100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1/5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- 1 = 10,65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or lo tanto, si vende el bosque el año 5 es más convenie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l postergar la venta al año 6, la rentabilidad marginal que obtiene el dueño del proyecto es 5%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165,84 * 1,05 = 174,1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Comentario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viene adelantar aún más la vent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 respuesta es si, veamos que ocurre si planta y vende instantáneamen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/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191,98/1,05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129,9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 obtiene una ganancia instantánea de 29,94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a situación es de desequilibrio. En un mercado competitivo, las utilidades del negocio harían subir los costos o bajar los precios de venta de la mader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o se logra cuando entran nuevos empresarios al negocio de la mader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cbcbcb"/>
                </a:solidFill>
                <a:uFillTx/>
                <a:latin typeface="Times New Roman"/>
              </a:rPr>
              <a:t>Localización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38080" y="1523880"/>
            <a:ext cx="754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 debe realizar un análisis comparativo entre una situación base y otras situacio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lgunos factores que se deben tener en cuent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sto de Transport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stos y Disponibilidad de Mano de Obr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ercanía con proveedor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actores Ambiental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ercanía con los merc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cbcbcb"/>
                </a:solidFill>
                <a:uFillTx/>
                <a:latin typeface="Times New Roman"/>
              </a:rPr>
              <a:t>Selección entre un set de proyecto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1447920"/>
            <a:ext cx="77724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a vimos que se pueden jerarquizar los proyect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importa diferenciar entr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yectos independientes: son aquellos proyectos que no afectan sus flujos unos con otr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yectos complementarios dependientes: son proyectos en que la ejecución de uno afecta positivamente los flujos de beneficios netos del ot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yectos sustitutos: son proyectos en que la ejecución de uno afecta negativamente los flujos de beneficios del ot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bcbcb"/>
                </a:solidFill>
                <a:latin typeface="Times New Roman"/>
              </a:rPr>
              <a:t>Distribución temporal óptima de inversiones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152388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enemos la posibilidad de talar un bosque hoy, o en los años sucesivos, hasta el año 5. Debido a que los árboles crecerán con el tiempo, se genera mayor flujo en la medida que transcurren los años, de la siguiente form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" y="358128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90720" y="3962520"/>
            <a:ext cx="7086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14600" y="36576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352680" y="36576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67080" y="36576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81480" y="36576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5880" y="36576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010280" y="36576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90720" y="4114800"/>
            <a:ext cx="72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Flujo Futuro       50         64,4       77,5        89,4       100        109,4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514600" y="3657600"/>
            <a:ext cx="556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95680" y="32767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ño de Ta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90720" y="464832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 que año se debe realizar la inversión, si r=10%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066680" y="525780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43000" y="5715000"/>
            <a:ext cx="7086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43000" y="5715000"/>
            <a:ext cx="72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AN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50         58,5       64,0       67,2        68,3        67,9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14600" y="53341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429000" y="53341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343400" y="53341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57800" y="53341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72200" y="53341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086600" y="53341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Objetivo: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1523880"/>
            <a:ext cx="746784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ido a que buscamos maximizar la riqueza, se puede evaluar para un proyecto el momento óptimo de inicio del proyecto, el tamaño, la localización y momento óptimo de liquidación del proyec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demás, si consideramos que existen restricciones de capital para poder invertir, ya no podremos hacer todos los proyectos, hasta aquél que iguale nuestro costo de oportunidad del dine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bcbcb"/>
                </a:solidFill>
                <a:latin typeface="Times New Roman"/>
              </a:rPr>
              <a:t>Elección entre equipos de distinta duración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990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ueremos elegir entre dos equipos que hacen el mismo trabajo, tienen idénticas capacidades, es decir generan los mismos flujos de ingresos, pero el equipo A cuesta $15.000 y dura 3 años, su costo de operación es de $4.000/año. El equipo B, tiene un costo de $10.000, dura dos años y el costo de operación es de $6.000/añ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62120" y="3733920"/>
            <a:ext cx="8153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quipo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A (r=10%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362320" y="3733920"/>
            <a:ext cx="0" cy="1218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43000" y="4114800"/>
            <a:ext cx="7543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10280" y="3733920"/>
            <a:ext cx="0" cy="1218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066680" y="4114800"/>
            <a:ext cx="746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15            4            4            4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4                 24,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066680" y="4572000"/>
            <a:ext cx="746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10            6            6            6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20,4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29000" y="33526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ostos de cada perío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362320" y="3733920"/>
            <a:ext cx="4647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066680" y="55627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Qué equipo seleccionamo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533520" y="6858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ara seleccionar, los proyectos deben tener igual duración, podemos entonces consideran que al término de cada proyecto, se puede volver a comprar el equipo…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520" y="2666880"/>
            <a:ext cx="8229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2120" y="3048120"/>
            <a:ext cx="78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2120" y="30481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      15            4            4           19           4             4            4            43,69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62120" y="35053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B      10            6            16           6          16            6            6            51,22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2120" y="3505320"/>
            <a:ext cx="78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71600" y="259092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543800" y="2590920"/>
            <a:ext cx="0" cy="1218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71600" y="2590920"/>
            <a:ext cx="6172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38080" y="426708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hora podemos comparar los dos equipos y seleccionamos el A, que tiene un VAN de los costos men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838080" y="838080"/>
            <a:ext cx="762012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ambién podemos calcular el flujo equivalente de los cos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osto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C/r * (1- 1/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valor de las anualidades es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10,03  (t=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11,76 (t=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sí, el proyecto con equipos A, es equivalente a un egreso anual de 10,03 y el tipo B, equivalente a egreso anual de 11,76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990720" y="4952880"/>
            <a:ext cx="6476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76520" y="5334120"/>
            <a:ext cx="5943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76520" y="53341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           15           4            4             4          24,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23880" y="5715000"/>
            <a:ext cx="65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nualidad              10,03     10,03      10,03       24,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19520" y="50292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48520" y="4952880"/>
            <a:ext cx="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cbcbcb"/>
                </a:solidFill>
                <a:uFillTx/>
                <a:latin typeface="Times New Roman"/>
              </a:rPr>
              <a:t>Momento óptimo para iniciar un proyecto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1600200"/>
            <a:ext cx="746784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abemos que si el VAN de un proyecto es positivo, entonces es conveniente realizarlo, pero es conveniente hacer el proyecto ahora o es mejor esperar un tiemp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o puede deberse 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) Cambios en la Tasa de Descu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) Cambios en los fluj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33520" y="6094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so 1: Proyecto no repetible, con flujos crecientes en el tiempo, como es el caso de inversiones en infraestructura v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2209680"/>
            <a:ext cx="655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 -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+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+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2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+ ………+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438280" y="25909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2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743200" y="266688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86200" y="26668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15000" y="2666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76720"/>
            <a:ext cx="655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  -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+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2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+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3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+ ………+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n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76720" y="37339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2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3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n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3733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81080" y="26668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05120" y="2590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38280" y="373392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05320" y="37339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19720" y="373392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00800" y="373392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4419720"/>
            <a:ext cx="73152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 &gt; 0, entonces es conveniente postergar, esto 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- 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+ r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-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+ 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n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&gt;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5410080"/>
            <a:ext cx="2362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57600" y="541008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410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       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n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85800" y="685800"/>
            <a:ext cx="7772400" cy="25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 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y  n           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&lt; Inv*r           Posterg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&gt; Inv*r          no Postergar, en este caso, el costo de capital de la inversión, es igual al beneficio neto del primer fluj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43200" y="9907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62320" y="16002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62320" y="21337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3352680"/>
            <a:ext cx="77724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so 2: Proyecto repetible, con flujos crecientes en el tiem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so 3: Proyecto no repetible, con flujos crecientes en el tiempo y que dependen además del momento de inicio de la invers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so 4: Cambios en la tasa de descu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cbcbcb"/>
                </a:solidFill>
                <a:uFillTx/>
                <a:latin typeface="Times New Roman"/>
              </a:rPr>
              <a:t>Tamaño de la inversión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1600200"/>
            <a:ext cx="7619760" cy="32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quí se puede calcular el VAN marginal, que corresponde al VAN de producir una ampli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o es equivalente a calcular un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  y ver si es mayor o menor que ce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ambién se puede ver (es equivalente), los flujos que genera el diferencial de inversión en el tiemp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  = -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 +     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657600" y="43434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91120" y="480060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038480" y="4724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733920" y="42670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33920" y="48006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t=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52578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odemos entonces para el proyecto marginal, encontrar un TIR marginal, que en el caso límite, será igual al costo de oportunidad del dine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cbcbcb"/>
                </a:solidFill>
                <a:uFillTx/>
                <a:latin typeface="Times New Roman"/>
              </a:rPr>
              <a:t>Momento óptimo de liquidación de una inversión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1447920"/>
            <a:ext cx="754380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 este caso, se puede calcular el VAN para distintos períodos, debemos ver como evoluciona y estudiar las variaciones de éste de un período a ot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 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 t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&lt; VAN    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057400" y="30481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352680" y="30481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cbcbcb"/>
                </a:solidFill>
                <a:uFillTx/>
                <a:latin typeface="Times New Roman"/>
              </a:rPr>
              <a:t>Momento óptimo de reemplazo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20" y="1447920"/>
            <a:ext cx="822960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Hay que maximizar el VPN al infinito, de los diferentes períodos posibles de reemplazo, o lo que es equivalente, maximizar el Beneficio Anual Uniforme Equivalente (BAUE) o minimizar el CAU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n/Max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AUE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        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* 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3048120"/>
            <a:ext cx="228600" cy="76176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35812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172200" y="358128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05520" y="35053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-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48320" y="30481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48320" y="36576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t =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724280" y="29718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20120" y="3048120"/>
            <a:ext cx="75960" cy="761760"/>
          </a:xfrm>
          <a:custGeom>
            <a:avLst/>
            <a:gdLst>
              <a:gd name="textAreaLeft" fmla="*/ 0 w 75960"/>
              <a:gd name="textAreaRight" fmla="*/ 27360 w 7596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3962520"/>
            <a:ext cx="815364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jemplo: Se invierte $100mm en plantar un bosque, el que se puede vender en diferentes años, a mayor precio. Consideremos un costo de oportunidad del dinero de 5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¿Cuándo se debería vender el bosque si el proyecto no es repetibl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¿ Cada cuantos años es conveniente repetir el proyect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Calculemos: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1828800"/>
            <a:ext cx="8229600" cy="28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- 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+ 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/ 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AUE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VAN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* 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IRMg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(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/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-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IR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(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/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1/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-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274320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2819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2T21:40:55Z</dcterms:created>
  <dc:creator>Mario Morales Parrague</dc:creator>
  <dc:description/>
  <dc:language>en-US</dc:language>
  <cp:lastModifiedBy>idiem</cp:lastModifiedBy>
  <cp:lastPrinted>2004-05-01T19:23:34Z</cp:lastPrinted>
  <dcterms:modified xsi:type="dcterms:W3CDTF">2004-05-01T19:26:30Z</dcterms:modified>
  <cp:revision>7</cp:revision>
  <dc:subject/>
  <dc:title>Optimización de Proyectos</dc:title>
</cp:coreProperties>
</file>