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A73-A389-449E-B07E-76CC482D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7CF-B239-40B7-9E19-2D7A7D00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B99-21BD-4BC3-9683-C8F7B319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F7E-3C00-4109-93A9-9B273C4A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06EE-9FA9-43C4-912C-DFC0FD6A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5E97-B5C4-4A1E-BDCE-5F98FA18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CC1A-0755-491E-B3B9-F259BAC7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6719-1881-4BF3-829E-4BD0678B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A2B2-C44F-49B8-8203-1AEF4FA9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C662-C538-46B0-8B5D-ED885A0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A1BD-1F06-45A6-B8B0-D332FBF8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470-F58B-495A-B04B-871959FB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2FA8-D396-4DF1-A674-7090DD7D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13A4-CA7B-492B-AD87-D8B123E9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8356-2863-455D-A875-3DB9FB7B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1ED0-F17A-44A6-8D5D-570CD037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1041-E77C-4431-9150-9651CF54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2C3-A853-4033-81C6-C39502D5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08F-437D-4EF3-B2AA-D34EC53F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077-F61A-4EB7-8487-800E5F0F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198-38CD-4785-9FD5-87020518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986-A7B7-4537-AFED-7AF02A79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503-37CC-4F85-9E3A-8AD6AF43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9DF-8899-4603-8F62-E9FEAD09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9238-24C8-40B6-B37F-7F0AD9DC0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DB4E-C67F-4162-8C67-C6F0A6EAB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bcbcb"/>
                </a:solidFill>
                <a:latin typeface="Times New Roman"/>
              </a:rPr>
              <a:t>Optimización de Proyect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13372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09480" y="1295280"/>
          <a:ext cx="8045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45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762120" y="762120"/>
          <a:ext cx="75438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762120" y="914400"/>
          <a:ext cx="74674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467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o TIRMg = r, entonces ese debe postergar el cor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inversionista pudiera comprar y vender árboles repetidamente, entonces el mejor negocio sería comprarlos al final del año 3 y venderlos al final del año 4, ya que con ello obtiene una rentabilidad de 1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é ocurre, si no corta los árboles al final del período 6 (momento óptimo) y se los vende a otra persona para que los corte más adela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vende el bosque a una persona cuya alternativa es tomar depósitos al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e cobra por el bosque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7,69, el comprador puede venderlo luego en el año 8 en 191,98, obteniendo una rentabilidad del 7%, ya que: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abiendo que el Costo de Oportunidad del dinero del comprador es de 5%, entonces el vendedor, podría cobrar el máximo precio posible que es: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(1,05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74,13             A este precio el VAN del comprador = 0, así entonces, si el dueño del bosque vende su bosque el año 6 en 174,13, obtiene una TIR de: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74,13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1 = 9,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e conviene anticipar la venta del bosque al año 5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precio máximo que se puede obtener por el bosque al final del año 5, es igual al Valor Actualizado de los 191,98 al final del año 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= 165,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que obtendría el inversionista sería:                                        TIR = (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(165,84/100)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1/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 1 = 10,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r lo tanto, si vende el bosque el año 5 es más conven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 postergar la venta al año 6, la rentabilidad marginal que obtiene el dueño del proyecto es 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65,84 * 1,05 = 174,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omentari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viene adelantar aún más la ven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es si, veamos que ocurre si planta y vende instantánea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91,98/1,05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29,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a ganancia instantánea de 29,9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a situación es de desequilibrio. En un mercado competitivo, las utilidades del negocio harían subir los costos o bajar los precios de venta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se logra cuando entran nuevos empresarios al negocio de la made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Localizac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Selección entre un set de proyecto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47920"/>
            <a:ext cx="77724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mporta diferenciar ent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: son aquellos proyectos que no afectan sus flujos unos con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complementarios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sustitutos: son proyectos en que la ejecución de uno afecta negativamente los flujos de beneficios del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Distribución temporal óptima de inversion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3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emos la posibilidad de talar un bosque hoy, o en los años sucesivos, hasta el año 5. Debido a que los árboles crecerán con el tiempo, se genera mayor flujo en la medida que transcurren los años, de la siguiente form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35812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9625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6576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41148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lujo Futuro       50         64,4       77,5        89,4       100        109,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6576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3276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ño de T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46483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que año se debe realizar la inversión, si r=10%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257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71500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715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50         58,5       64,0       67,2        68,3        67,9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53341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523880"/>
            <a:ext cx="7467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ido a que buscamos maximizar la riqueza, se puede evaluar para un proyecto el momento óptimo de inicio del proyecto, el tamaño, la localización y momento óptimo de liquidación del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, si consideramos que existen restricciones de capital para poder invertir, ya no podremos hacer todos los proyectos, hasta aquél que iguale nuestro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bcbcb"/>
                </a:solidFill>
                <a:latin typeface="Times New Roman"/>
              </a:rPr>
              <a:t>Elección entre equipos de distinta duración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990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ueremos elegir entre dos equipos que hacen el mismo trabajo, tienen idénticas capacidades, es decir generan los mismos flujos de ingresos, pero el equipo A cuesta $15.000 y dura 3 años, su costo de operación es de $4.000/año. El equipo B, tiene un costo de $10.000, dura dos años y el costo de operación es de $6.000/a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3733920"/>
            <a:ext cx="815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 (r=1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1148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5            4            4            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4       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57200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10            6            6            6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20,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stos de cada perí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3733920"/>
            <a:ext cx="464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55627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é equipo seleccionam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33520" y="685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seleccionar, los proyectos deben tener igual duración, podemos entonces consideran que al término de cada proyecto, se puede volver a comprar el equipo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822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0481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048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15            4            4           19           4             4            4            43,69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505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      10            6            16           6          16            6            6            51,22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350532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5909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3800" y="2590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59092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4267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hora podemos comparar los dos equipos y seleccionamos el A, que tiene un VAN de los costos men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838080"/>
            <a:ext cx="76201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podemos calcular el flujo equivalente de los co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ost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C/r * (1- 1/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valor de las anualidades 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0,03  (t=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11,76 (t=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í, el proyecto con equipos A, es equivalente a un egreso anual de 10,03 y el tipo B, equivalente a egreso anual de 11,76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4952880"/>
            <a:ext cx="6476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53341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53341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        15           4            4             4   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1500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ualidad              10,03     10,03      10,03       24,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029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para iniciar un proyect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600200"/>
            <a:ext cx="74678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bemos que si el VAN de un proyecto es positivo, entonces es conveniente realizarlo, pero es conveniente hacer el proyecto ahora o es mejor esperar un tiemp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puede deberse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1: Proyecto no repetible, con flujos crecientes en el tiempo, como es el caso de inversiones en infraestructura 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2096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590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2666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666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76720"/>
            <a:ext cx="655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-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3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………+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3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6668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733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7339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441972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&gt; 0, entonces es conveniente postergar, esto 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r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+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541008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10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+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85800"/>
            <a:ext cx="77724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y  n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Inv*r           Poster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gt; Inv*r          no Postergar, en este caso, el costo de capital de la inversión, es igual al beneficio neto del primer flu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990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1600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352680"/>
            <a:ext cx="7772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2: Proyecto repetible, con flujos crecientes en 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3: Proyecto no repetible, con flujos crecientes en el tiempo y que dependen además del momento de inicio de la inver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so 4: Cambios en la tasa de descu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Tamaño de l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600200"/>
            <a:ext cx="76197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quí se puede calcular el VAN marginal, que corresponde al VAN de producir una ampli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o es equivalente a calcular un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y ver si es mayor o menor que c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ambién se puede ver (es equivalente), los flujos que genera el diferencial de inversión en el tiemp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 = 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 +    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343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4800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4267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4800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2578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demos entonces para el proyecto marginal, encontrar un TIR marginal, que en el caso límite, será igual al costo de oportunidad del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liquidación de una inversió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447920"/>
            <a:ext cx="75438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ste caso, se puede calcular el VAN para distintos períodos, debemos ver como evoluciona y estudiar las variaciones de éste de un período a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t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VAN  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048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cbcbcb"/>
                </a:solidFill>
                <a:uFillTx/>
                <a:latin typeface="Times New Roman"/>
              </a:rPr>
              <a:t>Momento óptimo de reemplazo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44792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y que maximizar el VPN al infinito, de los diferentes períodos posibles de reemplazo, o lo que es equivalente, maximizar el Beneficio Anual Uniforme Equivalente (BAUE) o minimizar el CA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n/Ma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          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*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04812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35812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3048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657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t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9718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048120"/>
            <a:ext cx="75960" cy="76176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962520"/>
            <a:ext cx="8153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emplo: Se invierte $100mm en plantar un bosque, el que se puede vender en diferentes años, a mayor precio. Consideremos un costo de oportunidad del dinero de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ándo se debería vender el bosque si el proyecto no es repeti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ada cuantos años es conveniente repetir el proy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bcbcb"/>
                </a:solidFill>
                <a:latin typeface="Times New Roman"/>
              </a:rPr>
              <a:t>Calculemos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828800"/>
            <a:ext cx="822960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-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 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AU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VAN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M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(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/V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1/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2743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40:55Z</dcterms:created>
  <dc:creator>Mario Morales Parrague</dc:creator>
  <dc:description/>
  <dc:language>en-US</dc:language>
  <cp:lastModifiedBy>idiem</cp:lastModifiedBy>
  <cp:lastPrinted>2004-05-01T19:23:34Z</cp:lastPrinted>
  <dcterms:modified xsi:type="dcterms:W3CDTF">2004-05-01T19:26:30Z</dcterms:modified>
  <cp:revision>7</cp:revision>
  <dc:subject/>
  <dc:title>Optimización de Proyectos</dc:title>
</cp:coreProperties>
</file>