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519-FB41-4DEB-AB70-D30A1172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25B-9712-4835-B0F0-848FEE8A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818-3AB2-4774-8D2E-244701A6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124-6535-4743-BF9C-F07CB5C4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04CF-2656-4635-99C3-D7469416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AEDD-026F-4327-BC1E-86A1E715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6F4E-201D-4B3D-A176-EF8363B7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EDB2-8545-4A53-972A-40504306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A7FB-F237-41EF-AE54-92F86683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9231-C87B-4B3B-B842-7B4ED8B6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5C7F-D958-405F-A059-C165CF15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5DB-0C8B-49F8-9C9D-F4A51EC9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7D75-58AC-4A93-B836-5AEE00C2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B5EE-5971-4B7C-AF49-FA97E6D8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9896-FD55-41C7-BD64-D84741E8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AA9D-48F1-419A-8625-8FB8F3B8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A7E4-43C5-4FC4-B777-192A872A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4D8-BA8E-4D5F-A722-259C0F1C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D1F-4904-4DC0-B979-9358ED78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E97-5B7A-40ED-9E78-D50C1418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AB7-60F6-41C9-AC11-078B3470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E78-581D-4CC4-94F4-122E11B7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4F83-9A7A-4693-A20F-B95E0B22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485-79A4-48DB-8854-6E324256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D055-BE04-470F-88D6-80DCFD67C5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7ABC-7467-4709-A209-DC1EE4D19F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Optimización de Proyect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13372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. Patricio Bra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icolás F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reto Tamb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09480" y="1295280"/>
          <a:ext cx="804564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4564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762120" y="762120"/>
          <a:ext cx="75438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43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762120" y="914400"/>
          <a:ext cx="7467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467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TIR marginal indica el retorno de un año respecto al an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N del proyecto liquidando la inversión en cada período, se hace máximo cuando TIRMg =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o TIRMg = r, entonces ese debe postergar el c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BAUE del proyecto, repitiendo el proyecto en diferentes períodos, se hace máximo cuando la TIR es máxima o igual a TIRM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el inversionista pudiera comprar y vender árboles repetidamente, entonces el mejor negocio sería comprarlos al final del año 3 y venderlos al final del año 4, ya que con ello obtiene una rentabilidad de 1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é ocurre, si no corta los árboles al final del período 6 (momento óptimo) y se los vende a otra persona para que los corte más adela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vende el bosque a una persona cuya alternativa es tomar depósitos al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e cobra por el bosque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7,69, el comprador puede venderlo luego en el año 8 en 191,98, obteniendo una rentabilidad del 7%, ya que: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abiendo que el Costo de Oportunidad del dinero del comprador es de 5%, entonces el vendedor, podría cobrar el máximo precio posible que es: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(1,05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74,13             A este precio el VAN del comprador = 0, así entonces, si el dueño del bosque vende su bosque el año 6 en 174,13, obtiene una TIR de: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74,13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1 = 9,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 conviene anticipar la venta del bosque al año 5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precio máximo que se puede obtener por el bosque al final del año 5, es igual al Valor Actualizado de los 191,98 al final del año 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5,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TIR que obtendría el inversionista sería:                                     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65,84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10,6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lo tanto, si vende el bosque el año 5 es más conven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 postergar la venta al año 6, la rentabilidad marginal que obtiene el dueño del proyecto es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65,84 * 1,05 = 174,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viene adelantar aún más la ven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espuesta es si, veamos que ocurre si planta y vende instantánea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29,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a ganancia instantánea de 29,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 situación es de desequilibrio. En un mercado competitivo, las utilidades del negocio harían subir los costos o bajar los precios de venta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se logra cuando entran nuevos empresarios al negocio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Localizac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5238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be realizar un análisis comparativo entre una situación base y otras situ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gunos factores que se deben tener en cuen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 de Transpor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s y Disponibilidad de Mano de Ob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proveed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es Ambient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Selección entre un set de proyect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44792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vimos que se pueden jerarquizar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importa diferenciar ent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independientes: son aquellos proyectos que no afectan sus flujos unos con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complementarios dependientes: son proyectos en que la ejecución de uno afecta positivamente los flujos de beneficios net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sustitutos: son proyectos en que la ejecución de uno afecta negativamente los flujos de benefici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Distribución temporal óptima de inversion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238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emos la posibilidad de talar un bosque hoy, o en los años sucesivos, hasta el año 5. Debido a que los árboles crecerán con el tiempo, se genera mayor flujo en la medida que transcurren los años, de la siguiente form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3581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96252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41148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lujo Futuro       50         64,4       77,5        89,4       100        109,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6576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3276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ño de T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46483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que año se debe realizar la inversión, si r=10%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257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5715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715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50         58,5       64,0       67,2        68,3        67,9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23880"/>
            <a:ext cx="74678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ido a que buscamos maximizar la riqueza, se puede evaluar para un proyecto el momento óptimo de inicio del proyecto, el tamaño, la localización y momento óptimo de liquidación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, si consideramos que existen restricciones de capital para poder invertir, ya no podremos hacer todos los proyectos, hasta aquél que iguale nuestro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Elección entre equipos de distinta duración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990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eremos elegir entre dos equipos que hacen el mismo trabajo, tienen idénticas capacidades, es decir generan los mismos flujos de ingresos, pero el equipo A cuesta $15.000 y dura 3 años, su costo de operación es de $4.000/año. El equipo B, tiene un costo de $10.000, dura dos años y el costo de operación es de $6.000/a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73392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 (r=1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1148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5            4            4            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4       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45720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0            6            6            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20,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stos de cada perí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37339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5562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é equipo seleccionam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685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seleccionar, los proyectos deben tener igual duración, podemos entonces consideran que al término de cada proyecto, se puede volver a comprar el equipo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6668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0481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15            4            4           19           4             4            4            43,69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505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      10            6            16           6          16            6            6            51,22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053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5909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3800" y="2590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59092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267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hora podemos comparar los dos equipos y seleccionamos el A, que tiene un VAN de los costos men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838080"/>
            <a:ext cx="76201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podemos calcular el flujo equivalente de los co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st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C/r * (1- 1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lor de las anualidades 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0,03  (t=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1,76 (t=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í, el proyecto con equipos A, es equivalente a un egreso anual de 10,03 y el tipo B, equivalente a egreso anual de 11,76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4952880"/>
            <a:ext cx="6476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5334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53341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     15           4            4             4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715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ualidad              10,03     10,03      10,03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5029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para iniciar un proyect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600200"/>
            <a:ext cx="74678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bemos que si el VAN de un proyecto es positivo, entonces es conveniente realizarlo, pero es conveniente hacer el proyecto ahora o es mejor esperar un tiem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puede deberse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Cambios en los flu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1: Proyecto no repetible, con flujos crecientes en el tiempo, como es el caso de inversiones en infraestructura 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2096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590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666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2666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7672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3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733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3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733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733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733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419720"/>
            <a:ext cx="7315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&gt; 0, entonces es conveniente postergar, esto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r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+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100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41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85800"/>
            <a:ext cx="77724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y  n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Inv*r           Poster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&gt; Inv*r          no Postergar, en este caso, el costo de capital de la inversión, es igual al beneficio neto del primer flu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990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1600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35268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2: Proyecto repetible, con flujos crecientes en el 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3: Proyecto no repetible, con flujos crecientes en el tiempo y que dependen además del momento de inicio de la inver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4: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Tamaño de l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600200"/>
            <a:ext cx="761976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quí se puede calcular el VAN marginal, que corresponde al VAN de producir una ampli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es equivalente a calcular un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y ver si es mayor o menor que c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se puede ver (es equivalente), los flujos que genera el diferencial de inversión en el tiemp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= 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 +    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343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4800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4267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4800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257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demos entonces para el proyecto marginal, encontrar un TIR marginal, que en el caso límite, será igual al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liquidación de un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47920"/>
            <a:ext cx="75438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este caso, se puede calcular el VAN para distintos períodos, debemos ver como evoluciona y estudiar las variaciones de éste de un período a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t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VAN   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reemplaz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447920"/>
            <a:ext cx="8229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y que maximizar el VPN al infinito, de los diferentes períodos posibles de reemplazo, o lo que es equivalente, maximizar el Beneficio Anual Uniforme Equivalente (BAUE) o minimizar el CA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n/Max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     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*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04812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657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971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3048120"/>
            <a:ext cx="75960" cy="76176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962520"/>
            <a:ext cx="8153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jemplo: Se invierte $100mm en plantar un bosque, el que se puede vender en diferentes años, a mayor precio. Consideremos un costo de oportunidad del dinero de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ndo se debería vender el bosque si el proyecto no es repeti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 Cada cuantos años es conveniente repetir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alculem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828800"/>
            <a:ext cx="8229600" cy="28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-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M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21:40:55Z</dcterms:created>
  <dc:creator>Mario Morales Parrague</dc:creator>
  <dc:description/>
  <dc:language>en-US</dc:language>
  <cp:lastModifiedBy>idiem</cp:lastModifiedBy>
  <cp:lastPrinted>2004-05-01T19:23:34Z</cp:lastPrinted>
  <dcterms:modified xsi:type="dcterms:W3CDTF">2004-05-01T19:26:30Z</dcterms:modified>
  <cp:revision>7</cp:revision>
  <dc:subject/>
  <dc:title>Optimización de Proyectos</dc:title>
</cp:coreProperties>
</file>