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81d58"/>
                </a:solidFill>
                <a:latin typeface="Times New Roman"/>
              </a:rPr>
              <a:t>Análisis de portafolios y diversificación de Invers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61800" y="5029200"/>
            <a:ext cx="842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Priorización de inversiones con restricción de capit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stricción: 10 UM, Criterio ordenar por VPN hasta agotar capital =&gt; Hacer sólo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o si hacemos B+C =&gt; VPNbc = 28, ¡Mejor que A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olución para evitar el análisis combinatorio: 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º :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º :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3º :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Priorización de inversiones con restricción de capit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rva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ando la combinación seleccionada según IR no agota todo el capital disponible, se llega a contradicciones (respecto a la última inversió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utiliza indicador equivalente al IR denominado IVAN = VPN /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iorización y diversificación de Inversion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n restricciones de capit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independ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dependientes (sustitutos o complementar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 restricciones de capit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independientes (I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yectos dependientes (Modelos de Optimización -Markowitz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Priorización de Inversiones sin restricciones de capit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versiones independientes entre s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cisión: Hacer todos los de VPN &gt; 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versiones dependientes entre s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versiones complementari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do VPNa &gt;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VPNb 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PNa &gt; 0 =&gt; Hacer B y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PNa: Incremento en VPNa debido a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Priorización de Inversiones sin restricciones de capit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versiones dependientes entre s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versiones sustitu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do VP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hago B =&gt;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PNa  (disminuye VP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PNab = VPNb + VPN’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PN’a = VPNa -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VP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VPNab &gt; 0 =&gt; Hacer A y B ssi VPNab&gt;VP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Priorización de Inversiones sin restricciones de capital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versiones dependientes entre s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versiones sustitu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eta  Calcular VPNa, VPNb, VPNa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egir el may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Priorización de Inversiones sin restricciones de capit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2743200"/>
          <a:ext cx="761976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43200"/>
                    <a:ext cx="76197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Priorización de Inversiones sin restricciones de capital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bservaciones respecto al método del mayor VP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s de la intersección de Fisc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sas de descuento altas “castigan inversiones alta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jemplo: Auto nuevo vs. Auto us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Priorización de Inversiones sin restricciones de capital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stos de Inversión y manten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to nuevo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to usado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PC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&gt;20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uev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sa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5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a r &gt;20% VPCnuevo&gt;VPCus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ta: 200 = 100 + 10/0,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Priorización de inversiones con restricción de capit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so de proyectos independi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riterio: Seleccionar las inversiones tales que su VPN conjunto sea el máxim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y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F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1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P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P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-1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31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3,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4,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-5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7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3,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R = VP /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P: Valor presente de benef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29T23:48:26Z</dcterms:created>
  <dc:creator>Eduardo Contreras</dc:creator>
  <dc:description/>
  <dc:language>en-US</dc:language>
  <cp:lastModifiedBy>pccbereng</cp:lastModifiedBy>
  <cp:lastPrinted>1997-06-27T12:45:24Z</cp:lastPrinted>
  <dcterms:modified xsi:type="dcterms:W3CDTF">2001-09-10T21:39:42Z</dcterms:modified>
  <cp:revision>8</cp:revision>
  <dc:subject>Selección de portafolios</dc:subject>
  <dc:title>Gestión Financiera-Tema 6</dc:title>
</cp:coreProperties>
</file>