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7F7BC-8C12-4EBA-A2D7-73A32A6DB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9FABB-B479-4BE1-B0CD-6A58FB954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FEFC5-2748-402A-8102-573A66635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B0707-5988-496D-B66B-9A275C02F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78E4F-C33E-4153-8448-86458F8CA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DF70D-227D-472A-B0D4-D6B9E40B4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F59AD-C896-446E-9D6B-9344026B0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6C815-55F1-4439-B542-BB6E5B79D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87775-6BEB-41C4-A3DE-F630C31AF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CF89B-E39A-419A-88C3-D6A5112B0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5CFCD-77E4-496A-9439-E87501503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A3F8F-AD56-4031-AAD7-B5BC75FA2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00BBF-9AB4-430D-97C0-75E285B77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F545C-6AA7-4348-B8CC-5651C825E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7F3CC-957A-4179-ACAC-A72DFF7A3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37FE8-9AE4-4D7A-8F59-935BA594C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76B6F-EAAB-4CB5-A715-1AB660EF4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5310E-B4E3-4AAC-8971-F88083AB3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F89ED-B62C-49A1-BAA7-B1DF40620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6258A-FFC9-447E-BCC2-18D75B235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18A06-F2DD-49D1-AD4F-51774197F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6B99D-C9E0-4F8D-96F9-7F857CA09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C33B2-5501-4552-B116-05FBE272F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A4C2E-490A-4E35-912B-26483BBDE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53AB-C8FE-4F21-9F15-E2FCBE1C972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BE18-BAF5-40EA-A90F-F8231493FB6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ostos Fijos:</a:t>
            </a:r>
            <a:r>
              <a:rPr b="0" lang="es-ES_tradnl" sz="20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27280"/>
            <a:ext cx="7772400" cy="4533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ostos Variables:</a:t>
            </a:r>
            <a:r>
              <a:rPr b="0" lang="es-ES_tradnl" sz="2000" spc="-1" strike="noStrike">
                <a:solidFill>
                  <a:srgbClr val="000000"/>
                </a:solidFill>
                <a:latin typeface="Tahoma"/>
              </a:rPr>
              <a:t> éstos dependen del volumen de producción, y pueden incluir la compra de insumos, mano de obra directa, distribución,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ago de Intereses por Créditos (también llamado Gastos Financieros):</a:t>
            </a:r>
            <a:r>
              <a:rPr b="0" lang="es-ES_tradnl" sz="20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4000"/>
          </a:bodyPr>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hasta por cinco años, con excepción de las actividades agrícolas y forestales, las que pueden acumular pérdidas de ejercicios anteriores indefinidamente.</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60" name=""/>
          <p:cNvGraphicFramePr/>
          <p:nvPr/>
        </p:nvGraphicFramePr>
        <p:xfrm>
          <a:off x="981000" y="804960"/>
          <a:ext cx="8059680" cy="5668920"/>
        </p:xfrm>
        <a:graphic>
          <a:graphicData uri="http://schemas.openxmlformats.org/presentationml/2006/ole">
            <p:oleObj progId="Excel.Sheet.12" r:id="rId1" spid="">
              <p:embed/>
              <p:pic>
                <p:nvPicPr>
                  <p:cNvPr id="161"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947880" y="395280"/>
          <a:ext cx="8164440" cy="6183360"/>
        </p:xfrm>
        <a:graphic>
          <a:graphicData uri="http://schemas.openxmlformats.org/presentationml/2006/ole">
            <p:oleObj progId="Excel.Sheet.12" r:id="rId1" spid="">
              <p:embed/>
              <p:pic>
                <p:nvPicPr>
                  <p:cNvPr id="163"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6"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2-07-22T17:56:40Z</dcterms:modified>
  <cp:revision>156</cp:revision>
  <dc:subject/>
  <dc:title>Evaluación de Proyectos</dc:title>
</cp:coreProperties>
</file>