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A87B1-0757-4930-A7C6-8DF83CF0A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B7484-3760-485F-ABCA-2C6E1AE80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4F577-4CB6-447B-B24B-8B707B9A0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93B29-87CA-4222-BFBB-1ACD80818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59648-525E-4E6B-B544-96D65E6C8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54732-98A6-4E62-AE5A-A14451667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FA8CC-8B4D-44A7-8E69-2589BC0DA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1B59E-D1ED-46C8-9812-EA5491271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C3843-9CC3-486A-B1C4-DA40DAE9E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96EF1-6464-4788-907A-AD2BBD2C0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64D82-920D-496F-A097-E0B90B4DB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220FB-DADF-4E9C-89E3-42540FAC5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8059E-8D18-4907-8174-C100A0A19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80E01-E936-493E-A166-53139A536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CBC46-8078-4E72-A33C-DB576910E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14D81-891C-47EB-8B99-237051317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A5E35-ADE2-47E5-829D-E19B9BC73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60AB5-D78B-4686-A12C-98104E9AF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410B-EA7A-4DB8-B3CB-8EF684DCE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6D2EB-5521-4225-A0E7-5D2486894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1A198-FA03-4459-B386-F4D7A7A41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763F-852B-4699-BB19-59AA67023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AC975-6C78-4DD8-BED8-B72564F7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A43A-77EE-465C-8A58-E2CF0E5FE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AB1C-1BCF-4060-93E2-BFD8AD36F8E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DA1C-8502-45BE-82A5-58F2805B254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ostos Fijos:</a:t>
            </a:r>
            <a:r>
              <a:rPr b="0" lang="es-ES_tradnl" sz="20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27280"/>
            <a:ext cx="7772400" cy="4533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ostos Variables:</a:t>
            </a:r>
            <a:r>
              <a:rPr b="0" lang="es-ES_tradnl" sz="2000" spc="-1" strike="noStrike">
                <a:solidFill>
                  <a:srgbClr val="000000"/>
                </a:solidFill>
                <a:latin typeface="Tahoma"/>
              </a:rPr>
              <a:t> éstos dependen del volumen de producción, y pueden incluir la compra de insumos, mano de obra directa, distribución,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ago de Intereses por Créditos (también llamado Gastos Financieros):</a:t>
            </a:r>
            <a:r>
              <a:rPr b="0" lang="es-ES_tradnl" sz="20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4000"/>
          </a:bodyPr>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hasta por cinco años, con excepción de las actividades agrícolas y forestales, las que pueden acumular pérdidas de ejercicios anteriores indefinidamente.</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35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60" name=""/>
          <p:cNvGraphicFramePr/>
          <p:nvPr/>
        </p:nvGraphicFramePr>
        <p:xfrm>
          <a:off x="981000" y="804960"/>
          <a:ext cx="8059680" cy="5668920"/>
        </p:xfrm>
        <a:graphic>
          <a:graphicData uri="http://schemas.openxmlformats.org/presentationml/2006/ole">
            <p:oleObj progId="Excel.Sheet.12" r:id="rId1" spid="">
              <p:embed/>
              <p:pic>
                <p:nvPicPr>
                  <p:cNvPr id="161"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2" name=""/>
          <p:cNvGraphicFramePr/>
          <p:nvPr/>
        </p:nvGraphicFramePr>
        <p:xfrm>
          <a:off x="947880" y="395280"/>
          <a:ext cx="8164440" cy="6183360"/>
        </p:xfrm>
        <a:graphic>
          <a:graphicData uri="http://schemas.openxmlformats.org/presentationml/2006/ole">
            <p:oleObj progId="Excel.Sheet.12" r:id="rId1" spid="">
              <p:embed/>
              <p:pic>
                <p:nvPicPr>
                  <p:cNvPr id="163"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6"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2-07-22T17:56:40Z</dcterms:modified>
  <cp:revision>156</cp:revision>
  <dc:subject/>
  <dc:title>Evaluación de Proyectos</dc:title>
</cp:coreProperties>
</file>