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9BD1-F82A-48F2-B3DC-8CB00478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E49-8EE5-44E5-9B68-86A0D018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19B-37AC-47B0-9734-CCC2A9EA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EA42-B590-4B5A-85C0-4BA637FC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A4F9-23AF-4B52-B435-40B80F16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12CF-A80F-4AC1-99B7-90CAD52B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12FF-CC98-4E1F-9E01-B9A3FD2C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8510-8046-41D5-A19B-281B8935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C252-8CD1-490D-A45A-5E4B68AD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F909-0EFC-496A-9BFE-27469AE9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3285-B6B8-4033-8368-01A2E152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C29-B4C3-4F1D-BB86-A9E3D8E7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8942-6902-4369-B110-E6062885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7271-A8AA-40C9-9D86-2802ED0B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5B54-6CB6-4F7B-81F3-A8783155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2CE3-0FA4-4F95-B22F-193A2F31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6E2E-2B65-4AF4-8B4D-638030B3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ABF-88F8-419F-AFD5-B2028129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A89D-72DF-4FB9-9353-2B926863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4FF-68ED-4D35-97CA-782128B2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25D-E687-44AA-AAB1-9AFF5CC4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E89-CDC1-4FCF-84BB-4EEF8DD4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28F-5989-4ED3-A4E3-D1AE370D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33F-9BB0-4313-A705-DE306BD4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0223-EF2A-4D05-8161-6359FC8F17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B522-355C-4861-A754-6BA6099FF3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27280" y="5660640"/>
            <a:ext cx="3816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icolás Fritis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e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68360" y="3500280"/>
                <a:ext cx="455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195640" y="1989000"/>
                <a:ext cx="3570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11280" y="2781360"/>
            <a:ext cx="7405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quivalencia de tasa anual y tasa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340000" y="4869000"/>
                <a:ext cx="3382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,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DjNico</cp:lastModifiedBy>
  <dcterms:modified xsi:type="dcterms:W3CDTF">2004-03-21T20:38:37Z</dcterms:modified>
  <cp:revision>17</cp:revision>
  <dc:subject>Evaluación de Proyectos</dc:subject>
  <dc:title>Auxiliar Nº 2</dc:title>
</cp:coreProperties>
</file>