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748-BFAB-48F9-8644-E1BFE7E9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C4E-875A-4863-92CD-8857DEBF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96AA-A932-408F-B31A-359DB9DA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6E0-8208-405F-85AD-2FB67D1F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A53B-B08D-44F8-A4AC-316696F7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1AD8-1E91-4B7B-8C82-E6B7E676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32DA-1EC4-4872-BE54-D5B462DA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8D68-D44A-4FE2-9DA4-5BD2392E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5AF3-9F79-4EAF-A8B9-23557B17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5337-DA56-45AE-B0C0-0A7BD199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DC21-1BF6-46D5-9E4A-472DB341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7B1-4C92-4104-8556-02A8137F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DB00-7895-40BB-BD71-7C12F9A7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5AF6-3E02-47AC-93C2-1307A899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B0EE-514B-4B12-A88B-9DA85D5A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2A22-9FBD-49B5-91C6-BC59ADE8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192E-DF4F-45C9-8E28-B9840526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DC0-D88C-4D28-9A0F-D1D101B3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90A-3C91-4DAB-B645-99D3E6AA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BA1-E772-4FAE-AC6E-5C047237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8FD-A21C-4636-B2EF-FAB654F5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B02-3297-4650-B4AA-82B3B142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194-56BA-45AA-936C-4539E950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EEA-A609-4D63-A8F9-67835D48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E737-188E-4E65-A6CE-8E06789FDD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52B1-DBA6-4D05-B0AD-140E5676A7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27280" y="5660640"/>
            <a:ext cx="3816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icolás Fritis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e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3500280"/>
                <a:ext cx="455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95640" y="1989000"/>
                <a:ext cx="3570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1280" y="2781360"/>
            <a:ext cx="7405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quivalencia de tasa anual y tasa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40000" y="4869000"/>
                <a:ext cx="3382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,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DjNico</cp:lastModifiedBy>
  <dcterms:modified xsi:type="dcterms:W3CDTF">2004-03-21T20:38:37Z</dcterms:modified>
  <cp:revision>17</cp:revision>
  <dc:subject>Evaluación de Proyectos</dc:subject>
  <dc:title>Auxiliar Nº 2</dc:title>
</cp:coreProperties>
</file>