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605-89AD-46C3-B9A3-3A2A671D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D404-FC4B-43F6-936E-B2AAFFC1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1F8-E4BD-49F1-994E-F84C128F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147-E5B7-4E1D-ADD6-087D33640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FCF9-9081-4FB0-9022-1BBD8044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531C-BBE3-4C27-B0A1-83646AF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2EBB-A8A3-4604-AD77-215689D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04B2-1190-4B6B-8A7D-BB805CAC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F737-1F0B-4F99-953B-2D612A22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FEF0-CAAA-4372-88BE-86AA7304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9F40-547D-4138-8374-24A1A0A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F55-89AF-4CEC-A86D-A4B38BD9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2F59-6D28-4599-8F1B-DD5CBD4A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484F-1368-4114-B8AD-FB8A5FE0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205F-6575-46B1-B8E5-43CBC012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315E-DB71-4117-8D6F-A2BD88CD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BF01-BF82-4FFF-A02F-749FFC2F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7B4-8CD9-4694-BF83-FCB27FA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751-BA8B-4BC6-ACA8-96F4B02A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5833-FE8D-4DB6-B99E-E408A863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809E-E8BF-41EF-A10F-D8E17BF2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B98-D441-4618-86E9-B78BD030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94A3-F2D0-4923-8A95-77B8A21C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031-E3E0-4B65-82FA-ECC3F994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DA6-9B3C-4BB6-B53A-CAA05F3DB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A7F3-4FF6-4A49-9209-E5C32944FC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27280" y="5660640"/>
            <a:ext cx="38163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icolás Fritis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e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68360" y="3500280"/>
                <a:ext cx="45561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95640" y="1989000"/>
                <a:ext cx="3570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611280" y="2781360"/>
            <a:ext cx="74055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quivalencia de tasa anual y tasa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340000" y="4869000"/>
                <a:ext cx="33829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,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DjNico</cp:lastModifiedBy>
  <dcterms:modified xsi:type="dcterms:W3CDTF">2004-03-21T20:38:37Z</dcterms:modified>
  <cp:revision>17</cp:revision>
  <dc:subject>Evaluación de Proyectos</dc:subject>
  <dc:title>Auxiliar Nº 2</dc:title>
</cp:coreProperties>
</file>