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68769-DDA8-4AB5-AC80-B7F7E263A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E93A2-E056-43B0-BE73-BC39047B0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78044-D010-4479-9404-35AC82079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AAECC-9001-4812-BDC5-31125AC17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F38FEC-9219-4F97-B6E6-3D111D61D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1606D-C511-48F1-8CED-9262960C1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1E763-369A-40FE-B27E-8571BB9D0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8FCAE-46EF-45F2-B267-8BB13D747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3F281-4D09-4470-A6A4-8EAE862BB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69300-D6CE-4780-868A-2DC9BA3A9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E3D28-6990-4DA6-9239-7A5DC023D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323F-8BE5-45ED-894A-4CBD1C077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EC7E0-2359-4DA5-8282-2C4052A76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05E7F-BAC2-4E8C-8B53-465A1FC8B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8851E-B95C-437F-9E71-BD3150D4C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4D13C-8ECF-4B06-920B-F6C614DD4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FE2F4-DD05-49C8-90BE-1E53B419F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833CD-E786-455A-A956-A13744721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3F19F-35F7-45F8-8F43-F5A3988C7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DEF1F-8A3F-467D-8377-354C754D0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95003-F149-49E8-9A79-9F2EA03C9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3F09A-C638-4561-A3A6-78B4CC249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27B6F-4988-4EE4-A2B6-FAA7F3AA5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BFD4F-1E02-4433-98B9-D647A8AAD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9DD1-5C37-4CF7-90A4-6E1F9B9922E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3B72-244D-4680-B58B-A51A4FB1738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1 + i) = (1 + r) * (1 +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i)(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0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Valor Presente = Valor Futuro actualizado por la tasa </a:t>
            </a: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DEA</cp:lastModifiedBy>
  <cp:lastPrinted>1997-04-16T17:24:08Z</cp:lastPrinted>
  <dcterms:modified xsi:type="dcterms:W3CDTF">2001-07-12T22:44:13Z</dcterms:modified>
  <cp:revision>14</cp:revision>
  <dc:subject>Planificación financiera</dc:subject>
  <dc:title>PLANIFICACION FINANCIERA</dc:title>
</cp:coreProperties>
</file>