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8A840-AAE5-42E1-B5A1-CA4688D5A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7A441-3867-4E72-B860-2FD1CEED3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E7717-0515-48EE-8BCD-2BEF8365E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92052-1BA4-41F9-826A-394EA3EB3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1C9F4-1400-4E81-83FD-A61A6BA53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26F0D-9A10-42F7-8873-98C28806D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58092-F6BB-4675-A8BA-579EDDDC3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82558-4DC7-4A14-90E8-43187F75C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54F5C-4345-4B94-BFEC-C355FEC26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BAD42-AAC2-429E-BCAB-ECB3B8942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71D92-BC0F-48B8-B802-B2B946CD4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41B1B-BBA4-4A88-83CA-6BB45185C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0E065-1005-44AF-B791-D46C309BA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CEC69-132E-4DDE-A450-461CA87A3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54D58-4F85-4B3F-88F2-4691A30D4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C2E53-9727-4A8F-ADCF-B65BBCB13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FBA08-35C2-46F2-981F-4FC6EDF3C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BD7E4-27FA-460B-BF16-EB44C0242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CE915-6812-4EE0-8B73-2A7DC3E55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2B29-45AA-445B-803B-8D592E1FD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6A7DB-8931-4C9A-86E2-54E8D215C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99955-374F-4B4A-BC58-938EB686B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B2B37-F149-4628-8FA3-5DCA413D4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6C992-F82C-4B36-A69C-8D9982342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2601-98D5-443A-85C9-BF17B69FFF1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60F6-A21C-400F-822D-3C69265B993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1 + i) = (1 + r) * (1 +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i)(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0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Valor Presente = Valor Futuro actualizado por la tasa </a:t>
            </a: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DEA</cp:lastModifiedBy>
  <cp:lastPrinted>1997-04-16T17:24:08Z</cp:lastPrinted>
  <dcterms:modified xsi:type="dcterms:W3CDTF">2001-07-12T22:44:13Z</dcterms:modified>
  <cp:revision>14</cp:revision>
  <dc:subject>Planificación financiera</dc:subject>
  <dc:title>PLANIFICACION FINANCIERA</dc:title>
</cp:coreProperties>
</file>