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DBDA6-4829-4580-8994-B90A88823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E5A28-8826-4327-83CB-1DDBB8A69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6742C-D57C-4C70-A589-630CD56DE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BAFDF-5D45-4824-BD5F-614984E5A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FEA853-842E-497D-A61C-ECF23EA2D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52CF7-20D9-4DF5-A4EC-8158F2965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4E0A7-4726-46AC-A734-D7019333A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A359E-43DD-40CB-AB39-29003AC75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16E70-9825-4C2A-87AD-20E27C8BE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0DA88-B815-4465-9C16-D11C7F166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D9261-86F9-4F10-A57E-850C494FD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52038-E739-4A69-B138-203F15BA2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7C1DF-DEC5-43E7-BD1B-A9082903E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FE12D-CF3F-4ECD-9657-7E07350C7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F8F1E-9B40-43B2-B63B-179B39195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B6D22-5750-4733-B364-A468677C5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985554-3E18-43D7-B74A-5B11052CC1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7E720-9C21-4FEE-9DC8-3FE06E21D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7CF1E-5A37-4415-9A49-DD4323A08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7786C-EE20-48FD-9385-A1932303B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1A9B6-7093-4357-94AD-FB1E85087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FED88-AE57-483B-9EF4-69A73FBBD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72972-D662-4237-B60E-EB5FF1FDD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54DFE-8A8D-4C5C-BFA5-4E76C5053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CD7A-F6BE-446D-B5AF-CCC3874D9C0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E53B-6702-4A23-921A-6A08CF2E694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5000"/>
          </a:bodyPr>
          <a:p>
            <a:pPr marL="50220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DE LA ESTRUCTURA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43000" y="88884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Todos los modelos anteriores suponen que las firmas que compiten producen un bien homogéneo. Supuesto  razonable para productos tales como cemento, productos agrícolas, petróleo, metales. Pero la mayoría de las firmas producen bienes que son distinguidos (o diferenciados) en alguna manera de los producidos por otras firm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marcas se encuentran levemente diferenciadas unas de otras. Algunos ejemplos son: cerveza, detergentes, pasta de diente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cada firma puede ser modelada en una manera similar a un monopolio. No tiene competencia para el grupo de consumidores que los percibe como diferenciado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517680"/>
            <a:ext cx="9144000" cy="58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676520"/>
            <a:ext cx="2057400" cy="3886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590920" y="1828800"/>
            <a:ext cx="198108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1828800"/>
            <a:ext cx="190476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086600" y="1828800"/>
            <a:ext cx="190512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480" y="1768320"/>
            <a:ext cx="177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111" name=""/>
          <p:cNvSpPr/>
          <p:nvPr/>
        </p:nvSpPr>
        <p:spPr>
          <a:xfrm>
            <a:off x="22860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560" y="2529000"/>
            <a:ext cx="1840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er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25000" y="3962520"/>
            <a:ext cx="2122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ma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ast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stit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 de compra</a:t>
            </a:r>
            <a:endParaRPr b="0" lang="en-US" sz="2000" spc="-1" strike="noStrike">
              <a:solidFill>
                <a:srgbClr val="000000"/>
              </a:solidFill>
              <a:latin typeface="Times New Roman"/>
            </a:endParaRPr>
          </a:p>
        </p:txBody>
      </p:sp>
      <p:sp>
        <p:nvSpPr>
          <p:cNvPr id="114" name=""/>
          <p:cNvSpPr/>
          <p:nvPr/>
        </p:nvSpPr>
        <p:spPr>
          <a:xfrm>
            <a:off x="2590920" y="2514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21880" y="1768320"/>
            <a:ext cx="206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6" name=""/>
          <p:cNvSpPr/>
          <p:nvPr/>
        </p:nvSpPr>
        <p:spPr>
          <a:xfrm>
            <a:off x="2511000" y="2529000"/>
            <a:ext cx="2167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mero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ferentes 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manda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rrer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t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 cos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ver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ado de colusión</a:t>
            </a:r>
            <a:endParaRPr b="0" lang="en-US" sz="2000" spc="-1" strike="noStrike">
              <a:solidFill>
                <a:srgbClr val="000000"/>
              </a:solidFill>
              <a:latin typeface="Times New Roman"/>
            </a:endParaRPr>
          </a:p>
        </p:txBody>
      </p:sp>
      <p:sp>
        <p:nvSpPr>
          <p:cNvPr id="117" name=""/>
          <p:cNvSpPr/>
          <p:nvPr/>
        </p:nvSpPr>
        <p:spPr>
          <a:xfrm>
            <a:off x="588960" y="324000"/>
            <a:ext cx="645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foque de Organización Industrial</a:t>
            </a:r>
            <a:endParaRPr b="0" lang="en-US" sz="3200" spc="-1" strike="noStrike">
              <a:solidFill>
                <a:srgbClr val="000000"/>
              </a:solidFill>
              <a:latin typeface="Times New Roman"/>
            </a:endParaRPr>
          </a:p>
        </p:txBody>
      </p:sp>
      <p:sp>
        <p:nvSpPr>
          <p:cNvPr id="118" name=""/>
          <p:cNvSpPr/>
          <p:nvPr/>
        </p:nvSpPr>
        <p:spPr>
          <a:xfrm>
            <a:off x="4876920" y="2514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39920" y="19051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a</a:t>
            </a:r>
            <a:endParaRPr b="0" lang="en-US" sz="2400" spc="-1" strike="noStrike">
              <a:solidFill>
                <a:srgbClr val="000000"/>
              </a:solidFill>
              <a:latin typeface="Times New Roman"/>
            </a:endParaRPr>
          </a:p>
        </p:txBody>
      </p:sp>
      <p:sp>
        <p:nvSpPr>
          <p:cNvPr id="120" name=""/>
          <p:cNvSpPr/>
          <p:nvPr/>
        </p:nvSpPr>
        <p:spPr>
          <a:xfrm>
            <a:off x="4937040" y="2757600"/>
            <a:ext cx="17960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c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du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ácticas legales</a:t>
            </a:r>
            <a:endParaRPr b="0" lang="en-US" sz="2000" spc="-1" strike="noStrike">
              <a:solidFill>
                <a:srgbClr val="000000"/>
              </a:solidFill>
              <a:latin typeface="Times New Roman"/>
            </a:endParaRPr>
          </a:p>
        </p:txBody>
      </p:sp>
      <p:sp>
        <p:nvSpPr>
          <p:cNvPr id="121" name=""/>
          <p:cNvSpPr/>
          <p:nvPr/>
        </p:nvSpPr>
        <p:spPr>
          <a:xfrm>
            <a:off x="7086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6760" y="19051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ultado</a:t>
            </a:r>
            <a:endParaRPr b="0" lang="en-US" sz="2400" spc="-1" strike="noStrike">
              <a:solidFill>
                <a:srgbClr val="000000"/>
              </a:solidFill>
              <a:latin typeface="Times New Roman"/>
            </a:endParaRPr>
          </a:p>
        </p:txBody>
      </p:sp>
      <p:sp>
        <p:nvSpPr>
          <p:cNvPr id="123" name=""/>
          <p:cNvSpPr/>
          <p:nvPr/>
        </p:nvSpPr>
        <p:spPr>
          <a:xfrm>
            <a:off x="7081920" y="2514600"/>
            <a:ext cx="20444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iencia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signación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orno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inver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tribu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ced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product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consumidores)</a:t>
            </a:r>
            <a:endParaRPr b="0" lang="en-US" sz="2000" spc="-1" strike="noStrike">
              <a:solidFill>
                <a:srgbClr val="000000"/>
              </a:solidFill>
              <a:latin typeface="Times New Roman"/>
            </a:endParaRPr>
          </a:p>
        </p:txBody>
      </p:sp>
      <p:sp>
        <p:nvSpPr>
          <p:cNvPr id="124" name=""/>
          <p:cNvSpPr/>
          <p:nvPr/>
        </p:nvSpPr>
        <p:spPr>
          <a:xfrm>
            <a:off x="2057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Objetivo</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oyectos de inversión producen cambios en el uso y disponibilidad de los recursos que utilizan (materias primas, energía, mano de obra, etc.) y en los bienes que se producen directa o indirectamente (producto/servicio del proyecto, sustitutos, complementarios).</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ntrada de un proyecto a un mercado tendrá por efecto un aumento de la oferta y, dependiendo del tamaño del proyecto y la estructura del mercado, se alcanzará un nuevo precio y cantidad transad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ello, el evaluador podrá identificar los efectos que tendrá el proyecto en los mercados que afecta, para así poder valorar los  beneficios y costos que generará. Por ello es relevante conocer los resultados que la teoría microeconómica predice para distintas estructur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fer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productores están dispuestos a producir. La producción dependerá de los costos de los oferentes; los que, por razones tecnológicas y económicas, son diferentes para cada un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A un cierto precio, pa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será convenient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r en tanto que para otr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tores actuales pued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r su producción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que no estaba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endo por tener cost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es pueden aho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 a hacerlo, cre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la cantidad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6" name=""/>
          <p:cNvGraphicFramePr/>
          <p:nvPr/>
        </p:nvGraphicFramePr>
        <p:xfrm>
          <a:off x="1266840" y="3133800"/>
          <a:ext cx="3409920" cy="3333600"/>
        </p:xfrm>
        <a:graphic>
          <a:graphicData uri="http://schemas.openxmlformats.org/presentationml/2006/ole">
            <p:oleObj r:id="rId1" spid="">
              <p:embed/>
              <p:pic>
                <p:nvPicPr>
                  <p:cNvPr id="87" name="" descr=""/>
                  <p:cNvPicPr/>
                  <p:nvPr/>
                </p:nvPicPr>
                <p:blipFill>
                  <a:blip r:embed="rId2"/>
                  <a:stretch/>
                </p:blipFill>
                <p:spPr>
                  <a:xfrm>
                    <a:off x="1266840" y="3133800"/>
                    <a:ext cx="3409920" cy="3333600"/>
                  </a:xfrm>
                  <a:prstGeom prst="rect">
                    <a:avLst/>
                  </a:prstGeom>
                  <a:ln w="9360">
                    <a:solidFill>
                      <a:srgbClr val="000000"/>
                    </a:solidFill>
                    <a:miter/>
                  </a:ln>
                </p:spPr>
              </p:pic>
            </p:oleObj>
          </a:graphicData>
        </a:graphic>
      </p:graphicFrame>
      <p:sp>
        <p:nvSpPr>
          <p:cNvPr id="88" name=""/>
          <p:cNvSpPr/>
          <p:nvPr/>
        </p:nvSpPr>
        <p:spPr>
          <a:xfrm>
            <a:off x="1924200" y="5029200"/>
            <a:ext cx="6667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man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consumidores están dispuestos a consumir.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La curva de demanda orden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 a menor la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sposiciones </a:t>
            </a:r>
            <a:r>
              <a:rPr b="0" lang="es-ES_tradnl" sz="2000" spc="-1" strike="noStrike">
                <a:solidFill>
                  <a:srgbClr val="000000"/>
                </a:solidFill>
                <a:latin typeface="Tahoma"/>
              </a:rPr>
              <a:t>	</a:t>
            </a:r>
            <a:r>
              <a:rPr b="0" lang="es-ES_tradnl" sz="2000" spc="-1" strike="noStrike">
                <a:solidFill>
                  <a:srgbClr val="000000"/>
                </a:solidFill>
                <a:latin typeface="Tahoma"/>
              </a:rPr>
              <a:t>máximas a pagar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or cada unidad adiciona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rginal) consumi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 un cierto precio, para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será conveniente consumir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ara otros no. Si el precio baj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án a consumir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no lo estaban ha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ndo así la cantidad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a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90" name=""/>
          <p:cNvGraphicFramePr/>
          <p:nvPr/>
        </p:nvGraphicFramePr>
        <p:xfrm>
          <a:off x="1081080" y="2700360"/>
          <a:ext cx="3705120" cy="3743280"/>
        </p:xfrm>
        <a:graphic>
          <a:graphicData uri="http://schemas.openxmlformats.org/presentationml/2006/ole">
            <p:oleObj r:id="rId1" spid="">
              <p:embed/>
              <p:pic>
                <p:nvPicPr>
                  <p:cNvPr id="91" name="" descr=""/>
                  <p:cNvPicPr/>
                  <p:nvPr/>
                </p:nvPicPr>
                <p:blipFill>
                  <a:blip r:embed="rId2"/>
                  <a:stretch/>
                </p:blipFill>
                <p:spPr>
                  <a:xfrm>
                    <a:off x="1081080" y="2700360"/>
                    <a:ext cx="3705120" cy="3743280"/>
                  </a:xfrm>
                  <a:prstGeom prst="rect">
                    <a:avLst/>
                  </a:prstGeom>
                  <a:ln w="9360">
                    <a:solidFill>
                      <a:srgbClr val="000000"/>
                    </a:solidFill>
                    <a:miter/>
                  </a:ln>
                </p:spPr>
              </p:pic>
            </p:oleObj>
          </a:graphicData>
        </a:graphic>
      </p:graphicFrame>
      <p:sp>
        <p:nvSpPr>
          <p:cNvPr id="92" name=""/>
          <p:cNvSpPr/>
          <p:nvPr/>
        </p:nvSpPr>
        <p:spPr>
          <a:xfrm flipV="1">
            <a:off x="1771560" y="325728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43488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curvas de oferta y demanda tienen una elasticidad:</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 = (dQ/dP) * (P/Q), la que será usualmente negativa en el caso de la demanda y positiva para la oferta.</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manda y oferta serán infinitamente elástica cuando la curva es horizontal, en tanto que será infinitamente inelástica si es vertical.</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2 Estructuras de Mercad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structuras de mercado que veremos son:</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ligopoli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opoli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incipales supuestos de este modelo son:</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agentes económicos son tomadores de precios debido a la gran cantidad de productores y consumidores existentes. Por lo que cada uno puede vender y comprar la cantidad que desee al precio competitiv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bien es homogéne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Hay información perfecta</a:t>
            </a:r>
            <a:r>
              <a:rPr b="0" lang="es-ES_tradnl" sz="2400" spc="-1" strike="noStrike">
                <a:solidFill>
                  <a:srgbClr val="000000"/>
                </a:solidFill>
                <a:latin typeface="Tahoma"/>
              </a:rPr>
              <a:t>.</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a:t>
            </a:r>
            <a:r>
              <a:rPr b="0" lang="es-ES_tradnl" sz="2000" spc="-1" strike="noStrike">
                <a:solidFill>
                  <a:srgbClr val="000000"/>
                </a:solidFill>
                <a:latin typeface="Tahoma"/>
              </a:rPr>
              <a:t>	</a:t>
            </a:r>
            <a:r>
              <a:rPr b="0" lang="es-ES_tradnl" sz="2000" spc="-1" strike="noStrike">
                <a:solidFill>
                  <a:srgbClr val="000000"/>
                </a:solidFill>
                <a:latin typeface="Tahoma"/>
              </a:rPr>
              <a:t>resultante ocurr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n la intersección de la curv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ferta con la de demanda.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se punto se determina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y cantidad transada (P</a:t>
            </a:r>
            <a:r>
              <a:rPr b="0" lang="es-ES_tradnl" sz="2000" spc="-1" strike="noStrike" baseline="-25000">
                <a:solidFill>
                  <a:srgbClr val="000000"/>
                </a:solidFill>
                <a:latin typeface="Tahoma"/>
              </a:rPr>
              <a:t>C</a:t>
            </a:r>
            <a:r>
              <a:rPr b="0" lang="es-ES_tradnl" sz="2000" spc="-1" strike="noStrike">
                <a:solidFill>
                  <a:srgbClr val="000000"/>
                </a:solidFill>
                <a:latin typeface="Tahoma"/>
              </a:rPr>
              <a:t>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95" name=""/>
          <p:cNvGraphicFramePr/>
          <p:nvPr/>
        </p:nvGraphicFramePr>
        <p:xfrm>
          <a:off x="1362240" y="3286080"/>
          <a:ext cx="3219120" cy="3257640"/>
        </p:xfrm>
        <a:graphic>
          <a:graphicData uri="http://schemas.openxmlformats.org/presentationml/2006/ole">
            <p:oleObj r:id="rId1" spid="">
              <p:embed/>
              <p:pic>
                <p:nvPicPr>
                  <p:cNvPr id="96" name="" descr=""/>
                  <p:cNvPicPr/>
                  <p:nvPr/>
                </p:nvPicPr>
                <p:blipFill>
                  <a:blip r:embed="rId2"/>
                  <a:stretch/>
                </p:blipFill>
                <p:spPr>
                  <a:xfrm>
                    <a:off x="1362240" y="3286080"/>
                    <a:ext cx="3219120" cy="32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3000" y="4190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Monopoli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a estructura existe un único productor que enfrenta una demanda por su producción compuesta por muchos consumidores. El monopolista al maximizar su utilidad toma en consideración que sus decisiones de producción afectan el precio (llamado poder monopólico).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resultante tiene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mayor (P</a:t>
            </a:r>
            <a:r>
              <a:rPr b="0" lang="es-ES_tradnl" sz="2000" spc="-1" strike="noStrike" baseline="-25000">
                <a:solidFill>
                  <a:srgbClr val="000000"/>
                </a:solidFill>
                <a:latin typeface="Tahoma"/>
              </a:rPr>
              <a:t>M</a:t>
            </a:r>
            <a:r>
              <a:rPr b="0" lang="es-ES_tradnl" sz="2000" spc="-1" strike="noStrike">
                <a:solidFill>
                  <a:srgbClr val="000000"/>
                </a:solidFill>
                <a:latin typeface="Tahoma"/>
              </a:rPr>
              <a:t>) y un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antidad transada menor (Q</a:t>
            </a:r>
            <a:r>
              <a:rPr b="0" lang="es-ES_tradnl" sz="2000" spc="-1" strike="noStrike" baseline="-25000">
                <a:solidFill>
                  <a:srgbClr val="000000"/>
                </a:solidFill>
                <a:latin typeface="Tahoma"/>
              </a:rPr>
              <a:t>M</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las obtenidas e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quilibrio competitivo. N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bstante, el excedente d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onopolista es mayor que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obtienen los productores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l equilibrio competitivo.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tanto que </a:t>
            </a:r>
            <a:r>
              <a:rPr b="0" lang="es-ES_tradnl" sz="2000" spc="-1" strike="noStrike">
                <a:solidFill>
                  <a:srgbClr val="000000"/>
                </a:solidFill>
                <a:latin typeface="Tahoma"/>
              </a:rPr>
              <a:t>	</a:t>
            </a:r>
            <a:r>
              <a:rPr b="0" lang="es-ES_tradnl" sz="2000" spc="-1" strike="noStrike">
                <a:solidFill>
                  <a:srgbClr val="000000"/>
                </a:solidFill>
                <a:latin typeface="Tahoma"/>
              </a:rPr>
              <a:t>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ores obtienen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nor excedente. </a:t>
            </a:r>
            <a:endParaRPr b="0" lang="en-US" sz="2000" spc="-1" strike="noStrike">
              <a:solidFill>
                <a:srgbClr val="000000"/>
              </a:solidFill>
              <a:latin typeface="Tahoma"/>
            </a:endParaRPr>
          </a:p>
        </p:txBody>
      </p:sp>
      <p:graphicFrame>
        <p:nvGraphicFramePr>
          <p:cNvPr id="98" name=""/>
          <p:cNvGraphicFramePr/>
          <p:nvPr/>
        </p:nvGraphicFramePr>
        <p:xfrm>
          <a:off x="1324080" y="3119400"/>
          <a:ext cx="3257280" cy="3400560"/>
        </p:xfrm>
        <a:graphic>
          <a:graphicData uri="http://schemas.openxmlformats.org/presentationml/2006/ole">
            <p:oleObj r:id="rId1" spid="">
              <p:embed/>
              <p:pic>
                <p:nvPicPr>
                  <p:cNvPr id="99" name="" descr=""/>
                  <p:cNvPicPr/>
                  <p:nvPr/>
                </p:nvPicPr>
                <p:blipFill>
                  <a:blip r:embed="rId2"/>
                  <a:stretch/>
                </p:blipFill>
                <p:spPr>
                  <a:xfrm>
                    <a:off x="1324080" y="3119400"/>
                    <a:ext cx="3257280" cy="3400560"/>
                  </a:xfrm>
                  <a:prstGeom prst="rect">
                    <a:avLst/>
                  </a:prstGeom>
                  <a:ln w="9360">
                    <a:solidFill>
                      <a:srgbClr val="000000"/>
                    </a:solidFill>
                    <a:miter/>
                  </a:ln>
                </p:spPr>
              </p:pic>
            </p:oleObj>
          </a:graphicData>
        </a:graphic>
      </p:graphicFrame>
      <p:sp>
        <p:nvSpPr>
          <p:cNvPr id="100" name=""/>
          <p:cNvSpPr/>
          <p:nvPr/>
        </p:nvSpPr>
        <p:spPr>
          <a:xfrm flipV="1">
            <a:off x="2428920" y="4800600"/>
            <a:ext cx="447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08080" y="945720"/>
            <a:ext cx="7772400" cy="5838840"/>
          </a:xfrm>
          <a:prstGeom prst="rect">
            <a:avLst/>
          </a:prstGeom>
          <a:noFill/>
          <a:ln w="0">
            <a:noFill/>
          </a:ln>
        </p:spPr>
        <p:txBody>
          <a:bodyPr lIns="90000" rIns="90000" tIns="46800" bIns="46800" anchor="t">
            <a:normAutofit fontScale="97000"/>
          </a:bodyPr>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ligopolios</a:t>
            </a: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mayoría de los mercados no son de competencia perfecta ni monopolios puros. En esos casos polares las decisiones de los distintos agentes económicos no son afectadas por otros, ya sea porque son tomadores de precios (competencia) o porque los otros no existen (monopolio)</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tuación intermedia entre estos dos polos: cada firma debe tener en cuenta las acciones y reacciones de sus competidores, ya que éstas afectarán los precios y la cantidad, y por lo tanto los resultados económicos de c/u.</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os grandes tipos de comportamientos: la </a:t>
            </a:r>
            <a:r>
              <a:rPr b="1" lang="es-ES_tradnl" sz="2200" spc="-1" strike="noStrike">
                <a:solidFill>
                  <a:srgbClr val="000000"/>
                </a:solidFill>
                <a:latin typeface="Tahoma"/>
              </a:rPr>
              <a:t>cooperación (o colusión) y la no cooperación.</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l caso de cooperación el objetivo es maximizar los beneficios conjuntos de un grupo de firma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tanto que cuando las firmas no cooperan, cada una trata de maximizar sus beneficios individuales sin llegar a ningún acuerdo con sus competidore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814040"/>
            <a:ext cx="7772400" cy="40402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de luego, existirán incentivos a la cooperación cuando los beneficios de las firmas que cooperan son superiores a los que podrían obtener individualmente.</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studio de los resultados que se alcanzan con la cooperación es realizado por la Teoría de Juegos. En tanto que los resultados en mercados donde las firmas no cooperan son estudiados por los modelos de competencia perfec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1-11-12T17:07:35Z</dcterms:modified>
  <cp:revision>163</cp:revision>
  <dc:subject/>
  <dc:title>Evaluación de Proyectos</dc:title>
</cp:coreProperties>
</file>