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2D63D-AC47-4EEB-A476-E95CBBE2C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33CFB-7950-4265-9B76-44C034A93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D8FEC-0F63-433B-99C1-99EFD4223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1B1EA-202F-4883-8E54-BBA752A76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CBF8F-96DA-4351-9ECA-C7B1F2CC2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D7F35-E4C7-40BE-BBF0-550CD24EE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4E12F-F36A-4C03-A615-BF83654FF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E91CC-228D-44B6-BE46-5B0DD44E4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53569-0B62-4474-8A80-77306E5DB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ED343-4097-4608-A188-314FE0C25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D41D7-77DF-4640-85D2-F6CDD6AF7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B122-2D69-4E5C-9C23-54EC32D69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46C2E-9739-4BFD-A452-797DD6543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B9B25-2A80-432F-A55F-E63DC7569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0641D-891C-4E4D-9BC2-661BD4F6D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26FBAF-5B70-48D3-9076-E9CB1782E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59211-1285-4C5E-9E8C-6885E0AC8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FA881-1627-4E1A-A4C0-35ABD2DAF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79A1D-A1C7-4D22-8E87-72A4EFB78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30FB2-97CD-4636-AC81-2F976152B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1E7AF-DD19-4FC7-95CA-15AAD0F23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2DB24-FA65-418E-B2F1-CCD6F443D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1206-FC05-4C81-AFAA-EBF9D7370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F1ED9-19DF-4BD6-86BC-869972665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A24F-4504-4D95-8B09-74DBF03366C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A0FD-9E8F-4642-85E1-836BDA79A75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sic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2-06-19T18:18:03Z</dcterms:modified>
  <cp:revision>164</cp:revision>
  <dc:subject/>
  <dc:title>Evaluación de Proyectos</dc:title>
</cp:coreProperties>
</file>