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9E83C-03AB-4EA4-A43A-25AB8AC8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48178-B50C-4922-91FE-9780BF414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5F25-4567-4F5D-B642-C2AFEABAC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6BA1E-6646-4DF1-BBF7-486B0354C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267D4-17A2-4E92-89BA-EAB2B26C6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29807-5CEA-476B-A1C6-0AEE59419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402CB-0433-4AD2-9B7E-982440700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32AC9-3A46-4747-8716-16D690705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63EBC-EC9A-4A91-9174-F19DD78DB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68AD2-FE00-47A6-A64A-804FD1D73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33324-4E63-4EC7-9722-452C3787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2EB1F-E4AE-4161-83D3-BD2D18012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77B5C-9503-4042-BDA7-B905DCE28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763A8-47DE-4789-891C-9589A0506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9A400-3576-4858-BA34-DF950758A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C4F48-170B-4B9F-8F47-129F71AD7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AF6DE-4651-47AC-ACBB-F345A7E28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295BC-C1CA-4456-B377-9ECD6C476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BCEC-09D9-4AAC-84F6-33C8D8496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38020-C271-42CA-A321-1D4730286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BA39-DB50-40D0-8C03-C52343CC8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0F72-E5F4-4B44-8948-33061A0F8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764C-DA31-483E-916C-9909A52E1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1948-9D28-4E22-BE7D-7B5ABA661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A22F-7F15-4DFA-BD5F-A403BE6A994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9406-70B3-4C90-B69D-0C44AF58644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sic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2-06-19T18:18:03Z</dcterms:modified>
  <cp:revision>164</cp:revision>
  <dc:subject/>
  <dc:title>Evaluación de Proyectos</dc:title>
</cp:coreProperties>
</file>