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944DF-E070-4FC1-8AD7-DBAE03EFD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D19C8-A48A-4962-92F4-7EC93204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DBEA1-E818-4228-A6D7-71B39A009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B2AF4-E0C8-4537-8510-A7EBF65D4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8786B-7CBA-4B30-B0F5-13AAFF2AE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75ADD-9E13-491A-AABF-6C49A276E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D6070-0E4A-4B0E-BDFB-D0595730E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D9FC7-5C9F-4798-AA54-29D1899D7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8C46C-9BCF-481F-9C33-F54D89EDF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C9892-8E9E-4605-8CDE-ACE11AED1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F1AAB-BC59-4F34-8EEE-B8C7DBE29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7F133-330A-4C8F-BADD-6B391D494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08B15-3DB0-47DB-98D0-E9E80E822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A6E9B-028A-42F2-853E-36661263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8D8D2-8257-46C6-821B-A6440286D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CCEA9-488D-423D-A8A6-DFC46F716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F877C-BC6A-463F-B51E-3FA8DBF71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9A42A-89DE-4603-B8F6-29ACA7B9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D21A-D3A1-43CA-BB53-EDD0C7D4F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D131B-5B80-458D-9A1C-9433340E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9201F-8F56-4580-BC4E-64048C79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73EA-907F-45B8-8A19-0421848C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6782C-49B8-45AD-8402-209E87B2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598B-7E3F-4746-BE56-9C28D42BB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F863-4BE9-4624-A8AE-8A2B2B66041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7EDE-FA87-43A8-9B58-6A96A94175F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sic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2-06-19T18:18:03Z</dcterms:modified>
  <cp:revision>164</cp:revision>
  <dc:subject/>
  <dc:title>Evaluación de Proyectos</dc:title>
</cp:coreProperties>
</file>