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72A-5E58-4F7B-BAF0-618EE3C7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6E4-F4C8-4898-B2DB-45743C33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D31-EDBD-4A34-9CDA-C8C8FF23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8C1-0E38-4064-86C0-A46BBAD3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925C-E329-4392-96B9-9DB4BA02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C6E-2AAC-4642-8C87-4046D83A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CFE-9F13-4DDF-AA8B-12276C28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F5BD-160F-4923-B188-81FC7AF9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AF4-B632-443E-A8E8-8AAD6520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A9C-EB06-4F47-B196-AC8CDC3B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7B0-3FB9-4F06-B01E-CFD9E157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51D-D8DB-436E-B14F-3B09069B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B87F-36E0-4156-A96B-99B7AF3B224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990720"/>
            <a:ext cx="61722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38520" y="14479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XTERN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276720"/>
            <a:ext cx="74674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00240" y="3581280"/>
            <a:ext cx="64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xternalidad:  Influencia de las acciones de una persona en el bi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estar de otra (no transmitida por el sistema de preci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876920"/>
            <a:ext cx="7543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7480" y="5010120"/>
            <a:ext cx="660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Internalización de una externalidad:  Alteración de los incentivo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al manera que las personas tengan en cuenta los efectos ex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 sus ac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FICULTADES PARA DET. IMPUESTO ÓPTI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actividades producen contaminan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uál es el daño de cada unidad de contamina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ntaminantes causan dañ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uál es el valor del daño caus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 camiones en EEUU (1,2 MMM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MISOS vrs. IM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ducen la incertidumbre r/al nivel final de conta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ificación de las tasas de impuestos puede requerir procesos administrativos larg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se pueden comprar derechos de contaminación para impedir que nuevas empresas entren a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90720" y="1066680"/>
            <a:ext cx="73911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04840" y="144792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BIENE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3200400"/>
            <a:ext cx="73911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51520" y="3333600"/>
            <a:ext cx="611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Bien Excluible:  Un bien es excluible cuando es posible im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que lo utilice una perso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4952880"/>
            <a:ext cx="73911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33520" y="5105520"/>
            <a:ext cx="66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Bien Rival:  Un bien es rival cuando su uso por parte de una pers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duce su uso por parte de o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38080" y="1523880"/>
            <a:ext cx="7391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1640" y="1828800"/>
            <a:ext cx="61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Bienes Privados:  Bienes que son tanto excluibles como riv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289548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06160" y="3200400"/>
            <a:ext cx="579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Bienes Públicos:  Bienes que no son ni excluibles ni rival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434340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04000" y="4648320"/>
            <a:ext cx="612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cursos Comunes:  Bienes que son rivales pero no exclui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 que es común para todos recibe menos cuidados, pues todos los hombres cuidan más lo que es suyo que de lo que poseen en común con otros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9800" y="4930920"/>
            <a:ext cx="738684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r">
              <a:spcBef>
                <a:spcPts val="1100"/>
              </a:spcBef>
              <a:buClr>
                <a:srgbClr val="000000"/>
              </a:buClr>
              <a:buFont typeface="Times New Roman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ristót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841320" y="1523880"/>
            <a:ext cx="6451560" cy="4711320"/>
            <a:chOff x="841320" y="1523880"/>
            <a:chExt cx="6451560" cy="4711320"/>
          </a:xfrm>
        </p:grpSpPr>
        <p:sp>
          <p:nvSpPr>
            <p:cNvPr id="267" name=""/>
            <p:cNvSpPr/>
            <p:nvPr/>
          </p:nvSpPr>
          <p:spPr>
            <a:xfrm rot="16009200">
              <a:off x="3972240" y="3108600"/>
              <a:ext cx="1143000" cy="690480"/>
            </a:xfrm>
            <a:prstGeom prst="rtTriangl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44280" y="181764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44280" y="54752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44280" y="2884320"/>
              <a:ext cx="3048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92400" y="288432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901680" y="1589040"/>
              <a:ext cx="1676520" cy="304776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44280" y="402732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06600" y="40273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44280" y="41036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54120" y="3722400"/>
              <a:ext cx="411480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435200" y="3341160"/>
              <a:ext cx="1219320" cy="12193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81680" y="5638680"/>
              <a:ext cx="39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88880" y="16650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1320" y="1930320"/>
              <a:ext cx="105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ste (dó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r libr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49280" y="273204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2,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94920" y="3962160"/>
              <a:ext cx="58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0,3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78720" y="555120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9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64160" y="555120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11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960" y="43434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Dem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12840" y="3200400"/>
              <a:ext cx="118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ste priv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59120" y="1523880"/>
              <a:ext cx="173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ste social mar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165800">
              <a:off x="4431600" y="3949200"/>
              <a:ext cx="451080" cy="230040"/>
            </a:xfrm>
            <a:prstGeom prst="rtTriangl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02640" y="5715000"/>
              <a:ext cx="169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aptura de cangrej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millones de libra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76212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Verdana"/>
              </a:rPr>
              <a:t>Los cangrejos como un recurso de propiedad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066320" y="1066680"/>
            <a:ext cx="6629760" cy="5271480"/>
            <a:chOff x="1066320" y="1066680"/>
            <a:chExt cx="6629760" cy="5271480"/>
          </a:xfrm>
        </p:grpSpPr>
        <p:sp>
          <p:nvSpPr>
            <p:cNvPr id="292" name=""/>
            <p:cNvSpPr/>
            <p:nvPr/>
          </p:nvSpPr>
          <p:spPr>
            <a:xfrm>
              <a:off x="1981080" y="12952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579132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048120"/>
              <a:ext cx="39625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8108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1080" y="5105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24080" y="304812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981080" y="1447560"/>
              <a:ext cx="2286000" cy="3352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14400" y="5751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1752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8456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2756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1460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65760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1981080" y="4267080"/>
              <a:ext cx="2286000" cy="1524240"/>
            </a:xfrm>
            <a:prstGeom prst="line">
              <a:avLst/>
            </a:prstGeom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72428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86728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40080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93396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46748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1980720" y="2666520"/>
              <a:ext cx="3352680" cy="3124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4266720" y="4800600"/>
              <a:ext cx="1066680" cy="99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1981080" y="2666520"/>
              <a:ext cx="2209680" cy="2057400"/>
            </a:xfrm>
            <a:prstGeom prst="line">
              <a:avLst/>
            </a:prstGeom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804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51040" y="5751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1772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072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9424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27760" y="5751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17000" y="57452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5800" y="498960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,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1640" y="361800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,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01640" y="28954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,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01640" y="209376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7,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8108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320" y="1066680"/>
              <a:ext cx="94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Benefic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dólar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1800" y="2895480"/>
              <a:ext cx="127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ste mar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87720" y="6031080"/>
              <a:ext cx="99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57600" y="4876920"/>
              <a:ext cx="54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56040" y="36576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57400" y="3276720"/>
              <a:ext cx="47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3809520" y="38862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504960" y="5105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438280" y="3276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990880" y="457200"/>
            <a:ext cx="397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rovisión eficiente de un bien pú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28600" y="1676520"/>
            <a:ext cx="8253000" cy="4345560"/>
            <a:chOff x="228600" y="1676520"/>
            <a:chExt cx="8253000" cy="4345560"/>
          </a:xfrm>
        </p:grpSpPr>
        <p:sp>
          <p:nvSpPr>
            <p:cNvPr id="48" name=""/>
            <p:cNvSpPr/>
            <p:nvPr/>
          </p:nvSpPr>
          <p:spPr>
            <a:xfrm>
              <a:off x="790560" y="5181480"/>
              <a:ext cx="304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90560" y="1828800"/>
              <a:ext cx="0" cy="335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29040" y="182880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29040" y="51814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0560" y="4114800"/>
              <a:ext cx="2971800" cy="0"/>
            </a:xfrm>
            <a:prstGeom prst="line">
              <a:avLst/>
            </a:prstGeom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52680" y="4114800"/>
              <a:ext cx="0" cy="1066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0560" y="2362320"/>
              <a:ext cx="1752480" cy="2209680"/>
            </a:xfrm>
            <a:custGeom>
              <a:avLst/>
              <a:gdLst/>
              <a:ahLst/>
              <a:rect l="l" t="t" r="r" b="b"/>
              <a:pathLst>
                <a:path w="1104" h="1392">
                  <a:moveTo>
                    <a:pt x="0" y="1392"/>
                  </a:moveTo>
                  <a:cubicBezTo>
                    <a:pt x="196" y="1316"/>
                    <a:pt x="392" y="1240"/>
                    <a:pt x="576" y="1008"/>
                  </a:cubicBezTo>
                  <a:cubicBezTo>
                    <a:pt x="760" y="776"/>
                    <a:pt x="1016" y="168"/>
                    <a:pt x="1104" y="0"/>
                  </a:cubicBezTo>
                </a:path>
              </a:pathLst>
            </a:custGeom>
            <a:noFill/>
            <a:ln w="2844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0560" y="2895480"/>
              <a:ext cx="1828800" cy="1676520"/>
            </a:xfrm>
            <a:custGeom>
              <a:avLst/>
              <a:gdLst/>
              <a:ahLst/>
              <a:rect l="l" t="t" r="r" b="b"/>
              <a:pathLst>
                <a:path w="1152" h="1056">
                  <a:moveTo>
                    <a:pt x="0" y="1056"/>
                  </a:moveTo>
                  <a:cubicBezTo>
                    <a:pt x="240" y="1000"/>
                    <a:pt x="480" y="944"/>
                    <a:pt x="672" y="768"/>
                  </a:cubicBezTo>
                  <a:cubicBezTo>
                    <a:pt x="864" y="592"/>
                    <a:pt x="1072" y="128"/>
                    <a:pt x="1152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57240" y="41148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/>
            <p:nvPr/>
          </p:nvCxnSpPr>
          <p:spPr>
            <a:xfrm flipV="1">
              <a:off x="790200" y="4790880"/>
              <a:ext cx="2591640" cy="390960"/>
            </a:xfrm>
            <a:prstGeom prst="straightConnector1">
              <a:avLst/>
            </a:prstGeom>
            <a:ln w="28440">
              <a:solidFill>
                <a:srgbClr val="cc33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3367440" y="458316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45200" y="27432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68520" y="213372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S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1676520"/>
              <a:ext cx="63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e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00040" y="5181480"/>
              <a:ext cx="37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04960" y="518148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82600" y="5192640"/>
              <a:ext cx="202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oducción de la empre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3760" y="39625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18800" y="56498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57640" y="2057400"/>
              <a:ext cx="2438640" cy="2819520"/>
            </a:xfrm>
            <a:custGeom>
              <a:avLst/>
              <a:gdLst/>
              <a:ahLst/>
              <a:rect l="l" t="t" r="r" b="b"/>
              <a:pathLst>
                <a:path w="1536" h="1776">
                  <a:moveTo>
                    <a:pt x="0" y="0"/>
                  </a:moveTo>
                  <a:cubicBezTo>
                    <a:pt x="112" y="308"/>
                    <a:pt x="224" y="616"/>
                    <a:pt x="480" y="912"/>
                  </a:cubicBezTo>
                  <a:cubicBezTo>
                    <a:pt x="736" y="1208"/>
                    <a:pt x="1360" y="1632"/>
                    <a:pt x="1536" y="1776"/>
                  </a:cubicBezTo>
                </a:path>
              </a:pathLst>
            </a:custGeom>
            <a:noFill/>
            <a:ln w="2844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2904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19760" y="350532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29040" y="2362320"/>
              <a:ext cx="1752840" cy="2057400"/>
            </a:xfrm>
            <a:custGeom>
              <a:avLst/>
              <a:gdLst/>
              <a:ahLst/>
              <a:rect l="l" t="t" r="r" b="b"/>
              <a:pathLst>
                <a:path w="1104" h="1296">
                  <a:moveTo>
                    <a:pt x="0" y="1296"/>
                  </a:moveTo>
                  <a:cubicBezTo>
                    <a:pt x="220" y="1116"/>
                    <a:pt x="440" y="936"/>
                    <a:pt x="624" y="720"/>
                  </a:cubicBezTo>
                  <a:cubicBezTo>
                    <a:pt x="808" y="504"/>
                    <a:pt x="1024" y="120"/>
                    <a:pt x="1104" y="0"/>
                  </a:cubicBezTo>
                </a:path>
              </a:pathLst>
            </a:custGeom>
            <a:noFill/>
            <a:ln w="2844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29040" y="2819520"/>
              <a:ext cx="2210040" cy="1600200"/>
            </a:xfrm>
            <a:custGeom>
              <a:avLst/>
              <a:gdLst/>
              <a:ahLst/>
              <a:rect l="l" t="t" r="r" b="b"/>
              <a:pathLst>
                <a:path w="1392" h="1008">
                  <a:moveTo>
                    <a:pt x="0" y="1008"/>
                  </a:moveTo>
                  <a:cubicBezTo>
                    <a:pt x="316" y="924"/>
                    <a:pt x="632" y="840"/>
                    <a:pt x="864" y="672"/>
                  </a:cubicBezTo>
                  <a:cubicBezTo>
                    <a:pt x="1096" y="504"/>
                    <a:pt x="1304" y="112"/>
                    <a:pt x="1392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829040" y="4419720"/>
              <a:ext cx="2743200" cy="7617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29040" y="3886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00640" y="30481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9560" y="1752480"/>
              <a:ext cx="63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e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95480" y="5257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13160" y="526896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23480" y="5268960"/>
              <a:ext cx="205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oducción de la indust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61480" y="57150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45240" y="2068560"/>
              <a:ext cx="59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SM</a:t>
              </a:r>
              <a:r>
                <a:rPr b="0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26120" y="2678040"/>
              <a:ext cx="78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S = CM</a:t>
              </a:r>
              <a:r>
                <a:rPr b="0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59640" y="4278240"/>
              <a:ext cx="60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EM</a:t>
              </a:r>
              <a:r>
                <a:rPr b="0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80440" y="481176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12600" y="336384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12600" y="374508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320280" y="38088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El Coste Ext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1752480"/>
            <a:ext cx="71625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6480" y="1962000"/>
            <a:ext cx="651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eorema de Coase:  Si las partes privadas pueden negociar s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ingún coste sobre la asignación de los recursos, pueden resol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por sí solas el problema de las external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581280"/>
            <a:ext cx="71625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84560" y="3809880"/>
            <a:ext cx="620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jemplo del perro que ladra o del vecino que arregla su jardí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sultado eficiente independiente de quien posea los derech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5105520"/>
            <a:ext cx="71625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334120"/>
            <a:ext cx="672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ostes de transacción:  Costes en que incurren las partes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proceso de ponerse de acuerdo y de velar por su cumpli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STOS DE LAS TRANSA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uchas personas involuc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 del parás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icultad de identificar las fuentes de los daños (quién y cuánto contam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formación asimétrica sobre preferencias y oport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TERNATIVAS PARA CORREGIR EXTERNALIDADES NEG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Soluciones priva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mpuesto de Pigou:  Impuesto para corregir los efectos de una externalidad nega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Normas ambi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ermisos trans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582560" y="1676520"/>
            <a:ext cx="5702040" cy="3894120"/>
            <a:chOff x="1582560" y="1676520"/>
            <a:chExt cx="5702040" cy="3894120"/>
          </a:xfrm>
        </p:grpSpPr>
        <p:sp>
          <p:nvSpPr>
            <p:cNvPr id="98" name=""/>
            <p:cNvSpPr/>
            <p:nvPr/>
          </p:nvSpPr>
          <p:spPr>
            <a:xfrm>
              <a:off x="4572000" y="4038480"/>
              <a:ext cx="1676520" cy="1067040"/>
            </a:xfrm>
            <a:prstGeom prst="rtTriangl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14600" y="3962520"/>
              <a:ext cx="2057400" cy="11430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14600" y="167652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4600" y="510552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39625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0" y="190512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0400" y="2209680"/>
              <a:ext cx="3276720" cy="2286000"/>
            </a:xfrm>
            <a:custGeom>
              <a:avLst/>
              <a:gdLst/>
              <a:ahLst/>
              <a:rect l="l" t="t" r="r" b="b"/>
              <a:pathLst>
                <a:path w="2064" h="1440">
                  <a:moveTo>
                    <a:pt x="0" y="1440"/>
                  </a:moveTo>
                  <a:cubicBezTo>
                    <a:pt x="288" y="1352"/>
                    <a:pt x="576" y="1264"/>
                    <a:pt x="864" y="1104"/>
                  </a:cubicBezTo>
                  <a:cubicBezTo>
                    <a:pt x="1152" y="944"/>
                    <a:pt x="1528" y="664"/>
                    <a:pt x="1728" y="480"/>
                  </a:cubicBezTo>
                  <a:cubicBezTo>
                    <a:pt x="1928" y="296"/>
                    <a:pt x="2008" y="80"/>
                    <a:pt x="2064" y="0"/>
                  </a:cubicBezTo>
                </a:path>
              </a:pathLst>
            </a:custGeom>
            <a:noFill/>
            <a:ln w="28440">
              <a:solidFill>
                <a:srgbClr val="cc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26800" y="220968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r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49960" y="198108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S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07520" y="4800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M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647960" y="24382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22400" y="3657600"/>
              <a:ext cx="46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a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76720" y="3809880"/>
              <a:ext cx="152280" cy="7632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0"/>
                  </a:moveTo>
                  <a:cubicBezTo>
                    <a:pt x="40" y="20"/>
                    <a:pt x="80" y="40"/>
                    <a:pt x="96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82560" y="1676520"/>
              <a:ext cx="1005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ó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r unida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emi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32080" y="3809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1520" y="51055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9800" y="51055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81480" y="4419720"/>
              <a:ext cx="1676520" cy="685800"/>
            </a:xfrm>
            <a:prstGeom prst="rtTriangl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85240" y="529416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1280" y="1981080"/>
              <a:ext cx="3353040" cy="3124440"/>
            </a:xfrm>
            <a:custGeom>
              <a:avLst/>
              <a:gdLst/>
              <a:ahLst/>
              <a:rect l="l" t="t" r="r" b="b"/>
              <a:pathLst>
                <a:path w="2064" h="1920">
                  <a:moveTo>
                    <a:pt x="0" y="0"/>
                  </a:moveTo>
                  <a:cubicBezTo>
                    <a:pt x="140" y="464"/>
                    <a:pt x="280" y="928"/>
                    <a:pt x="624" y="1248"/>
                  </a:cubicBezTo>
                  <a:cubicBezTo>
                    <a:pt x="968" y="1568"/>
                    <a:pt x="1824" y="1808"/>
                    <a:pt x="2064" y="1920"/>
                  </a:cubicBezTo>
                </a:path>
              </a:pathLst>
            </a:custGeom>
            <a:noFill/>
            <a:ln w="2844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258000" y="60948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Figura 18.4 Normas y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688680" y="1295280"/>
            <a:ext cx="7576200" cy="4696200"/>
            <a:chOff x="688680" y="1295280"/>
            <a:chExt cx="7576200" cy="4696200"/>
          </a:xfrm>
        </p:grpSpPr>
        <p:sp>
          <p:nvSpPr>
            <p:cNvPr id="120" name=""/>
            <p:cNvSpPr/>
            <p:nvPr/>
          </p:nvSpPr>
          <p:spPr>
            <a:xfrm>
              <a:off x="4724280" y="3657600"/>
              <a:ext cx="381240" cy="380880"/>
            </a:xfrm>
            <a:prstGeom prst="rtTriangl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4038480"/>
              <a:ext cx="457200" cy="144792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67080" y="4038480"/>
              <a:ext cx="381240" cy="228600"/>
            </a:xfrm>
            <a:prstGeom prst="rtTriangle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7080" y="4267080"/>
              <a:ext cx="457200" cy="12193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90920" y="1905120"/>
              <a:ext cx="5333760" cy="3581280"/>
            </a:xfrm>
            <a:custGeom>
              <a:avLst/>
              <a:gdLst/>
              <a:ahLst/>
              <a:rect l="l" t="t" r="r" b="b"/>
              <a:pathLst>
                <a:path w="3264" h="2208">
                  <a:moveTo>
                    <a:pt x="3264" y="2208"/>
                  </a:moveTo>
                  <a:cubicBezTo>
                    <a:pt x="2408" y="1936"/>
                    <a:pt x="1552" y="1664"/>
                    <a:pt x="1008" y="1296"/>
                  </a:cubicBezTo>
                  <a:cubicBezTo>
                    <a:pt x="464" y="928"/>
                    <a:pt x="168" y="216"/>
                    <a:pt x="0" y="0"/>
                  </a:cubicBez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002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0200" y="548640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0200" y="4038480"/>
              <a:ext cx="487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67080" y="304812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438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895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352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09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608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981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724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724280" y="36576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181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181480" y="4038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638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095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53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010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7467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924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17000" y="54468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9000" y="1752480"/>
              <a:ext cx="4495680" cy="3733920"/>
            </a:xfrm>
            <a:custGeom>
              <a:avLst/>
              <a:gdLst/>
              <a:ahLst/>
              <a:rect l="l" t="t" r="r" b="b"/>
              <a:pathLst>
                <a:path w="2688" h="2352">
                  <a:moveTo>
                    <a:pt x="2688" y="2352"/>
                  </a:moveTo>
                  <a:cubicBezTo>
                    <a:pt x="2072" y="2092"/>
                    <a:pt x="1456" y="1832"/>
                    <a:pt x="1008" y="1440"/>
                  </a:cubicBezTo>
                  <a:cubicBezTo>
                    <a:pt x="560" y="1048"/>
                    <a:pt x="168" y="240"/>
                    <a:pt x="0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020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020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02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0200" y="42670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020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0200" y="36576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3440" y="544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75280" y="544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74200" y="544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27240" y="414504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,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17680" y="3922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27240" y="353520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,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020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8680" y="1332000"/>
              <a:ext cx="971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ó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r unida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emi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9960" y="1560600"/>
              <a:ext cx="564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MR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04360" y="1484280"/>
              <a:ext cx="564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MR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16200" y="4151160"/>
              <a:ext cx="194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umento de los co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reducción de la empresa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952880" y="4495680"/>
              <a:ext cx="1371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12320" y="4495680"/>
              <a:ext cx="194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isminución de los co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reducción de la empresa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69560" y="4638960"/>
              <a:ext cx="690480" cy="32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25160" y="5715000"/>
              <a:ext cx="134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Nivel de emi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3048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17680" y="3352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17680" y="2925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0200" y="2590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7680" y="24685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17680" y="4449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17680" y="490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74880" y="544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320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892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464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036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324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5400" y="544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02600" y="544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59800" y="544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180880" y="533520"/>
            <a:ext cx="495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Figura 18.5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Los argumentos a favor de las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917280" y="1676520"/>
            <a:ext cx="5892120" cy="4661280"/>
            <a:chOff x="917280" y="1676520"/>
            <a:chExt cx="5892120" cy="4661280"/>
          </a:xfrm>
        </p:grpSpPr>
        <p:sp>
          <p:nvSpPr>
            <p:cNvPr id="187" name=""/>
            <p:cNvSpPr/>
            <p:nvPr/>
          </p:nvSpPr>
          <p:spPr>
            <a:xfrm rot="16120800">
              <a:off x="3979080" y="2496960"/>
              <a:ext cx="1294920" cy="719280"/>
            </a:xfrm>
            <a:prstGeom prst="rtTriangl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95680" y="3733560"/>
              <a:ext cx="380880" cy="759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3400" y="3581280"/>
              <a:ext cx="457200" cy="380520"/>
            </a:xfrm>
            <a:prstGeom prst="rtTriangl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43400" y="3429000"/>
              <a:ext cx="609480" cy="304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19047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7400" y="571500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8280" y="5715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146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776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8128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148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4796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8148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50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9720" y="571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41560" y="571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74720" y="571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39920" y="571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97480" y="571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31000" y="571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4160" y="571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4816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41960" y="571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740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5740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740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5740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5740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5740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5740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57400" y="2057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30240" y="5141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14400" y="4684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4400" y="4227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14400" y="37702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54280" y="33130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38440" y="28558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38440" y="23986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4280" y="193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57400" y="388620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114800" y="3885840"/>
              <a:ext cx="0" cy="18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57400" y="411480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952880" y="2133360"/>
              <a:ext cx="0" cy="358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343400" y="3428640"/>
              <a:ext cx="0" cy="2285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3429000"/>
              <a:ext cx="3886200" cy="10663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352680" y="1828800"/>
              <a:ext cx="1752480" cy="3657240"/>
            </a:xfrm>
            <a:prstGeom prst="line">
              <a:avLst/>
            </a:prstGeom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7280" y="1676520"/>
              <a:ext cx="971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ó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r un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emi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5640" y="6030720"/>
              <a:ext cx="155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Nivel de emis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61040" y="4724280"/>
              <a:ext cx="1107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ste marg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re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63600" y="3611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44840" y="3687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54320" y="38862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6600" y="3230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68480" y="2011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0600" y="2322360"/>
              <a:ext cx="921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ste soc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arg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14800" y="2819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5978600">
              <a:off x="4457880" y="3623400"/>
              <a:ext cx="380520" cy="609480"/>
            </a:xfrm>
            <a:prstGeom prst="triangle">
              <a:avLst>
                <a:gd name="adj" fmla="val 50000"/>
              </a:avLst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486400" y="434304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118960" y="457200"/>
            <a:ext cx="519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Figura 18.6 Los argumentos a favor de las nor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S VRS. IM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stintos costos de reducción de la conta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imitación de información para colocar la tasa y ajustar el nivel de emisiones (más grave mientras más inelástica CSM y más elástica CM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12:15:49Z</dcterms:created>
  <dc:creator>pgonzale</dc:creator>
  <dc:description/>
  <dc:language>en-US</dc:language>
  <cp:lastModifiedBy>Universidad de Chile</cp:lastModifiedBy>
  <dcterms:modified xsi:type="dcterms:W3CDTF">2004-05-18T14:49:05Z</dcterms:modified>
  <cp:revision>54</cp:revision>
  <dc:subject/>
  <dc:title>Presentación de PowerPoint</dc:title>
</cp:coreProperties>
</file>