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2FBE1-F5D7-4BD2-939A-DA0C8F858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C0468-D646-4A3F-B0E2-493EE0646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55482-0505-4D1E-AB46-C6630D7584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B753C-7F76-4896-86BD-0068F10AE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AA4E69-3F59-4984-9183-CD9C751DE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8B79E-B8EA-4150-A666-ECA944D27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930BE-B364-4FC3-8D03-FC784492EA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0D038-80E5-4D28-8427-0E70F0F33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DD249-C283-4160-A053-DA6438CCC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DC370-16DB-46B7-BBE7-0FCF3918E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86B81-1EF0-4C7D-9233-40ABA2A7F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6A0EF-33C2-4BE9-8EDE-7A1619FC9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EFB7B-3E09-409E-B65B-6097921B0CF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CEDENTE DEL CONSUMIDOR</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vidual y agregad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erencia entre lo que el consumidor estaba dispuesto apagar y lo que efectivamente pa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jemplo: remate de p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DISTRIBUCIÓN DEL INGRESO EFICIENTE DE PARETO</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2743200"/>
            <a:ext cx="77724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istribuciones en modelos anteriores no eran mejoramientos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 la utilidad de los ricos depende del bienestar de los pobres, redistribución puede ser mejoramiento de Pare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o estos altruistas lo harían ellos mism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MENOS QU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No tengan suficiente infor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istribución del ingreso puede ser vista como un bien público (necesidad de coordinación por problema free rid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guro para los ricos que tienen un riesgo positivo de convertirse en pob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guro...</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Visto que muchos hombres, por accidente, se vuelven incapaces de mantenerse con su trabajo, no se les debe dejar a la caridad de las personas privadas, sino ser provistos, hasta donde las necesidades de la naturaleza exigen, por las leyes de la Comunidad” (Thomas Hobbes, 165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 principio de compensación</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ando una política beneficia a algunos y perjudica a otros</a:t>
            </a:r>
            <a:endParaRPr b="0" lang="en-US" sz="3200" spc="-1" strike="noStrike">
              <a:solidFill>
                <a:srgbClr val="000000"/>
              </a:solidFill>
              <a:latin typeface="Times New Roman"/>
            </a:endParaRPr>
          </a:p>
          <a:p>
            <a:pPr lvl="2" marL="113148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presas, gasoducto, vertederos, apertura comercial</a:t>
            </a:r>
            <a:endParaRPr b="0" lang="en-US" sz="24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óricamente es posible compensar a los que pierden</a:t>
            </a:r>
            <a:endParaRPr b="0" lang="en-US" sz="32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 compensación: costos de transacción y debilidad política grupos perjudicados y viceversa (subsidio agricultura), no es posible calcular cuanto compensar (parque perjudica a alérgicos-Ba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IO DE COMPENSACIÓN</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Si los beneficios exceden a los costos, el proyecto o política debe llevarse a cabo, aún si no se efectúan las compensaciones</a:t>
            </a:r>
            <a:endParaRPr b="0" lang="en-US" sz="32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 decir es potencialmente Pareto superior a la situación inicial</a:t>
            </a:r>
            <a:endParaRPr b="0" lang="en-US" sz="3200" spc="-1" strike="noStrike">
              <a:solidFill>
                <a:srgbClr val="000000"/>
              </a:solidFill>
              <a:latin typeface="Times New Roman"/>
            </a:endParaRPr>
          </a:p>
          <a:p>
            <a:pPr marL="294840" indent="-294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Hay opciones de políticas en que: </a:t>
            </a:r>
            <a:endParaRPr b="0" lang="en-US" sz="32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puede ser potencialmente Pareto superior a B y viceversa. </a:t>
            </a:r>
            <a:endParaRPr b="0" lang="en-US" sz="2800" spc="-1" strike="noStrike">
              <a:solidFill>
                <a:srgbClr val="000000"/>
              </a:solidFill>
              <a:latin typeface="Times New Roman"/>
            </a:endParaRPr>
          </a:p>
          <a:p>
            <a:pPr lvl="1" marL="639000" indent="-245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no es potencialmente Pareto superior a B ni vicever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mpetencia perfecta maximiza excedente total</a:t>
            </a:r>
            <a:endParaRPr b="0" lang="en-US" sz="4400" spc="-1" strike="noStrike">
              <a:solidFill>
                <a:srgbClr val="000000"/>
              </a:solidFill>
              <a:latin typeface="Times New Roman"/>
            </a:endParaRPr>
          </a:p>
        </p:txBody>
      </p:sp>
      <p:sp>
        <p:nvSpPr>
          <p:cNvPr id="44" name="PlaceHolder 2"/>
          <p:cNvSpPr>
            <a:spLocks noGrp="1"/>
          </p:cNvSpPr>
          <p:nvPr>
            <p:ph/>
          </p:nvPr>
        </p:nvSpPr>
        <p:spPr>
          <a:xfrm>
            <a:off x="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5" name=""/>
          <p:cNvGraphicFramePr/>
          <p:nvPr/>
        </p:nvGraphicFramePr>
        <p:xfrm>
          <a:off x="685800" y="3768840"/>
          <a:ext cx="7772400" cy="539640"/>
        </p:xfrm>
        <a:graphic>
          <a:graphicData uri="http://schemas.openxmlformats.org/presentationml/2006/ole">
            <p:oleObj progId="Word.Document.12" r:id="rId1" spid="">
              <p:embed/>
              <p:pic>
                <p:nvPicPr>
                  <p:cNvPr id="46" name="" descr=""/>
                  <p:cNvPicPr/>
                  <p:nvPr/>
                </p:nvPicPr>
                <p:blipFill>
                  <a:blip r:embed="rId2"/>
                  <a:stretch/>
                </p:blipFill>
                <p:spPr>
                  <a:xfrm>
                    <a:off x="685800" y="3768840"/>
                    <a:ext cx="7772400" cy="53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ICIENCIA Y COMPETENCIA PERFECT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rcado competitivo maximiza el excedente total.</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economía es Pareto eficiente si el bienestar de cualquiera de sus agentes sólo puede mejorar si se perjudica a otro</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quilibrio competitivo es Pareto eficien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ualquier asignación Pareto eficiente puede alcanzarse bajo competencia perfecta a condición de redistribuir adecuadamente las dotaciones iniciales de facto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838080" y="990360"/>
            <a:ext cx="77724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Los individuos son guiados por una mano invisible, a promover un fin que no formaba parte de sus planes... Preocupados de sus propios intereses frecuentemente promueven aquellos de la sociedad con mayor eficacia que cuando se proponen promoverlos.” (Adam Smith, La riqueza de las na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uál óptimo Pareto es mejor?</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urva de contrato define Frontera de Posibilidades de Utilidad</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tado interviene para mejorar eficiencia y distribución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usca encontrar la distribución “correcta” del ingreso</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utilitarista</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riterio de Rawl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TILITARISMO SIMP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 Función utilitarista de Bienestar Social FB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so particular FBS aditiv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upuestos extra: </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1. Funciones de utilidad individuales idénticas</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2. Utilidad marginal del consumo decreciente</a:t>
            </a:r>
            <a:endParaRPr b="0" lang="en-US" sz="28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3 Cantidad total de consumo disponible fija</a:t>
            </a:r>
            <a:endParaRPr b="0" lang="en-US" sz="2800" spc="-1" strike="noStrike">
              <a:solidFill>
                <a:srgbClr val="000000"/>
              </a:solidFill>
              <a:latin typeface="Times New Roman"/>
            </a:endParaRPr>
          </a:p>
          <a:p>
            <a:pPr lvl="2" marL="110844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 Tarzán y J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BLEMAS SUPUESTO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 idénticas</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UMgC no decreciente (ej. constante)</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cio es un bien, por tanto redistribución vía impuestos y subsidios afecta los incentivos al esfuerzo. </a:t>
            </a:r>
            <a:endParaRPr b="0" lang="en-US" sz="32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llard (1988): redistribuir un US$ en EEUU cuesta entre 1,5 y 2,3 US$.</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de off crecimiento equ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RITERIO MAXIMIN (Rawl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Maximizar la utilidad del que tiene menor utilidad</a:t>
            </a:r>
            <a:endParaRPr b="0" lang="en-US" sz="32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 las desviaciones de la igualdad aumentan la utilidad del que está peor, la distribución del ingreso óptima no es necesariamente igualitaria. </a:t>
            </a:r>
            <a:r>
              <a:rPr b="0" lang="es-ES_tradnl" sz="2400" spc="-1" strike="noStrike">
                <a:solidFill>
                  <a:srgbClr val="000000"/>
                </a:solidFill>
                <a:latin typeface="Times New Roman"/>
              </a:rPr>
              <a:t>(ej. Tarzán despide a Jane)</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Situación original” (amoral)</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masiada aversión al ries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76320"/>
          </a:xfrm>
          <a:prstGeom prst="rect">
            <a:avLst/>
          </a:prstGeom>
          <a:noFill/>
          <a:ln w="0">
            <a:noFill/>
          </a:ln>
        </p:spPr>
        <p:txBody>
          <a:bodyPr lIns="90000" rIns="90000" tIns="29520" bIns="29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IERRE FB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unción aditiva y función maximin son casos extremos de FB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presentar FBS en ejes utilidad de 2 individu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mejor” FBS depende de nuestros puntos de vista éticos, la economía solo permite ilustrar el trade-off entre eficiencia/producción total y equida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22:11:10Z</dcterms:created>
  <dc:creator>DII</dc:creator>
  <dc:description/>
  <dc:language>en-US</dc:language>
  <cp:lastModifiedBy>Universidad de Chile</cp:lastModifiedBy>
  <cp:lastPrinted>2003-05-06T21:52:20Z</cp:lastPrinted>
  <dcterms:modified xsi:type="dcterms:W3CDTF">2004-05-10T21:48:19Z</dcterms:modified>
  <cp:revision>10</cp:revision>
  <dc:subject/>
  <dc:title>EFICIENCIA Y COMPETENCIA PERFECTA</dc:title>
</cp:coreProperties>
</file>