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D31B7-12CA-49CF-96FA-7B909C0C2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AA29E-C4A3-4D67-87DA-617DB3378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92CEA-D67E-4367-9E11-C1544DCDD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AD90B-CA7B-4067-99A4-7ADF00485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27D08-EF8F-4845-A2FC-1E415083F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D68DE-9A31-4CA3-8226-99CA66C2D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C7BA2-9324-4BF9-95F4-AADA983A4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6E6BD-EAAD-453E-BE58-7138DAFAF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6E666-6614-4D1E-A826-137F931EC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7A75A-4750-45FC-8880-42AE1FE62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F299C-320E-4D69-947C-E36E61718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83B70-4496-471A-94DE-C7FC751C6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A0DF-F983-43DF-9082-D959063E760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 y agrega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erencia entre lo que el consumidor estaba dispuesto apagar y lo que efectivamente pa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 remate de 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B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i los beneficios exceden a los costos, el proyecto o política debe llevarse a cabo, aún si no se efectúan las compensaciones</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decir es potencialmente Pareto superior a la situación inicial</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ay opciones de políticas en que: </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puede ser potencialmente Pareto superior a B y viceversa. </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no es potencialmente Pareto superior a B ni vicever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mpetencia perfecta maximiza excedente total</a:t>
            </a:r>
            <a:endParaRPr b="0" lang="en-US" sz="4400" spc="-1" strike="noStrike">
              <a:solidFill>
                <a:srgbClr val="000000"/>
              </a:solidFill>
              <a:latin typeface="Times New Roman"/>
            </a:endParaRPr>
          </a:p>
        </p:txBody>
      </p:sp>
      <p:sp>
        <p:nvSpPr>
          <p:cNvPr id="44" name="PlaceHolder 2"/>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5" name=""/>
          <p:cNvGraphicFramePr/>
          <p:nvPr/>
        </p:nvGraphicFramePr>
        <p:xfrm>
          <a:off x="685800" y="3768840"/>
          <a:ext cx="7772400" cy="539640"/>
        </p:xfrm>
        <a:graphic>
          <a:graphicData uri="http://schemas.openxmlformats.org/presentationml/2006/ole">
            <p:oleObj progId="Word.Document.12" r:id="rId1" spid="">
              <p:embed/>
              <p:pic>
                <p:nvPicPr>
                  <p:cNvPr id="46" name="" descr=""/>
                  <p:cNvPicPr/>
                  <p:nvPr/>
                </p:nvPicPr>
                <p:blipFill>
                  <a:blip r:embed="rId2"/>
                  <a:stretch/>
                </p:blipFill>
                <p:spPr>
                  <a:xfrm>
                    <a:off x="685800" y="3768840"/>
                    <a:ext cx="7772400" cy="53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838080" y="9903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Universidad de Chile</cp:lastModifiedBy>
  <cp:lastPrinted>2003-05-06T21:52:20Z</cp:lastPrinted>
  <dcterms:modified xsi:type="dcterms:W3CDTF">2004-05-10T21:48:19Z</dcterms:modified>
  <cp:revision>10</cp:revision>
  <dc:subject/>
  <dc:title>EFICIENCIA Y COMPETENCIA PERFECTA</dc:title>
</cp:coreProperties>
</file>