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38E4B-B5EB-4B42-A978-1C73D75F0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67FA7-82B8-4B12-9D2D-2296FB953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E7F6F-6C7F-4AEE-AD9D-C4487077C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D54B1-D784-46FB-8692-B43461DF9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8F9E0-328F-4935-815B-B31B7F727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8E0EE-1C13-4A77-8841-CE608BC70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AFBC5-1E26-49DD-8DD5-E89A858E8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7BBB6-3629-4517-AA94-560DC6A25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5D3A2-E6F2-4E28-8BE7-CB86CF461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41AE-597E-4698-990B-4B016440D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82B84-BC56-43FC-8124-D0CCC4A68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47946-F442-4CAE-BE73-814EA6900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18F5-74AF-4A6A-8F70-354A4019020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y agrega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erencia entre lo que el consumidor estaba dispuesto apagar y lo que efectivamente pa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 remate de 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 los beneficios exceden a los costos, el proyecto o política debe llevarse a cabo, aún si no se efectúan las compensaciones</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decir es potencialmente Pareto superior a la situación inicial</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y opciones de políticas en que: </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puede ser potencialmente Pareto superior a B y viceversa. </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o es potencialmente Pareto superior a B ni vice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etencia perfecta maximiza excedente total</a:t>
            </a:r>
            <a:endParaRPr b="0" lang="en-US" sz="4400" spc="-1" strike="noStrike">
              <a:solidFill>
                <a:srgbClr val="000000"/>
              </a:solidFill>
              <a:latin typeface="Times New Roman"/>
            </a:endParaRPr>
          </a:p>
        </p:txBody>
      </p:sp>
      <p:sp>
        <p:nvSpPr>
          <p:cNvPr id="44"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5" name=""/>
          <p:cNvGraphicFramePr/>
          <p:nvPr/>
        </p:nvGraphicFramePr>
        <p:xfrm>
          <a:off x="685800" y="3768840"/>
          <a:ext cx="7772400" cy="539640"/>
        </p:xfrm>
        <a:graphic>
          <a:graphicData uri="http://schemas.openxmlformats.org/presentationml/2006/ole">
            <p:oleObj progId="Word.Document.12" r:id="rId1" spid="">
              <p:embed/>
              <p:pic>
                <p:nvPicPr>
                  <p:cNvPr id="46" name="" descr=""/>
                  <p:cNvPicPr/>
                  <p:nvPr/>
                </p:nvPicPr>
                <p:blipFill>
                  <a:blip r:embed="rId2"/>
                  <a:stretch/>
                </p:blipFill>
                <p:spPr>
                  <a:xfrm>
                    <a:off x="685800" y="3768840"/>
                    <a:ext cx="777240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Universidad de Chile</cp:lastModifiedBy>
  <cp:lastPrinted>2003-05-06T21:52:20Z</cp:lastPrinted>
  <dcterms:modified xsi:type="dcterms:W3CDTF">2004-05-10T21:48:19Z</dcterms:modified>
  <cp:revision>10</cp:revision>
  <dc:subject/>
  <dc:title>EFICIENCIA Y COMPETENCIA PERFECTA</dc:title>
</cp:coreProperties>
</file>