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639-4A9D-4F36-B3D9-8E112E37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AEE-382D-44C2-BE31-83FF941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231-01F9-4964-9D6A-01D61C22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1D1-D049-41FB-B9BD-258DFB8D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F7E-87A8-4553-A472-C88A387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DCD-0856-4DE4-B78F-46BB734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F89-ED2E-4325-A83D-AC607967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98F-815A-4C0D-BD61-48FA5ECA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50B-23E8-4586-B2C1-58D9E22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509-DED6-47A4-B0BB-1024498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6AC-2727-4345-907E-BC58CBB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708-6A8E-4B54-B961-5BDFA97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786-3A2A-43C6-A722-28522BD2D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260880"/>
            <a:ext cx="82296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ología para la Gestión Territori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362320"/>
            <a:ext cx="82296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L60H  : Sem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00480" y="4495680"/>
            <a:ext cx="4343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: Cristóbal Fernánd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304920"/>
          <a:ext cx="409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409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990720" y="304920"/>
            <a:ext cx="556236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ultad de Ciencias Físicas y Matem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amento de Ge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064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ASE 2 : Legislac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Estructura CO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666880"/>
            <a:ext cx="1295280" cy="146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rector Ejec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recho a voz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no voto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Consejo Direc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666880"/>
            <a:ext cx="2819520" cy="329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ejo Dir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 Ministr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. Gen. Presidencia (Presidente Consej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.R.E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f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lanificación y Coope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vienda y Urban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ienes Na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ransporte y Telec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666880"/>
            <a:ext cx="1905120" cy="290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ul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in. Secr. Gen.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científicos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de ONG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de centros académico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empresar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Trabaj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rep. Presidente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09960" y="1066680"/>
            <a:ext cx="320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sidente de la Repu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33640" y="1708200"/>
            <a:ext cx="33530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inisterio Secretaria General de la 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6095880"/>
            <a:ext cx="2057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rdina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621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621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42900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171840" y="34290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4479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3623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133360" y="2209680"/>
            <a:ext cx="68580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133720"/>
            <a:ext cx="45720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Estructura C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87680"/>
            <a:ext cx="160020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rector Regional de CON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295280"/>
            <a:ext cx="2819520" cy="42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R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ntendente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(Presid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tor Regional CONAMA (Sedretari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obern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 Consejeros Re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EM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. Gen. Pres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.R.E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f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lanificación y Coope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bras 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vienda y Urban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ienes Na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indent="-19368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ransporte y Telec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576600"/>
            <a:ext cx="1905120" cy="194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e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ul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tor Regional CON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científicos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de ONG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empresar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rep. Trabaj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095880"/>
            <a:ext cx="2057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rdina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621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21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1510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171840" y="21510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1295280"/>
            <a:ext cx="1905120" cy="22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ité Téc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irector Regional CON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Organismos Públicos Regionales con Competencia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171840" y="44956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poner al Presidente las polític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ts val="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uar como órgano de consulta, análisis, comunicación y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ts val="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tener un sistema nacional de información ambiental, de carácter públ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dministrar el SEIA y coordinar el proceso de generación de nor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mover la educación y difusión ambiental, y la participación ciudad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ordinar cooperación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 proyectos y actividades de protección, preservación y conserv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Funciones CO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Instrumentos de Gestió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960" y="1523880"/>
            <a:ext cx="78105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tulo II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ducación 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cipación de la Comunidad en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Calidad Ambiental y de la Preservación de la Naturaleza y Conservación del Patrimonio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rma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es de Manejo, Prevención o Descontam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cedimiento de Recla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Art.4: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s deber del Estado facilitar la participación ciudadana y </a:t>
            </a:r>
            <a:r>
              <a:rPr b="0" lang="es-ES_tradnl" sz="2200" spc="-1" strike="noStrike">
                <a:solidFill>
                  <a:srgbClr val="ffff99"/>
                </a:solidFill>
                <a:latin typeface="Arial"/>
              </a:rPr>
              <a:t>promover campañas educativa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destinadas a la protección del medio amb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just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Art.6: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proceso educativo, en sus diversos niveles, a través de la transmisión de conocimientos y de la enseñanza de conceptos modernos de protección ambiental, orientados a la comprensión y toma de conciencia de los problemas ambientales, deberá incorporar la integración de valores y el desarrollo de hábitos y conductas que tiendan a prevenirlos y resolver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Art.7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os fondos de investigación científica, desarrollo tecnológico y social que tengan asignados recursos en la Ley de Presupuestos de la Nación, podrán financiar proyectos relativos al medio ambiente, sin perjuicio de sus fines específ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ns.Ges.Amb.: Educación e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ns.Ges.Amb.: SE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0666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t.10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yect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 actividades susceptibles de causar impacto ambiental, en cualesquiera de sus fases, que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eberán someterse al SE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son los siguient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Modificad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286000"/>
            <a:ext cx="815328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) Acueductos, embalses o tran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) Líneas de transmisión eléctrica y subest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) Centrales generadoras de energía mayores a 3 M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) Reactores y establecimientos nuclea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) Aeropuertos, terminales de buses, camiones y ferrocarr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) Puertos y terminales maríti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) Proyectos de desarrollo urbano o turístico, en zonas no comprendidas en alguno de los planes a que alude la letra sigu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) Planes regionales de desarrollo urbano, planes reguladores comunales e intercomu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s de desarrollo m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j) Oleoductos, gasoductos, ductos mi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) Instalaciones fabriles (metalúrgicas, químicas, textiles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7640" y="1555920"/>
            <a:ext cx="78487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) Agroindustr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) Proyectos forestales, industrias de celulosa, pasta de papel y pa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) Proyectos de explotación de recursos hidrobiológ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ñ) Producción, almacenamiento, transporte, disposición o reutilización habituales de sustancias tóxicas, explosivas, radioactivas, inflamables, corrosivas o reactiv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) Proyectos de saneamiento ambiental (ej. rellenos sanitarios, sistemas de tratamiento y disposición de residuos industriales líquidos o sólid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) Ejecución de obras, programas o actividades en parques nacionales, reservas nacionales, monumentos naturales, santuarios de la naturaleza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) Aplicación masiva de productos químicos en áreas urbanas o zonas rurales próximas a centros poblados o a cursos o masas de agua que puedan ser afec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ns.Ges.Amb.: SEI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06668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t.10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Estudio o Declara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13716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t.11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s proyectos o actividades enumerados en el artículo precedente requerirán la elaboración de un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udio de Impacto Ambiental (EIA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i generan o presentan a lo menos uno de los siguientes efectos, características o circun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32320"/>
            <a:ext cx="79250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) Riesgo para la salud de la población, debido a la cantidad y calidad de efluentes, emisiones o residu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) Efectos adversos significativos sobre la cantidad y calidad de los recursos naturales renovables, incluidos el suelo, agua y air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) Reasentamiento de comunidades humanas, o alteración significativa de los sistemas de vida y costumbres de grupos human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11320"/>
            <a:ext cx="7848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) Localización próxima a población, recursos y áreas protegidas susceptibles de ser afectados, así como el valor ambiental del territorio en que se pretende emplaza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) Alteración significativa, en términos de magnitud o duración, del valor paisajístico o turístico de una zona,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) Alteración de monumentos, sitios con valor antropológico, arqueológico, histórico y, en general, los pertenecientes al patrimonio cultu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1268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t.11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555480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4100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, requieren de una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Declaración de Impacto Ambiental (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Estudio o Declaración ?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ROCEDIMIENTO PARA DETERMINAR SI UN PROYECTO O ACTIVIDAD INGRESAN AL SEIA Y SI REQUIERE DECLARACION O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1295280"/>
            <a:ext cx="22860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yecto o actividad se encuentra e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rtículo 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la LBGMA y 3º del Reg.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1676520"/>
            <a:ext cx="571680" cy="34272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438280"/>
            <a:ext cx="2971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ular de proyecto o actividad desea someterse voluntariamente a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2743200"/>
            <a:ext cx="571320" cy="343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2743200"/>
            <a:ext cx="571680" cy="343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429000"/>
            <a:ext cx="571320" cy="343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114800"/>
            <a:ext cx="1752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sectorial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3276720"/>
            <a:ext cx="33530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yecto o actividad presenta o genera algún efecto, característica o circunstancia del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rtículo 1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la LBGMA y Título II del Reg.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724280"/>
            <a:ext cx="609480" cy="343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4724280"/>
            <a:ext cx="571320" cy="343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5257800"/>
            <a:ext cx="25527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ular del proyecto o actividad debe presentar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STU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EI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resolución en 120 días + 60 ampl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257800"/>
            <a:ext cx="2629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ular del proyecto o actividad debe presentar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CLARAC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DI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resolución en 60 días + 30 ampl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0574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2057400"/>
            <a:ext cx="3429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429000"/>
            <a:ext cx="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2666880"/>
            <a:ext cx="1447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66688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74320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6483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46483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gislació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162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itución Política del Estado (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ts val="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y de Bases Generales del Medio Ambiente (Ley 19.300 de 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ts val="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lamen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733920"/>
            <a:ext cx="678168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stema de Evaluación de Impacto Ambiental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D.S. Nº95 de 2001, modifica el D.S. Nº30 de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la dictación de Normas de Calidad Ambiental y de Emis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D.S. Nº93 de 19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fija procedimientos y etapas para establecer Planes de Prevención y de Descontaminac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D.S. Nº94 de 19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Contenido de EIA (Ley 19.3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9907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rt.12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os Estudios de Impacto Ambiental (EIA) considerarán las siguientes mate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752480"/>
            <a:ext cx="807732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) Una descripción del proyecto o activ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) La línea de 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) Una descripción pormenorizada de aquellos efectos, características o circunstancias del artículo 11 que dan origen a la necesidad de efectuar un Estudio de Impac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) Una predicción y evaluación del impacto ambiental del proyecto o actividad, incluidas las eventuales situaciones de ries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) Las medidas que se adoptarán para eliminar o minimizar los efectos adversos del proyecto o actividad y las acciones de reparación que se realizarán, cuando ello sea proce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) Un plan de seguimiento de las variables ambientales relevantes que dan origen al Estudio de Impacto Ambien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) Un plan de cumplimiento de la legislación ambiental aplic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Declaración Ju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umple con la legislación vig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compaña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Tipo del Proyecto que se tr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scripción del 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nformación Necesaria para determinar que los Impactos Ambientales se ajustan a la Normativa Vig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nformación necesaria para justificar que no se requiere un E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scripción de los compromisos Ambientales voluntarios no exigidos por la legisl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80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i el proyecto es una modificación de una actividad preexistente, se debe incluir la descripción de la situación act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Contenido de DIA (Reglam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Plazos SE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600" y="1219320"/>
            <a:ext cx="8134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zo máximo para 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IA : 120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A : 60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4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laraciones, rectificaciones o ampliaciones al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lazo para respuesta de intere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spensión de plazo, de común acue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4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pliación del plazo, por una sol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IA : 60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A : 30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4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 transcurridos los plazos, CONAMA no se ha pronunciado sobre el EIA o DIA, éste se entenderá calificado favorable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143000"/>
            <a:ext cx="3581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TULAR PROYECTO O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ENT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IA O 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98108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ufic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676520"/>
            <a:ext cx="2362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os Est. Comp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nicipio y gobern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p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isión resp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810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RECTOR REVIS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DOC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CTA RESOLUCION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5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9548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NO CUMPL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QUISITOS: 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DMISION A TRAM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2200" y="2895480"/>
            <a:ext cx="2133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UMPL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QUISI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DMITE A TRAM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066680"/>
            <a:ext cx="1600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ienza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IA : 120 dí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 : 60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29718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den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ublicación extra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ntro 10 días des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entación (solo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Presentación de EIA o 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1" idx="2"/>
            <a:endCxn id="144" idx="0"/>
          </p:cNvCxnSpPr>
          <p:nvPr/>
        </p:nvCxnSpPr>
        <p:spPr>
          <a:xfrm>
            <a:off x="2323800" y="1752120"/>
            <a:ext cx="1080" cy="229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 rot="16200000">
            <a:off x="3285000" y="1552320"/>
            <a:ext cx="381600" cy="230544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 rot="5400000">
            <a:off x="1694880" y="2266920"/>
            <a:ext cx="381600" cy="87696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1" idx="3"/>
            <a:endCxn id="142" idx="1"/>
          </p:cNvCxnSpPr>
          <p:nvPr/>
        </p:nvCxnSpPr>
        <p:spPr>
          <a:xfrm>
            <a:off x="4114800" y="1447920"/>
            <a:ext cx="457920" cy="762480"/>
          </a:xfrm>
          <a:prstGeom prst="bentConnector3">
            <a:avLst>
              <a:gd name="adj1" fmla="val 4996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1" idx="3"/>
            <a:endCxn id="147" idx="1"/>
          </p:cNvCxnSpPr>
          <p:nvPr/>
        </p:nvCxnSpPr>
        <p:spPr>
          <a:xfrm>
            <a:off x="4114800" y="1447560"/>
            <a:ext cx="45792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09480" y="388620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NOTIFICA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28960" y="388620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NOT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4648320"/>
            <a:ext cx="1447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648320"/>
            <a:ext cx="17524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ORG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OMPE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648320"/>
            <a:ext cx="19047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NICIPIO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OBERN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P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715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LES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N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JEMPLARE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DEL EIA O 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COPIA DE RESOL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5791320"/>
            <a:ext cx="2133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+ COPIA PUBL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XTRACTO (solo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5" idx="2"/>
            <a:endCxn id="155" idx="0"/>
          </p:cNvCxnSpPr>
          <p:nvPr/>
        </p:nvCxnSpPr>
        <p:spPr>
          <a:xfrm flipV="1" rot="10800000">
            <a:off x="1447200" y="36572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6" idx="2"/>
            <a:endCxn id="158" idx="0"/>
          </p:cNvCxnSpPr>
          <p:nvPr/>
        </p:nvCxnSpPr>
        <p:spPr>
          <a:xfrm rot="5400000">
            <a:off x="4428360" y="4447800"/>
            <a:ext cx="381960" cy="19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6" idx="2"/>
            <a:endCxn id="157" idx="0"/>
          </p:cNvCxnSpPr>
          <p:nvPr/>
        </p:nvCxnSpPr>
        <p:spPr>
          <a:xfrm rot="5400000">
            <a:off x="3552120" y="3571560"/>
            <a:ext cx="381960" cy="17722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6" idx="2"/>
            <a:endCxn id="159" idx="0"/>
          </p:cNvCxnSpPr>
          <p:nvPr/>
        </p:nvCxnSpPr>
        <p:spPr>
          <a:xfrm flipH="1" rot="16200000">
            <a:off x="5495760" y="3399840"/>
            <a:ext cx="381960" cy="21153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8" idx="2"/>
            <a:endCxn id="160" idx="0"/>
          </p:cNvCxnSpPr>
          <p:nvPr/>
        </p:nvCxnSpPr>
        <p:spPr>
          <a:xfrm flipV="1" rot="10800000">
            <a:off x="4609440" y="5409720"/>
            <a:ext cx="1080" cy="30564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4572000" y="64771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6" idx="2"/>
            <a:endCxn id="156" idx="0"/>
          </p:cNvCxnSpPr>
          <p:nvPr/>
        </p:nvCxnSpPr>
        <p:spPr>
          <a:xfrm flipV="1" rot="10800000">
            <a:off x="4628520" y="3580920"/>
            <a:ext cx="1080" cy="30564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46" idx="3"/>
            <a:endCxn id="148" idx="1"/>
          </p:cNvCxnSpPr>
          <p:nvPr/>
        </p:nvCxnSpPr>
        <p:spPr>
          <a:xfrm>
            <a:off x="5695560" y="3238200"/>
            <a:ext cx="477000" cy="1148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2" idx="3"/>
            <a:endCxn id="143" idx="1"/>
          </p:cNvCxnSpPr>
          <p:nvPr/>
        </p:nvCxnSpPr>
        <p:spPr>
          <a:xfrm flipV="1">
            <a:off x="5866920" y="2171160"/>
            <a:ext cx="686520" cy="38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362320" y="914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838080"/>
            <a:ext cx="3505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ORGANOS ESTADO COMPE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ABORA INFORMES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30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676520"/>
            <a:ext cx="3809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SOLICITAN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CL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CTIFICACIONES O AMPLI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43880" y="1676520"/>
            <a:ext cx="1904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SE SOLIC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9036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Evaluación  de un E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0640" y="228600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ORME CONSOLID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895480"/>
            <a:ext cx="3200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NOTIFICA A 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 PLAZO PARA CONTE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657600"/>
            <a:ext cx="2819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ESTA DENTR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FORMA DE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DDEND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65760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CONT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NTR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343400"/>
            <a:ext cx="3124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NVI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ORG. ESTADO COMP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8862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INFORME CONSOLID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VALUACION DEL E.I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791320"/>
            <a:ext cx="31240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SOLICITAN ACL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TIFIC. O AMPLI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79132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SE SOLIC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. EST. COMPET.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ORMES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15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2" idx="2"/>
            <a:endCxn id="173" idx="0"/>
          </p:cNvCxnSpPr>
          <p:nvPr/>
        </p:nvCxnSpPr>
        <p:spPr>
          <a:xfrm rot="5400000">
            <a:off x="3733200" y="761760"/>
            <a:ext cx="30564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2" idx="2"/>
            <a:endCxn id="174" idx="0"/>
          </p:cNvCxnSpPr>
          <p:nvPr/>
        </p:nvCxnSpPr>
        <p:spPr>
          <a:xfrm flipH="1" rot="16200000">
            <a:off x="6019560" y="-360"/>
            <a:ext cx="305640" cy="30484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3" idx="2"/>
            <a:endCxn id="176" idx="0"/>
          </p:cNvCxnSpPr>
          <p:nvPr/>
        </p:nvCxnSpPr>
        <p:spPr>
          <a:xfrm flipV="1" rot="10800000">
            <a:off x="3123360" y="21333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6" idx="2"/>
            <a:endCxn id="177" idx="0"/>
          </p:cNvCxnSpPr>
          <p:nvPr/>
        </p:nvCxnSpPr>
        <p:spPr>
          <a:xfrm flipV="1" rot="10800000">
            <a:off x="3123360" y="274284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7" idx="2"/>
            <a:endCxn id="178" idx="0"/>
          </p:cNvCxnSpPr>
          <p:nvPr/>
        </p:nvCxnSpPr>
        <p:spPr>
          <a:xfrm rot="5400000">
            <a:off x="2571120" y="3105000"/>
            <a:ext cx="305640" cy="800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7" idx="2"/>
            <a:endCxn id="179" idx="0"/>
          </p:cNvCxnSpPr>
          <p:nvPr/>
        </p:nvCxnSpPr>
        <p:spPr>
          <a:xfrm flipH="1" rot="16200000">
            <a:off x="3846960" y="2628360"/>
            <a:ext cx="305640" cy="17535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8" idx="2"/>
            <a:endCxn id="180" idx="0"/>
          </p:cNvCxnSpPr>
          <p:nvPr/>
        </p:nvCxnSpPr>
        <p:spPr>
          <a:xfrm flipV="1" rot="10800000">
            <a:off x="2323440" y="41144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V="1" rot="10800000">
            <a:off x="2323440" y="48002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4" idx="2"/>
            <a:endCxn id="182" idx="0"/>
          </p:cNvCxnSpPr>
          <p:nvPr/>
        </p:nvCxnSpPr>
        <p:spPr>
          <a:xfrm rot="5400000">
            <a:off x="2018520" y="5486040"/>
            <a:ext cx="305640" cy="305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4" idx="2"/>
            <a:endCxn id="183" idx="0"/>
          </p:cNvCxnSpPr>
          <p:nvPr/>
        </p:nvCxnSpPr>
        <p:spPr>
          <a:xfrm flipH="1" rot="16200000">
            <a:off x="3370680" y="4438440"/>
            <a:ext cx="305640" cy="24008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2" idx="1"/>
            <a:endCxn id="176" idx="1"/>
          </p:cNvCxnSpPr>
          <p:nvPr/>
        </p:nvCxnSpPr>
        <p:spPr>
          <a:xfrm flipH="1" rot="10800000">
            <a:off x="456840" y="2513880"/>
            <a:ext cx="1334160" cy="3525120"/>
          </a:xfrm>
          <a:prstGeom prst="bentConnector3">
            <a:avLst>
              <a:gd name="adj1" fmla="val -17139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79" idx="2"/>
            <a:endCxn id="181" idx="1"/>
          </p:cNvCxnSpPr>
          <p:nvPr/>
        </p:nvCxnSpPr>
        <p:spPr>
          <a:xfrm flipH="1" rot="16200000">
            <a:off x="5561640" y="3428640"/>
            <a:ext cx="153000" cy="15246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3" idx="3"/>
            <a:endCxn id="181" idx="1"/>
          </p:cNvCxnSpPr>
          <p:nvPr/>
        </p:nvCxnSpPr>
        <p:spPr>
          <a:xfrm flipV="1">
            <a:off x="5638320" y="4266360"/>
            <a:ext cx="762840" cy="17535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74" idx="2"/>
            <a:endCxn id="181" idx="0"/>
          </p:cNvCxnSpPr>
          <p:nvPr/>
        </p:nvCxnSpPr>
        <p:spPr>
          <a:xfrm flipV="1" rot="10800000">
            <a:off x="7695360" y="2133360"/>
            <a:ext cx="1080" cy="17532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96080" y="67057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6858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800600"/>
            <a:ext cx="2590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ENVIA A ORG. 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. PAR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VIS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5 días y pueden Nega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 fund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59436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ORME FINAL (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saciones y Negativ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81" idx="2"/>
            <a:endCxn id="201" idx="0"/>
          </p:cNvCxnSpPr>
          <p:nvPr/>
        </p:nvCxnSpPr>
        <p:spPr>
          <a:xfrm flipV="1" rot="10800000">
            <a:off x="7695360" y="46479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2"/>
            <a:endCxn id="202" idx="0"/>
          </p:cNvCxnSpPr>
          <p:nvPr/>
        </p:nvCxnSpPr>
        <p:spPr>
          <a:xfrm flipV="1" rot="10800000">
            <a:off x="7695360" y="57909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486400" y="243828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ARTICIP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1"/>
            <a:endCxn id="176" idx="3"/>
          </p:cNvCxnSpPr>
          <p:nvPr/>
        </p:nvCxnSpPr>
        <p:spPr>
          <a:xfrm flipH="1" flipV="1">
            <a:off x="4457520" y="2513880"/>
            <a:ext cx="1028880" cy="19116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5" idx="2"/>
            <a:endCxn id="181" idx="0"/>
          </p:cNvCxnSpPr>
          <p:nvPr/>
        </p:nvCxnSpPr>
        <p:spPr>
          <a:xfrm>
            <a:off x="6324480" y="2971800"/>
            <a:ext cx="1372320" cy="91512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5480" y="838080"/>
            <a:ext cx="3505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ORGANOS ESTADO COMPE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ABORA INFORMES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15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1676520"/>
            <a:ext cx="3809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SOLICITAN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CL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CTIFICACIONES O AMPLI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43880" y="1676520"/>
            <a:ext cx="1904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SE SOLIC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9036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Evaluación  de un 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90640" y="2286000"/>
            <a:ext cx="2667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ORME CONSOLID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2895480"/>
            <a:ext cx="3200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NOTIFICA A 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 PLAZO PARA CONTE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657600"/>
            <a:ext cx="2819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ESTA DENTR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FORMA DE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DDEND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365760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CONT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NTR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343400"/>
            <a:ext cx="3124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NVI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ORG. ESTADO COMP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63868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INFORME CONSOLID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VALUACION DEL D.I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791320"/>
            <a:ext cx="31240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SOLICITAN ACL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TIFIC. O AMPLI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579132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SE SOLIC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. EST. COMPET. ELAB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ORMES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10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08" idx="2"/>
            <a:endCxn id="209" idx="0"/>
          </p:cNvCxnSpPr>
          <p:nvPr/>
        </p:nvCxnSpPr>
        <p:spPr>
          <a:xfrm rot="5400000">
            <a:off x="3733200" y="761760"/>
            <a:ext cx="30564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08" idx="2"/>
            <a:endCxn id="210" idx="0"/>
          </p:cNvCxnSpPr>
          <p:nvPr/>
        </p:nvCxnSpPr>
        <p:spPr>
          <a:xfrm flipH="1" rot="16200000">
            <a:off x="6019560" y="-360"/>
            <a:ext cx="305640" cy="30484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09" idx="2"/>
            <a:endCxn id="212" idx="0"/>
          </p:cNvCxnSpPr>
          <p:nvPr/>
        </p:nvCxnSpPr>
        <p:spPr>
          <a:xfrm flipV="1" rot="10800000">
            <a:off x="3123360" y="21333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2" idx="2"/>
            <a:endCxn id="213" idx="0"/>
          </p:cNvCxnSpPr>
          <p:nvPr/>
        </p:nvCxnSpPr>
        <p:spPr>
          <a:xfrm flipV="1" rot="10800000">
            <a:off x="3123360" y="274284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3" idx="2"/>
            <a:endCxn id="214" idx="0"/>
          </p:cNvCxnSpPr>
          <p:nvPr/>
        </p:nvCxnSpPr>
        <p:spPr>
          <a:xfrm rot="5400000">
            <a:off x="2571120" y="3105000"/>
            <a:ext cx="305640" cy="800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3" idx="2"/>
            <a:endCxn id="215" idx="0"/>
          </p:cNvCxnSpPr>
          <p:nvPr/>
        </p:nvCxnSpPr>
        <p:spPr>
          <a:xfrm flipH="1" rot="16200000">
            <a:off x="3846960" y="2628360"/>
            <a:ext cx="305640" cy="17535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4" idx="2"/>
            <a:endCxn id="216" idx="0"/>
          </p:cNvCxnSpPr>
          <p:nvPr/>
        </p:nvCxnSpPr>
        <p:spPr>
          <a:xfrm flipV="1" rot="10800000">
            <a:off x="2323440" y="41144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V="1" rot="10800000">
            <a:off x="2323440" y="48002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2"/>
            <a:endCxn id="218" idx="0"/>
          </p:cNvCxnSpPr>
          <p:nvPr/>
        </p:nvCxnSpPr>
        <p:spPr>
          <a:xfrm rot="5400000">
            <a:off x="2018520" y="5486040"/>
            <a:ext cx="305640" cy="305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0" idx="2"/>
            <a:endCxn id="219" idx="0"/>
          </p:cNvCxnSpPr>
          <p:nvPr/>
        </p:nvCxnSpPr>
        <p:spPr>
          <a:xfrm flipH="1" rot="16200000">
            <a:off x="3370680" y="4438440"/>
            <a:ext cx="305640" cy="24008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8" idx="1"/>
            <a:endCxn id="212" idx="1"/>
          </p:cNvCxnSpPr>
          <p:nvPr/>
        </p:nvCxnSpPr>
        <p:spPr>
          <a:xfrm flipH="1" rot="10800000">
            <a:off x="456840" y="2513880"/>
            <a:ext cx="1334160" cy="3525120"/>
          </a:xfrm>
          <a:prstGeom prst="bentConnector3">
            <a:avLst>
              <a:gd name="adj1" fmla="val -17139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15" idx="2"/>
            <a:endCxn id="217" idx="0"/>
          </p:cNvCxnSpPr>
          <p:nvPr/>
        </p:nvCxnSpPr>
        <p:spPr>
          <a:xfrm flipH="1" rot="16200000">
            <a:off x="5523480" y="3466800"/>
            <a:ext cx="1524600" cy="28198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9" idx="3"/>
            <a:endCxn id="217" idx="1"/>
          </p:cNvCxnSpPr>
          <p:nvPr/>
        </p:nvCxnSpPr>
        <p:spPr>
          <a:xfrm>
            <a:off x="5638320" y="6019560"/>
            <a:ext cx="7628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0" idx="2"/>
            <a:endCxn id="217" idx="0"/>
          </p:cNvCxnSpPr>
          <p:nvPr/>
        </p:nvCxnSpPr>
        <p:spPr>
          <a:xfrm flipV="1" rot="10800000">
            <a:off x="7695360" y="2133360"/>
            <a:ext cx="1080" cy="35056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7696080" y="6477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6858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5480" y="3124080"/>
            <a:ext cx="3276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SOLUCION FUND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LIFIC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MBIENTALMENTE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114800"/>
            <a:ext cx="1219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CH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1676520"/>
            <a:ext cx="2362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convoca a s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Comisión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4114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14880" y="41148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EÑALA COND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9036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Resolución de EIA o 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33440" y="914400"/>
            <a:ext cx="1981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se pres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nte COR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6840" y="914400"/>
            <a:ext cx="1981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se present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rección Ejecu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362320"/>
            <a:ext cx="2209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EMA RESUE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2362320"/>
            <a:ext cx="2514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 RESUE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3" idx="2"/>
            <a:endCxn id="239" idx="0"/>
          </p:cNvCxnSpPr>
          <p:nvPr/>
        </p:nvCxnSpPr>
        <p:spPr>
          <a:xfrm flipV="1" rot="10800000">
            <a:off x="2323440" y="144756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9" idx="2"/>
            <a:endCxn id="245" idx="0"/>
          </p:cNvCxnSpPr>
          <p:nvPr/>
        </p:nvCxnSpPr>
        <p:spPr>
          <a:xfrm flipV="1" rot="10800000">
            <a:off x="2323440" y="2209320"/>
            <a:ext cx="1080" cy="15336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5" idx="2"/>
            <a:endCxn id="237" idx="0"/>
          </p:cNvCxnSpPr>
          <p:nvPr/>
        </p:nvCxnSpPr>
        <p:spPr>
          <a:xfrm flipH="1" rot="16200000">
            <a:off x="3276720" y="1866600"/>
            <a:ext cx="305280" cy="2210400"/>
          </a:xfrm>
          <a:prstGeom prst="bentConnector3">
            <a:avLst>
              <a:gd name="adj1" fmla="val 4994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4" idx="2"/>
            <a:endCxn id="246" idx="0"/>
          </p:cNvCxnSpPr>
          <p:nvPr/>
        </p:nvCxnSpPr>
        <p:spPr>
          <a:xfrm flipV="1" rot="10800000">
            <a:off x="6666840" y="1676160"/>
            <a:ext cx="1080" cy="6865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6" idx="2"/>
            <a:endCxn id="237" idx="0"/>
          </p:cNvCxnSpPr>
          <p:nvPr/>
        </p:nvCxnSpPr>
        <p:spPr>
          <a:xfrm rot="5400000">
            <a:off x="5447520" y="1904760"/>
            <a:ext cx="305280" cy="2134440"/>
          </a:xfrm>
          <a:prstGeom prst="bentConnector3">
            <a:avLst>
              <a:gd name="adj1" fmla="val 4994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37" idx="2"/>
            <a:endCxn id="238" idx="0"/>
          </p:cNvCxnSpPr>
          <p:nvPr/>
        </p:nvCxnSpPr>
        <p:spPr>
          <a:xfrm flipH="1" rot="16200000">
            <a:off x="5656680" y="2761920"/>
            <a:ext cx="229320" cy="2477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7" idx="2"/>
            <a:endCxn id="240" idx="0"/>
          </p:cNvCxnSpPr>
          <p:nvPr/>
        </p:nvCxnSpPr>
        <p:spPr>
          <a:xfrm rot="5400000">
            <a:off x="3180600" y="2761920"/>
            <a:ext cx="229320" cy="2477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7" idx="2"/>
            <a:endCxn id="241" idx="0"/>
          </p:cNvCxnSpPr>
          <p:nvPr/>
        </p:nvCxnSpPr>
        <p:spPr>
          <a:xfrm flipV="1" rot="10800000">
            <a:off x="4533120" y="38858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384804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NOT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5486400"/>
            <a:ext cx="2781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TRAS PERSONAS Y OR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90800" y="5486400"/>
            <a:ext cx="1486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548640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UTOR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0" idx="2"/>
            <a:endCxn id="255" idx="0"/>
          </p:cNvCxnSpPr>
          <p:nvPr/>
        </p:nvCxnSpPr>
        <p:spPr>
          <a:xfrm flipH="1" rot="16200000">
            <a:off x="3142080" y="3409560"/>
            <a:ext cx="305640" cy="2477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41" idx="2"/>
            <a:endCxn id="255" idx="0"/>
          </p:cNvCxnSpPr>
          <p:nvPr/>
        </p:nvCxnSpPr>
        <p:spPr>
          <a:xfrm flipV="1" rot="10800000">
            <a:off x="4533120" y="4495320"/>
            <a:ext cx="1080" cy="30564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8" idx="2"/>
            <a:endCxn id="255" idx="0"/>
          </p:cNvCxnSpPr>
          <p:nvPr/>
        </p:nvCxnSpPr>
        <p:spPr>
          <a:xfrm rot="5400000">
            <a:off x="5618880" y="3409560"/>
            <a:ext cx="305640" cy="2477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2"/>
            <a:endCxn id="257" idx="0"/>
          </p:cNvCxnSpPr>
          <p:nvPr/>
        </p:nvCxnSpPr>
        <p:spPr>
          <a:xfrm flipV="1" rot="10800000">
            <a:off x="4533120" y="5181120"/>
            <a:ext cx="1080" cy="30564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5" idx="2"/>
            <a:endCxn id="256" idx="0"/>
          </p:cNvCxnSpPr>
          <p:nvPr/>
        </p:nvCxnSpPr>
        <p:spPr>
          <a:xfrm rot="5400000">
            <a:off x="3075840" y="4028760"/>
            <a:ext cx="305640" cy="26103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5" idx="2"/>
            <a:endCxn id="258" idx="0"/>
          </p:cNvCxnSpPr>
          <p:nvPr/>
        </p:nvCxnSpPr>
        <p:spPr>
          <a:xfrm flipH="1" rot="16200000">
            <a:off x="5962320" y="3752280"/>
            <a:ext cx="305640" cy="31629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2057400" y="632448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CURSO RECLA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6" idx="2"/>
            <a:endCxn id="265" idx="0"/>
          </p:cNvCxnSpPr>
          <p:nvPr/>
        </p:nvCxnSpPr>
        <p:spPr>
          <a:xfrm flipH="1" rot="16200000">
            <a:off x="2486160" y="5304960"/>
            <a:ext cx="457920" cy="1581840"/>
          </a:xfrm>
          <a:prstGeom prst="bentConnector3">
            <a:avLst>
              <a:gd name="adj1" fmla="val 4996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2"/>
            <a:endCxn id="265" idx="0"/>
          </p:cNvCxnSpPr>
          <p:nvPr/>
        </p:nvCxnSpPr>
        <p:spPr>
          <a:xfrm rot="5400000">
            <a:off x="3790080" y="5581800"/>
            <a:ext cx="457920" cy="1028880"/>
          </a:xfrm>
          <a:prstGeom prst="bentConnector3">
            <a:avLst>
              <a:gd name="adj1" fmla="val 4996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/>
          <p:nvPr/>
        </p:nvCxnSpPr>
        <p:spPr>
          <a:xfrm flipV="1" rot="10800000">
            <a:off x="2323440" y="6854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 rot="10800000">
            <a:off x="6666840" y="6854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600880" y="914400"/>
            <a:ext cx="2819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TRAS PERSONAS Y OR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UE PARTICIPARO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VALUACION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Solo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1600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30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CURSO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6840" y="1828800"/>
            <a:ext cx="2667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CURSO RECLA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15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259092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I COR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LIFICA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259092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I DIR. EJ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LIFICA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20040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E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R.EJ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4495680"/>
            <a:ext cx="2590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SOLUCION FUND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SE NOTIFIC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60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320" y="5257800"/>
            <a:ext cx="1447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TRAS 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OR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5257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52578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. 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59436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 RECLA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E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JUEZ DE LE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TE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15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9144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OLUCION RECH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 CONDICIONA EIA O 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31240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TE O RECH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MITACION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3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3848040"/>
            <a:ext cx="28954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OLICITA 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ORG. ESTADO COMP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362320"/>
            <a:ext cx="1676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A: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DIR. EJ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362320"/>
            <a:ext cx="16761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IA: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ONS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1" idx="2"/>
            <a:endCxn id="271" idx="0"/>
          </p:cNvCxnSpPr>
          <p:nvPr/>
        </p:nvCxnSpPr>
        <p:spPr>
          <a:xfrm flipV="1" rot="10800000">
            <a:off x="2361600" y="14475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1" idx="2"/>
            <a:endCxn id="284" idx="0"/>
          </p:cNvCxnSpPr>
          <p:nvPr/>
        </p:nvCxnSpPr>
        <p:spPr>
          <a:xfrm rot="5400000">
            <a:off x="1713960" y="1714320"/>
            <a:ext cx="229320" cy="10677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1" idx="2"/>
            <a:endCxn id="285" idx="0"/>
          </p:cNvCxnSpPr>
          <p:nvPr/>
        </p:nvCxnSpPr>
        <p:spPr>
          <a:xfrm flipH="1" rot="16200000">
            <a:off x="2780280" y="1714320"/>
            <a:ext cx="229320" cy="10674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5" idx="2"/>
            <a:endCxn id="282" idx="0"/>
          </p:cNvCxnSpPr>
          <p:nvPr/>
        </p:nvCxnSpPr>
        <p:spPr>
          <a:xfrm rot="5400000">
            <a:off x="2780640" y="2476080"/>
            <a:ext cx="229320" cy="10674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4" idx="2"/>
            <a:endCxn id="282" idx="0"/>
          </p:cNvCxnSpPr>
          <p:nvPr/>
        </p:nvCxnSpPr>
        <p:spPr>
          <a:xfrm flipH="1" rot="16200000">
            <a:off x="1714320" y="2475720"/>
            <a:ext cx="229320" cy="10677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2" idx="2"/>
            <a:endCxn id="283" idx="0"/>
          </p:cNvCxnSpPr>
          <p:nvPr/>
        </p:nvCxnSpPr>
        <p:spPr>
          <a:xfrm flipV="1" rot="10800000">
            <a:off x="2361600" y="3657240"/>
            <a:ext cx="1080" cy="19116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3" idx="2"/>
            <a:endCxn id="276" idx="0"/>
          </p:cNvCxnSpPr>
          <p:nvPr/>
        </p:nvCxnSpPr>
        <p:spPr>
          <a:xfrm flipV="1" rot="10800000">
            <a:off x="2361600" y="434304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6" idx="2"/>
            <a:endCxn id="278" idx="0"/>
          </p:cNvCxnSpPr>
          <p:nvPr/>
        </p:nvCxnSpPr>
        <p:spPr>
          <a:xfrm flipV="1" rot="10800000">
            <a:off x="2361600" y="50288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6" idx="2"/>
            <a:endCxn id="279" idx="0"/>
          </p:cNvCxnSpPr>
          <p:nvPr/>
        </p:nvCxnSpPr>
        <p:spPr>
          <a:xfrm flipH="1" rot="16200000">
            <a:off x="2970720" y="4419360"/>
            <a:ext cx="229320" cy="14482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6" idx="2"/>
            <a:endCxn id="277" idx="0"/>
          </p:cNvCxnSpPr>
          <p:nvPr/>
        </p:nvCxnSpPr>
        <p:spPr>
          <a:xfrm rot="5400000">
            <a:off x="1466280" y="4362120"/>
            <a:ext cx="229320" cy="15627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8" idx="2"/>
            <a:endCxn id="280" idx="0"/>
          </p:cNvCxnSpPr>
          <p:nvPr/>
        </p:nvCxnSpPr>
        <p:spPr>
          <a:xfrm flipV="1" rot="10800000">
            <a:off x="2361600" y="571464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380880" y="9036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EIA: Recurso de Recla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320040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E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ONS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R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70" idx="2"/>
            <a:endCxn id="272" idx="0"/>
          </p:cNvCxnSpPr>
          <p:nvPr/>
        </p:nvCxnSpPr>
        <p:spPr>
          <a:xfrm flipV="1" rot="10800000">
            <a:off x="7009560" y="16761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2" idx="2"/>
            <a:endCxn id="273" idx="0"/>
          </p:cNvCxnSpPr>
          <p:nvPr/>
        </p:nvCxnSpPr>
        <p:spPr>
          <a:xfrm rot="5400000">
            <a:off x="6381000" y="1962360"/>
            <a:ext cx="229320" cy="10288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2" idx="2"/>
            <a:endCxn id="274" idx="0"/>
          </p:cNvCxnSpPr>
          <p:nvPr/>
        </p:nvCxnSpPr>
        <p:spPr>
          <a:xfrm flipH="1" rot="16200000">
            <a:off x="7353000" y="2018880"/>
            <a:ext cx="229320" cy="9151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73" idx="2"/>
            <a:endCxn id="275" idx="0"/>
          </p:cNvCxnSpPr>
          <p:nvPr/>
        </p:nvCxnSpPr>
        <p:spPr>
          <a:xfrm flipV="1" rot="10800000">
            <a:off x="5981040" y="30477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74" idx="2"/>
            <a:endCxn id="298" idx="0"/>
          </p:cNvCxnSpPr>
          <p:nvPr/>
        </p:nvCxnSpPr>
        <p:spPr>
          <a:xfrm flipV="1" rot="10800000">
            <a:off x="7923960" y="3047760"/>
            <a:ext cx="1080" cy="153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5753160" y="5334120"/>
            <a:ext cx="2514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RESOLUCION FUND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SE NOTIFICA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(30 d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4" idx="2"/>
            <a:endCxn id="306" idx="0"/>
          </p:cNvCxnSpPr>
          <p:nvPr/>
        </p:nvCxnSpPr>
        <p:spPr>
          <a:xfrm flipV="1" rot="10800000">
            <a:off x="7009560" y="5866920"/>
            <a:ext cx="1080" cy="38196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4" idx="2"/>
            <a:endCxn id="308" idx="0"/>
          </p:cNvCxnSpPr>
          <p:nvPr/>
        </p:nvCxnSpPr>
        <p:spPr>
          <a:xfrm flipH="1" rot="16200000">
            <a:off x="7581600" y="5295240"/>
            <a:ext cx="38196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10" idx="0"/>
          </p:cNvCxnSpPr>
          <p:nvPr/>
        </p:nvCxnSpPr>
        <p:spPr>
          <a:xfrm rot="5400000">
            <a:off x="6000120" y="5238720"/>
            <a:ext cx="381960" cy="16387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4648320" y="6248520"/>
            <a:ext cx="1447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TRAS 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OR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4480" y="62485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4680" y="6248520"/>
            <a:ext cx="1219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.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3886200"/>
            <a:ext cx="2895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OLICITA 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4419720"/>
            <a:ext cx="1143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. E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44197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TER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UT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UE DI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OL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75" idx="2"/>
            <a:endCxn id="311" idx="0"/>
          </p:cNvCxnSpPr>
          <p:nvPr/>
        </p:nvCxnSpPr>
        <p:spPr>
          <a:xfrm flipH="1" rot="16200000">
            <a:off x="6380280" y="3257280"/>
            <a:ext cx="229320" cy="10288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8" idx="2"/>
            <a:endCxn id="311" idx="0"/>
          </p:cNvCxnSpPr>
          <p:nvPr/>
        </p:nvCxnSpPr>
        <p:spPr>
          <a:xfrm rot="5400000">
            <a:off x="7352640" y="3314520"/>
            <a:ext cx="229320" cy="9151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1" idx="2"/>
            <a:endCxn id="313" idx="0"/>
          </p:cNvCxnSpPr>
          <p:nvPr/>
        </p:nvCxnSpPr>
        <p:spPr>
          <a:xfrm flipV="1" rot="10800000">
            <a:off x="7009560" y="419076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1" idx="2"/>
            <a:endCxn id="314" idx="0"/>
          </p:cNvCxnSpPr>
          <p:nvPr/>
        </p:nvCxnSpPr>
        <p:spPr>
          <a:xfrm rot="5400000">
            <a:off x="6095160" y="3504960"/>
            <a:ext cx="229320" cy="16009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1" idx="2"/>
            <a:endCxn id="312" idx="0"/>
          </p:cNvCxnSpPr>
          <p:nvPr/>
        </p:nvCxnSpPr>
        <p:spPr>
          <a:xfrm flipH="1" rot="16200000">
            <a:off x="7638840" y="3561840"/>
            <a:ext cx="229320" cy="1486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3" idx="2"/>
            <a:endCxn id="304" idx="0"/>
          </p:cNvCxnSpPr>
          <p:nvPr/>
        </p:nvCxnSpPr>
        <p:spPr>
          <a:xfrm flipV="1" rot="10800000">
            <a:off x="7009560" y="5105160"/>
            <a:ext cx="1080" cy="22932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2"/>
            <a:endCxn id="304" idx="0"/>
          </p:cNvCxnSpPr>
          <p:nvPr/>
        </p:nvCxnSpPr>
        <p:spPr>
          <a:xfrm rot="5400000">
            <a:off x="7638480" y="4476600"/>
            <a:ext cx="229320" cy="1486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4" idx="2"/>
            <a:endCxn id="304" idx="0"/>
          </p:cNvCxnSpPr>
          <p:nvPr/>
        </p:nvCxnSpPr>
        <p:spPr>
          <a:xfrm flipH="1" rot="16200000">
            <a:off x="6094800" y="4419360"/>
            <a:ext cx="229320" cy="16009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52600" y="1295280"/>
            <a:ext cx="803880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t.4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deber del Estado facilitar la participación ciudadana y promover campañas educativas destinadas a la protección d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t.26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rresponderá a las Comisiones Regionales y a la Comisión Nacional del Medio Ambiente, según el caso, establecer los mecanismos qu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seguren la participación informada de la comunidad organiz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n el proceso de calificación de l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udios de Impacto Ambien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que se les presenten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ns.Ges.Amb.: Participación Ciuda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2320" y="5410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J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lo en EIA,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54100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1235160"/>
            <a:ext cx="8382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rma Primaria de Calidad Ambient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quélla que establece los valores de las concentraciones y períodos, máximos o mínimos permisibles de elementos, compuestos, sustancias, derivados químicos o biológicos, energías, radiaciones, vibraciones, ruidos o combinación de ellos, cuya presencia o carencia en el ambiente pueda constituir un 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riesgo para la vida o la salud de la población;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rma Secundaria de Calidad Ambient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quélla que establece los valores de las concentraciones y períodos, máximos o mínimos permisibles de sustancias, elementos, energía o combinación de ellos, cuya presencia o carencia en el ambiente pueda constituir un 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riesgo para la protección o la conservación del medio ambiente, o la preservación de la naturaleza;</a:t>
            </a:r>
            <a:r>
              <a:rPr b="0" lang="es-ES" sz="2000" spc="-1" strike="noStrike">
                <a:solidFill>
                  <a:srgbClr val="ccff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rmas de Emis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que establecen la cantidad máxima permitida para un contaminante 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medida en el eflu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 fuente emisor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666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ns.Ges.Amb.: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 los Derechos y Deberes Constitu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rtículo 19.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stitución asegura a todas la pers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iso 8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El derecho a vivir en un medio ambiente libre de contamin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 Es deber del Estado velar para que este derecho no sea afectado y tutelar la pre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iso 16º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recho a la libertad y protección del trabajo, siempre que se resguarden las condiciones de seguridad y medio ambiente lab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iso 21º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recho a ejercer cualquier actividad económica, siempre que no atente contra la salubridad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... (ej: propi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0880" y="1666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Promulgación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342900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responde a CONAM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poner, facilitar y coordin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la dictación de estas nor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lam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stablece el procedimiento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D.S. Nº 93 de 1995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s se promulgarán median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to supre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6240" y="1447920"/>
            <a:ext cx="2210040" cy="4572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dad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9440" y="1447920"/>
            <a:ext cx="2743200" cy="4572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in.Sec.Gen.P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in. De 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76240" y="2057400"/>
            <a:ext cx="2210040" cy="4572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 SECUND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dad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9440" y="2057400"/>
            <a:ext cx="2743200" cy="4572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in.Sec.Gen.P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in. Compe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6240" y="2666880"/>
            <a:ext cx="2210040" cy="4572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9440" y="2666880"/>
            <a:ext cx="2743200" cy="4572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in.Sec.Gen.P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 no hay otro Min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62240" y="15238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62240" y="21337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62240" y="274320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28880" y="4876920"/>
            <a:ext cx="67816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técnico y económic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sarrollo de estudios científic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ultas a organismos competentes, públicos y privad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de las observaciones formu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a adecuada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zos y formal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0880" y="22860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295280"/>
            <a:ext cx="7848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8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para MP10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Nº59/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para Plomo en el Air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Nº136/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de Aire para Ozono (O3)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Nº112/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de Aire para el Dióxido de Azufre (SO2)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Nº113/02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de Aire para el Dióxido de Nitrógeno (NO2)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Nº114/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de Aire para el Monóxido de Carbono (CO)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Nº115/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680" y="8380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STA AHORA, SOLO AI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57913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XIMO A PROMULGARS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 de Calidad Primaria para la Protección de las Aguas Mari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24300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Normas de Emisión: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1857240"/>
            <a:ext cx="784836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8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ción de Contaminantes asociados a Descargas de Residuos Industriales Líquidos a Sistemas de Alcantarillad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O.P., D.S. Nº609/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ción de Contaminantes asociados a Descargas de Residuos Líquidos a Aguas Marinas y Continentales Superficiale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D.S. Nº90/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uos Líquidos a Aguas Subterránea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n.Sec.Gen.Pres., D.S. Nº46/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33520" y="1355760"/>
            <a:ext cx="815328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94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Contaminantes Aplicables a los vehículos motor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97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Ruidos Molestos Generados por Fuentes Fij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98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Regulación de la Contaminac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99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Regulación del Contaminante Arsénico en el 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99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Olores Mole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Hidrocarburos no metálicos para vehículos livianos y medi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Motocic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Ruido para Buses de Locomoción Colectiva Urbana y R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8240" indent="-7682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2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CO, HCT, HCNM, CH4, NOx y Material Particulado para Motores de Buses de Locomoción Colectiva de la Ciudad de Santi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4300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Normas de Emisión: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IGA: Planes de Manejo, Prevención y Des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2600" y="1219320"/>
            <a:ext cx="8134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lanes de Mane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grar el uso y aprovechamiento de los recursos naturales renovables, asegurando capacidad de regeneración y la diversidad biológica asociada a ello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lanes de Prevención y Descontam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la conta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93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umplimiento será obligatorio en las zonas calificadas como 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tentes o satur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4876920"/>
            <a:ext cx="74674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Zona Laten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quélla en que la medición de la concentración de contaminantes en el aire, agua o suelo se sitúa entre el 80% y el 100% del valor de la respectiva norma de calidad ambie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Zona Saturada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quélla en que una o más normas de calidad ambiental se encuentran sobrepas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Instrumentos de Regulación de lo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) Norma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) Permisos de emisión 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) Impuestos a las emisiones o tarifas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) Otros instrumentos de estímulo a ac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miento y reparación ambiental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28600" y="990720"/>
            <a:ext cx="8763120" cy="56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1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Declara Zona Saturada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or Anhídrido Sulfuroso y Material Particulado respirable, el campamento de la División Chuquicamata de Codelco Chi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2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ara el complejo industrial Las Ventana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3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Declara Zona Saturada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or Anhídrido Sulfuroso el área circundante a la Fundición Hernán Videla Lir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3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Establece 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ara el área circundante a la Fundición Chuquicama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3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Declara Zona Saturada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or Anhídrido Sulfuroso y Material Particulado al complejo industrial Las Ventan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4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Declara Zona Saturada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or Anhídrido Sulfuroso y Material Particulado el área circundante a la Fundición Caleton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4: 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Aprueba 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de la Fundición Hernán Videla Lir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7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Declara Zona Saturada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or Anhídrido Sulfuroso y Material Particulado a la zona circundante a la Fundición Potrerill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8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Establece 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ara el área circundante a la Fundición Caletone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9: 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Aprueba 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ara la localidad de María Elena y Pedro de Valdivi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1999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Establece 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ara el área circundante a la Fundición Potrerill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Prevensión y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atmosférica de la Región Metropolitan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2001: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Establece </a:t>
            </a: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Plan de Descontaminación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 para el área circundante a la Fundición Chuquicama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Planes Prevención y Des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0880" y="30492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spectos Positivos: Ley 19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447920"/>
            <a:ext cx="8229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urante la última década, se ha producido 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van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ignificativo en la gestión ambiental del país, disminuyendo, en la medida de lo posible, los impactos generados por distintos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ley incorpor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articipación ciudadan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el SEIA y el proceso de elaboración de normas. Antes, ninguna institución del Estado consideraba esta participación dentro de su regu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da a CONAMA la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unción de coordina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l resto de los organismos técnicos del Estado. Esto ha ido cambiado la forma cerrada o parcelada de interrelación institu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0880" y="30492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nálisis Crítico: Ley 19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1447920"/>
            <a:ext cx="83059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AMA no tien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ango ministeri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o que Director Ejecutivo no se entiende directamente con el Presidente de la Republica. Esto lo hace muy vulnerable a pre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ecisiones finales son polític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aún cuando se haya realizado previamente una evaluación ambiental de carácter técnico (SEI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ley se centra en aquellos organismos del Estado con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tribuciones ambientales sectori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que digan relación con el otorgamiento de permisos.  No todos los aspectos ambientales estan contemplados en las atribuciones de los organismos del Estado Competentes (Ej. Geología en SERNAGEOMI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30492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nálisis Crítico: Ley 19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530360"/>
            <a:ext cx="7848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es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mi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proyectos que no tienen impactos significativos a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IA o DIA s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izados por los propon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 lo que, en ocasiones, estos no ponen a disposición del SEIA los antecedentes que pudieran acusar efectos ambientales indes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Organismos Técnicos del Estado evalúan solo los antecedentes entregados en los informes (EIA o DIA) y aquellos disponibles por la propia institución, sin tener la posibilidad de ir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verificar est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 de “Bases del Medio Ambie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3080" y="1905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0080" indent="-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r contenido concreto y desarrollo jurídico adecuado a la garantía constitucional sobre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77920">
              <a:lnSpc>
                <a:spcPct val="6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r una institucionalidad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permita a nivel nacional solucionar los problemas ambientales existentes y evitar la creación de otros nue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77920">
              <a:lnSpc>
                <a:spcPct val="6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r los instrumentos para una eficaz gestión de los problem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38880" y="110340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ulgada el 1 de marzo de 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1219320"/>
            <a:ext cx="8001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reglamento, l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enidos mínim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gún actividad son insuficientes, necesitando mayor detalle en su definición. Por ejemplo, se nombran en forma general estudios hidrogeológicos, sin especificar en que consiste un estudio de este ti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consultores que realizan los EIA y DIA no son, necesariamente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pecialis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las temáticas ambientales que podrían ser afectadas por 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iste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stas de consult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etentes, avalados por CONAMA, que garanticen la calidad de estos. Cualquiera puede hacer un EIA o 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0492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nálisis Crítico: Ley 19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0880" y="30492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Análisis Crítico: Ley 19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1066680"/>
            <a:ext cx="83059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esgos natur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están incluidos en la definición de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fectos sobre l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ursos natur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renov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son considerados como impacto ambiental. Solo los efectos adversos sobre los recursos renov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iseño de la ley esta influenciada, principalmente, por la protección a l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odivers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los problemas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aminación atmosfé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n desmedro de otras temátic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ificación Territo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esta contemplada como un posible instrumento de gestión ambiental. Los planes de desarrollo urbano son vistos como un proyecto mas que entra al SE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680" y="2133720"/>
            <a:ext cx="8038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62072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ítulo I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Dispos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62072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ítulo II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Instrumentos de Gestión Ambi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62072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ítulo III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Responsabilidad por Daño Ambi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62072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ítulo IV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Fisca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62072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ítulo V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Fondo de Protección Ambi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62072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  <a:tab algn="l" pos="10101240"/>
                <a:tab algn="l" pos="105822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ítulo Final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Institucion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Dispos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04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itul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ticulo 1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l derecho a vivir en un medio ambiente libre de contaminación, la protección del medio ambiente, la preservación de la naturaleza y la conservación del patrimonio ambiental se regularán por las disposiciones de esta ley, sin perjuicio de lo que otras normas legales establezcan sobre la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1430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itul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ticulo 2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finiciones. 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ontaminac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 presencia en el ambiente de sustancias, elementos, energía o combinación de ellos, en concentraciones o concentraciones y permanencia superiores o inferiores, según corresponda, a las establecidas en la legislación vigente;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mpacto Ambient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 alteración del medio ambiente, provocada directa o indirectamente por un proyecto o actividad en un área determin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ínea de Bas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 descripción detallada del área de influencia de un proyecto o actividad, en forma previa a su ejecució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9040" y="1219320"/>
            <a:ext cx="83059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l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Medio Ambient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l sistema global constituido por elementos naturales y artificiales de naturaleza física, química o biológica, socioculturales y sus interacciones, en permanente modificación por la acción humana o natural y que rige y condiciona la existencia y desarrollo de la vida en sus múltiples manifestaciones;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otección del Medio Ambient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l conjunto de políticas, planes, programas, normas y acciones destinados a mejorar el medio ambiente y a prevenir y controlar su deterior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cursos Naturales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s componentes del medio ambiente susceptibles de ser utilizados por el ser humano para la satisfacción de sus necesidades o intereses espirituales, culturales, sociales y económic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Definicion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219320"/>
            <a:ext cx="83059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ítul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árrafo 1 : Naturaleza y Fun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rticulo 69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 Comisión Nacional del Medio Ambiente es un servicio público funcionalmente descentralizado, con personalidad jurídica y patrimonio propios, sometido a la supervigilancia del Presidente de la República a través del Ministerio Secretaría General de la Presid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Ley 19.300: Institucion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114800"/>
            <a:ext cx="6629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órganos de la CONAMA será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ejo Directi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rección Ejecutiv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ejo Consulti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siones Regionales d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21:12:56Z</dcterms:created>
  <dc:creator>Cristobal</dc:creator>
  <dc:description/>
  <dc:language>en-US</dc:language>
  <cp:lastModifiedBy>Cristobal</cp:lastModifiedBy>
  <dcterms:modified xsi:type="dcterms:W3CDTF">2004-03-11T18:07:02Z</dcterms:modified>
  <cp:revision>58</cp:revision>
  <dc:subject/>
  <dc:title>Presentación de PowerPoint</dc:title>
</cp:coreProperties>
</file>