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CCB-3596-40B9-AEF3-CE1578BF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E92-8D66-4986-8F42-B5ED65AE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AAE-4D87-4CE7-AB1E-35782CEE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17A-2DDF-4D13-8278-E3E3A1E9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D1A-EFA3-4349-8301-3BE8AF4A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FDF-0B18-4C04-B922-D5C10427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A1E-63A5-4F53-B945-6C357ABE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BBA-5EBD-4AB1-910A-8E04AFD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6F8-BD76-4BC2-AED6-719CDC42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D92-6C55-4AE5-BE9C-27C8C372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1D0-1093-43DA-BB4C-E70E7F3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D57-4134-4AE7-A284-C5F6891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6BEC-2F5A-4FF1-A377-6D591F90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260880"/>
            <a:ext cx="82296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eología para la Gestión Territori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362320"/>
            <a:ext cx="82296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L60H  : Sem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00480" y="4495680"/>
            <a:ext cx="4343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: Cristóbal Fernánd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304920"/>
          <a:ext cx="409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409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990720" y="304920"/>
            <a:ext cx="5562360" cy="9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ultad de Ciencias Físicas y Matemá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artamento de Ge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064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ASE 1 : 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046160"/>
            <a:ext cx="8382240" cy="57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CA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GEOLOGIA 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l, F.G. 1998. Environmental Geology. University Press, Cambridge. 594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nnett M.R. Doyle P., 1997. Environmental Geology. Geology and the Human Environment. John Wiley and Sons Ltd.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ngland. 501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cCall, G.J.H., De Mulder, E.F.J., Marker, B.R. (eds.) 1996. Urban geoscience. Balkema, 273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rck, B. W., Skinner, B. J, Porter, S. C. 1996. Environmental Geology. John Wiley and Sons, Inc. New York. 535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ntinao, J.L., Clayton, J.D., Santibáñez, I., Toloczyki, M., Schwerdtfeger, B., Hanisch, J., Kruck, W. 2000. Geología para el Ordenamiento Territorial: Estudio Geoambiental del área Puerto Montt-Frutillar, X Región de Los Lagos. Servicio Nacional de Geología y Minería, Boletín, 55, 34 p., 2 mapas escala 1:100.000 y 1:20.000. 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antia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HIDROGE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ustodio, E., Llamas, M. R. 1996. Hidrología subterránea. Segunda edición. Ediciones Omega, S. A., Barcelona. 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vol. 2350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CA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ROCAS Y MINERALES INDUST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arcía, J.J., Murais, J., Osborne, J. 1985.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uía para la restauración del medio natural afectado por la explotación de canteras. Madrid, Instituto Geológico y Minero de España, 117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mith, M.R., Collis. L. (eds.) 1993. Aggregates – Sand, gravel and crushed rock aggregates for construction purposes. 2nd. Edition, The Geological Society, London, 339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30492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OBJETIVOS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646280"/>
            <a:ext cx="822960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tregar a los alumnos las metodologías básicas necesarias para la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plicación integral de la geologí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n la gestión y planificación ambientalmente sustentable del terri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“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n forma simple y comprensible por otros profesion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roducir a los alumnos en la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legislacio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mbientales, de planificación urbana y otras existentes, relacionadas con la aplicación de la geología a la gestión territo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9760" y="990720"/>
            <a:ext cx="632448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Conce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Legis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SIG: Arc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2) Peligros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Defin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Tipos de Peligros (Sísmico, Volcánic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mociones en Masa, Inunda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Metodologías para Zo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Mit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3) Aguas Subterrá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nceptos Básicos de Hidrogeologí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Problemas para la Sustentabilidad del Recu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Vulnerabilidad a la Contaminación de Acuíf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Efectos de la 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Manejo de Residuos (Rellenos Sanitar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4) Rocas y Minerales Indust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Tipos, Usos, Clasificación y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Impacto de la Explo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- Planes de Abandono y Resta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1066680"/>
            <a:ext cx="723924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aquel desarrollo que satisface las necesidades del presente sin poner en peligro la capacidad de las generaciones futuras para satisfacer sus propias necesidades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34340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umbre de la Tierra, Río de Janeiro, junio de 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(Conferencia de las Naciones Unidas sobre Medio Ambiente y Desarrollo)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8088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DESARROLLO SUSTE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854360"/>
            <a:ext cx="7848720" cy="35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Estudia la interacción entre el Hombre y el medio ambiente geológic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”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(Bennett &amp; Doyle, 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te “medio” puede restringirs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constituyentes físicos de la Tierra, como las rocas, minerales, sedimentos, suelo y agu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formas de su superficie y los procesos que la modifican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¿ QUE ES GEOLOGÍA AMBIENT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8088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¿ QUE ES GEOLOGÍA AMBIENTAL ?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640" y="1219320"/>
            <a:ext cx="784872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s tipos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¿Cómo el Hombre puede afectar al medio ambi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potenciales impactos que puede ca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o sustentable de los recursos geológicos: agua subterránea, minerales y energí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¿Cómo el medio ambiente puede afectar al Homb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ligros geológicos: volcánicos, sísmicos, remociones en masa, in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2438280"/>
            <a:ext cx="1295280" cy="10670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E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MBI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2743200"/>
            <a:ext cx="1143000" cy="4572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2743200"/>
            <a:ext cx="11430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ELIG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1371600"/>
            <a:ext cx="1295280" cy="6094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ÍSM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3962520"/>
            <a:ext cx="1295280" cy="6094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UND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1981080"/>
            <a:ext cx="1295280" cy="60984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295280"/>
            <a:ext cx="1371600" cy="68580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UBTERRÁ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352680"/>
            <a:ext cx="1295640" cy="60984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MO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 M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981080"/>
            <a:ext cx="1295640" cy="60984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VOLCÁN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3962520"/>
            <a:ext cx="1295640" cy="6094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NERGÉT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3352680"/>
            <a:ext cx="1447920" cy="68580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TERIALE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971800" y="198072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3200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95880" y="198072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200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057400" y="2437920"/>
            <a:ext cx="38088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57400" y="3200400"/>
            <a:ext cx="38088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629400" y="2437920"/>
            <a:ext cx="38088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3200400"/>
            <a:ext cx="380880" cy="3049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580920" y="297180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97180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5105520"/>
            <a:ext cx="220968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2862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IFICACIÓN TERRITO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5053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2514600"/>
            <a:ext cx="2362320" cy="3581280"/>
          </a:xfrm>
          <a:custGeom>
            <a:avLst/>
            <a:gdLst/>
            <a:ahLst/>
            <a:rect l="l" t="t" r="r" b="b"/>
            <a:pathLst>
              <a:path w="1488" h="2256">
                <a:moveTo>
                  <a:pt x="0" y="480"/>
                </a:moveTo>
                <a:lnTo>
                  <a:pt x="576" y="0"/>
                </a:lnTo>
                <a:lnTo>
                  <a:pt x="1488" y="0"/>
                </a:lnTo>
                <a:lnTo>
                  <a:pt x="1488" y="1728"/>
                </a:lnTo>
                <a:lnTo>
                  <a:pt x="912" y="2256"/>
                </a:lnTo>
                <a:lnTo>
                  <a:pt x="0" y="2256"/>
                </a:lnTo>
                <a:lnTo>
                  <a:pt x="0" y="48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8760" y="914400"/>
            <a:ext cx="264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ormación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88960" y="1173240"/>
            <a:ext cx="2707200" cy="1092240"/>
            <a:chOff x="588960" y="1173240"/>
            <a:chExt cx="2707200" cy="10922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88960" y="1173240"/>
              <a:ext cx="9525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809360" y="1504800"/>
              <a:ext cx="1486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00"/>
                  </a:solidFill>
                  <a:latin typeface="Arial"/>
                </a:rPr>
                <a:t>Bases de da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Arial"/>
                </a:rPr>
                <a:t>con información puntu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00"/>
                  </a:solidFill>
                  <a:latin typeface="Arial"/>
                </a:rPr>
                <a:t>(formato ASCI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564280" y="2408400"/>
            <a:ext cx="186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Otra informaci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64280" y="290052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Peligros geológ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83720" y="4038480"/>
            <a:ext cx="175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Recursos hidrogeológ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5360" y="4618080"/>
            <a:ext cx="157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Uso actual del territ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65360" y="5110200"/>
            <a:ext cx="114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Base topográf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505320"/>
            <a:ext cx="113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INTEGR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51480" y="2925720"/>
            <a:ext cx="1439640" cy="1440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endCxn id="94" idx="4"/>
          </p:cNvCxnSpPr>
          <p:nvPr/>
        </p:nvCxnSpPr>
        <p:spPr>
          <a:xfrm flipH="1" flipV="1" rot="5400000">
            <a:off x="2446200" y="3265200"/>
            <a:ext cx="1707120" cy="3945600"/>
          </a:xfrm>
          <a:prstGeom prst="bentConnector3">
            <a:avLst>
              <a:gd name="adj1" fmla="val -13372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  <a:endCxn id="94" idx="0"/>
          </p:cNvCxnSpPr>
          <p:nvPr/>
        </p:nvCxnSpPr>
        <p:spPr>
          <a:xfrm>
            <a:off x="3297240" y="1763280"/>
            <a:ext cx="1975680" cy="1143720"/>
          </a:xfrm>
          <a:prstGeom prst="bentConnector2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400800" y="3505320"/>
            <a:ext cx="27432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- Areas de protección de acuíf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Sitios para rellenos sanit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Áreas de restricción por pelig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- Ot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32560" y="2654280"/>
            <a:ext cx="2363760" cy="852480"/>
          </a:xfrm>
          <a:prstGeom prst="rect">
            <a:avLst/>
          </a:prstGeom>
          <a:ln w="0">
            <a:noFill/>
          </a:ln>
        </p:spPr>
      </p:pic>
      <p:cxnSp>
        <p:nvCxnSpPr>
          <p:cNvPr id="99" name=""/>
          <p:cNvCxnSpPr>
            <a:stCxn id="94" idx="6"/>
          </p:cNvCxnSpPr>
          <p:nvPr/>
        </p:nvCxnSpPr>
        <p:spPr>
          <a:xfrm>
            <a:off x="6009840" y="3646080"/>
            <a:ext cx="391320" cy="118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9680" y="2468520"/>
            <a:ext cx="2389320" cy="3622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54920" y="3429000"/>
            <a:ext cx="1872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Vulnerabilidad a 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Arial"/>
              </a:rPr>
              <a:t>contaminación de acuíf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eomontt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997360" cy="4470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2575080"/>
            <a:ext cx="44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ffff"/>
                </a:solidFill>
                <a:latin typeface="Arial"/>
              </a:rPr>
              <a:t>Area de protección de acuíf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632480"/>
            <a:ext cx="44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66ff"/>
                </a:solidFill>
                <a:latin typeface="Arial"/>
              </a:rPr>
              <a:t>Area propuesta para sitio de disposición de residuos só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565440"/>
            <a:ext cx="44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ff99"/>
                </a:solidFill>
                <a:latin typeface="Arial"/>
              </a:rPr>
              <a:t>Area de protección de rec. minerales (ár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562720"/>
            <a:ext cx="44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Area de alto peligro de desliz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43400" y="2437920"/>
            <a:ext cx="1600200" cy="381240"/>
          </a:xfrm>
          <a:prstGeom prst="line">
            <a:avLst/>
          </a:prstGeom>
          <a:ln cap="sq" w="12600">
            <a:solidFill>
              <a:srgbClr val="66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952880" y="3657240"/>
            <a:ext cx="1828800" cy="152280"/>
          </a:xfrm>
          <a:prstGeom prst="line">
            <a:avLst/>
          </a:prstGeom>
          <a:ln cap="sq" w="12600">
            <a:solidFill>
              <a:srgbClr val="99ff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67080" y="4495680"/>
            <a:ext cx="2210040" cy="533520"/>
          </a:xfrm>
          <a:prstGeom prst="line">
            <a:avLst/>
          </a:prstGeom>
          <a:ln cap="sq" w="12600">
            <a:solidFill>
              <a:srgbClr val="ff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52680" y="5181120"/>
            <a:ext cx="4343400" cy="76212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04920"/>
            <a:ext cx="84582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APA 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351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comendaciones para la Planificación Territo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61722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tinao et. al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22:11:16Z</dcterms:created>
  <dc:creator>Cristobal</dc:creator>
  <dc:description/>
  <dc:language>en-US</dc:language>
  <cp:lastModifiedBy>Cristobal</cp:lastModifiedBy>
  <dcterms:modified xsi:type="dcterms:W3CDTF">2004-03-09T18:47:28Z</dcterms:modified>
  <cp:revision>34</cp:revision>
  <dc:subject/>
  <dc:title>Presentación de PowerPoint</dc:title>
</cp:coreProperties>
</file>