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E972B-66E7-46E5-9B46-931812F48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1711-DC3E-4A2A-9F89-242FF1FB1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53AF9-AB64-455E-9E7F-3DB572946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8C974-3009-4EFB-8ECD-9DC12790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22E3F-116A-442C-A959-8C1FD57DD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69C86-E7E0-4DA0-B524-4209526A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41EF0-A750-4454-812C-BD24E43B1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8417E-058C-475C-BF3E-0965E500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EA011-4363-47EE-B4CC-F1AFCA06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81A3-BE8C-4FC1-B479-7FC31A1BB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EFF6-D162-4F23-8A64-AEC4B077B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6B96-8852-471C-919A-C3C4C71DA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F89C-3DCD-4E96-8F2A-36604A25B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2438280" y="4876920"/>
            <a:ext cx="6477120" cy="17899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partamento de Geología</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logía Estructural Avanzada.</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iguel Ortiz Labarca.</a:t>
            </a:r>
            <a:endParaRPr b="0" lang="en-US" sz="2000" spc="-1" strike="noStrike">
              <a:solidFill>
                <a:srgbClr val="0000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09480" y="380880"/>
            <a:ext cx="792504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 numéricos realizados por Bird en 1998, para los 85 Ma hasta los 45Ma muestran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orogénesis de este período es una suma de eve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estreses paralelos a la costa debieron de ser absorbidos por los sistemas de rumbo, y solo las componentes normales afectaron el interior del contin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mayor fuerza en la orogenesis de Laramide fue aplicada en la base de la corteza continental, durante una subducción pla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direcciones de acortamiento están controladas por las direcciones de la convergencia de las plac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609480" y="457200"/>
            <a:ext cx="8153640" cy="612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onclusión, podemos resumir la historia orogénica del borde oeste de EE.UU de la siguiente forma(en base a los resultados de Bird):</a:t>
            </a:r>
            <a:endParaRPr b="0" lang="en-US" sz="2400" spc="-1" strike="noStrike">
              <a:solidFill>
                <a:srgbClr val="000000"/>
              </a:solidFill>
              <a:latin typeface="Times New Roman"/>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85-50 Ma.: término de la orogenia de Sevier.</a:t>
            </a:r>
            <a:endParaRPr b="0" lang="en-US" sz="2000" spc="-1" strike="noStrike">
              <a:solidFill>
                <a:srgbClr val="000000"/>
              </a:solidFill>
              <a:latin typeface="Times New Roman"/>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75-35 Ma.: Orogenia de Laramide.</a:t>
            </a:r>
            <a:endParaRPr b="0" lang="en-US" sz="2000" spc="-1" strike="noStrike">
              <a:solidFill>
                <a:srgbClr val="000000"/>
              </a:solidFill>
              <a:latin typeface="Times New Roman"/>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0 Ma.: comienzo de la extensión en la zona norte.</a:t>
            </a:r>
            <a:endParaRPr b="0" lang="en-US" sz="2000" spc="-1" strike="noStrike">
              <a:solidFill>
                <a:srgbClr val="000000"/>
              </a:solidFill>
              <a:latin typeface="Times New Roman"/>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0 a 50Ma.: ocurre el pick de velocidad en el antepais, llegando a los 1.5mm/año. Además que el plateau del Colorado registra la máxima rotación (unos 3º en total ).</a:t>
            </a:r>
            <a:endParaRPr b="0" lang="en-US" sz="2000" spc="-1" strike="noStrike">
              <a:solidFill>
                <a:srgbClr val="000000"/>
              </a:solidFill>
              <a:latin typeface="Times New Roman"/>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orogenia de Laramide las direcciones de acortamiento fueron las siguient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75 a 50 Ma.: 40º(azimuth)</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50 a 35 Ma.:  55º(azimuth)(rotación horaria)</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carta las rotaciones antihorarias propuestas por </a:t>
            </a:r>
            <a:r>
              <a:rPr b="0" i="1" lang="es-ES_tradnl" sz="2000" spc="-1" strike="noStrike">
                <a:solidFill>
                  <a:srgbClr val="ffffff"/>
                </a:solidFill>
                <a:latin typeface="Times New Roman"/>
              </a:rPr>
              <a:t>Gries(83)</a:t>
            </a:r>
            <a:r>
              <a:rPr b="0" lang="es-ES_tradnl" sz="2000" spc="-1" strike="noStrike">
                <a:solidFill>
                  <a:srgbClr val="ffffff"/>
                </a:solidFill>
                <a:latin typeface="Times New Roman"/>
              </a:rPr>
              <a:t> y </a:t>
            </a:r>
            <a:r>
              <a:rPr b="0" i="1" lang="es-ES_tradnl" sz="2000" spc="-1" strike="noStrike">
                <a:solidFill>
                  <a:srgbClr val="ffffff"/>
                </a:solidFill>
                <a:latin typeface="Times New Roman"/>
              </a:rPr>
              <a:t>Livaccari(91)</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co_farallon" descr=""/>
          <p:cNvPicPr/>
          <p:nvPr/>
        </p:nvPicPr>
        <p:blipFill>
          <a:blip r:embed="rId1"/>
          <a:srcRect l="51857" t="-3646" r="0" b="49964"/>
          <a:stretch/>
        </p:blipFill>
        <p:spPr>
          <a:xfrm>
            <a:off x="4648320" y="685800"/>
            <a:ext cx="4329000" cy="5105520"/>
          </a:xfrm>
          <a:prstGeom prst="rect">
            <a:avLst/>
          </a:prstGeom>
          <a:ln w="0">
            <a:noFill/>
          </a:ln>
        </p:spPr>
      </p:pic>
      <p:pic>
        <p:nvPicPr>
          <p:cNvPr id="55" name="co_farallon" descr=""/>
          <p:cNvPicPr/>
          <p:nvPr/>
        </p:nvPicPr>
        <p:blipFill>
          <a:blip r:embed="rId2"/>
          <a:srcRect l="0" t="-46" r="52544" b="50376"/>
          <a:stretch/>
        </p:blipFill>
        <p:spPr>
          <a:xfrm>
            <a:off x="152280" y="1066680"/>
            <a:ext cx="426744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co_farallon" descr=""/>
          <p:cNvPicPr/>
          <p:nvPr/>
        </p:nvPicPr>
        <p:blipFill>
          <a:blip r:embed="rId1"/>
          <a:srcRect l="51758" t="51231" r="0" b="0"/>
          <a:stretch/>
        </p:blipFill>
        <p:spPr>
          <a:xfrm>
            <a:off x="4726080" y="1143000"/>
            <a:ext cx="4417920" cy="4724280"/>
          </a:xfrm>
          <a:prstGeom prst="rect">
            <a:avLst/>
          </a:prstGeom>
          <a:ln w="0">
            <a:noFill/>
          </a:ln>
        </p:spPr>
      </p:pic>
      <p:pic>
        <p:nvPicPr>
          <p:cNvPr id="57" name="co_farallon" descr=""/>
          <p:cNvPicPr/>
          <p:nvPr/>
        </p:nvPicPr>
        <p:blipFill>
          <a:blip r:embed="rId2"/>
          <a:srcRect l="0" t="51231" r="51758" b="0"/>
          <a:stretch/>
        </p:blipFill>
        <p:spPr>
          <a:xfrm>
            <a:off x="0" y="1143000"/>
            <a:ext cx="4476600" cy="47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co_laramide3" descr=""/>
          <p:cNvPicPr/>
          <p:nvPr/>
        </p:nvPicPr>
        <p:blipFill>
          <a:blip r:embed="rId1"/>
          <a:stretch/>
        </p:blipFill>
        <p:spPr>
          <a:xfrm>
            <a:off x="1371600" y="-152280"/>
            <a:ext cx="5560920" cy="723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1905120" y="2133720"/>
            <a:ext cx="5257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Times New Roman"/>
              </a:rPr>
              <a:t>SIERRAS PAMPEANAS</a:t>
            </a:r>
            <a:endParaRPr b="0" lang="en-US" sz="5400" spc="-1" strike="noStrike">
              <a:solidFill>
                <a:srgbClr val="000000"/>
              </a:solidFill>
              <a:latin typeface="Times New Roman"/>
            </a:endParaRPr>
          </a:p>
        </p:txBody>
      </p:sp>
      <p:sp>
        <p:nvSpPr>
          <p:cNvPr id="60" name=""/>
          <p:cNvSpPr/>
          <p:nvPr/>
        </p:nvSpPr>
        <p:spPr>
          <a:xfrm>
            <a:off x="304920" y="304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º Parte.</a:t>
            </a:r>
            <a:endParaRPr b="0" lang="en-US" sz="2400" spc="-1" strike="noStrike">
              <a:solidFill>
                <a:srgbClr val="000000"/>
              </a:solidFill>
              <a:latin typeface="Times New Roman"/>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609480" y="6094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IERRAS PAMPEANAS</a:t>
            </a:r>
            <a:endParaRPr b="0" lang="en-US" sz="2800" spc="-1" strike="noStrike">
              <a:solidFill>
                <a:srgbClr val="000000"/>
              </a:solidFill>
              <a:latin typeface="Times New Roman"/>
            </a:endParaRPr>
          </a:p>
        </p:txBody>
      </p:sp>
      <p:sp>
        <p:nvSpPr>
          <p:cNvPr id="62" name=""/>
          <p:cNvSpPr/>
          <p:nvPr/>
        </p:nvSpPr>
        <p:spPr>
          <a:xfrm>
            <a:off x="380880" y="1219320"/>
            <a:ext cx="487692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provincia ubicada en Argentina  entre los 26º y 33ºS,  al este de la faja corrida de la precordillera, presenta características muy similares a las encontradas en el alzamiento del basamento Pz durante la orogénesis de Laram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 que  esta deformación es muy similar a la ocurrida en las Rocky Mountain y de carácter  más reciente -Cenozoico tardío- nos permite acceder a nueva información para comprender el origen de estas estructuras en ambos lugares. </a:t>
            </a:r>
            <a:endParaRPr b="0" lang="en-US" sz="2400" spc="-1" strike="noStrike">
              <a:solidFill>
                <a:srgbClr val="000000"/>
              </a:solidFill>
              <a:latin typeface="Times New Roman"/>
            </a:endParaRPr>
          </a:p>
        </p:txBody>
      </p:sp>
      <p:pic>
        <p:nvPicPr>
          <p:cNvPr id="63" name="sa_s" descr=""/>
          <p:cNvPicPr/>
          <p:nvPr/>
        </p:nvPicPr>
        <p:blipFill>
          <a:blip r:embed="rId1"/>
          <a:srcRect l="12605" t="0" r="6302" b="0"/>
          <a:stretch/>
        </p:blipFill>
        <p:spPr>
          <a:xfrm>
            <a:off x="5181480" y="1066680"/>
            <a:ext cx="3756240" cy="4496040"/>
          </a:xfrm>
          <a:prstGeom prst="rect">
            <a:avLst/>
          </a:prstGeom>
          <a:ln w="9360">
            <a:solidFill>
              <a:srgbClr val="ffff00"/>
            </a:solidFill>
            <a:miter/>
          </a:ln>
        </p:spPr>
      </p:pic>
      <p:sp>
        <p:nvSpPr>
          <p:cNvPr id="64" name=""/>
          <p:cNvSpPr/>
          <p:nvPr/>
        </p:nvSpPr>
        <p:spPr>
          <a:xfrm flipH="1" flipV="1">
            <a:off x="6857640" y="2361960"/>
            <a:ext cx="304920" cy="53316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380880" y="609480"/>
            <a:ext cx="8382240" cy="548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Sierras Pampeanas se ubican sobre una zona de subducción plana bien documentad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or qué se genera el flat sla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umento en la tasa de convergencia.(10cm/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bducción de corteza Oceánica Jov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bducción de altos batimétr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vimiento absoluto de la placa superior en sentido del tren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685800" y="457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457200"/>
            <a:ext cx="83059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erras Pampeanas posee un periodo de fallamiento inversos de alto ángulo entre los 19 y 14 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la litología de este sector, se piensa que la subducción plana comenzaría aprox. a los 10M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eriormente , a los 10 Ma., ocurre un thrusting de bajo ángulo. Esto coincide de buena forma con el comienzo de la subducción plana.</a:t>
            </a:r>
            <a:endParaRPr b="0" lang="en-US" sz="2400" spc="-1" strike="noStrike">
              <a:solidFill>
                <a:srgbClr val="000000"/>
              </a:solidFill>
              <a:latin typeface="Times New Roman"/>
            </a:endParaRPr>
          </a:p>
        </p:txBody>
      </p:sp>
      <p:sp>
        <p:nvSpPr>
          <p:cNvPr id="68" name=""/>
          <p:cNvSpPr/>
          <p:nvPr/>
        </p:nvSpPr>
        <p:spPr>
          <a:xfrm>
            <a:off x="457200" y="3505320"/>
            <a:ext cx="83059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ESTRUCTURAS CENOZO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mayoría de los bloques poseen disposición Norte-Sur. En contacto por fallas invers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isten fallas inversas/rumbo E-W las que muestran muy poco movimiento desde el paleozoico al mesozo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80880" y="131760"/>
            <a:ext cx="8534520" cy="676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llas inversas mayores poseen un manteo 35º a 70º. Se reconoce una disminución en profundidad de este ángulo. Bonorino(50) reconoce a estas fallas como </a:t>
            </a:r>
            <a:r>
              <a:rPr b="0" lang="es-ES_tradnl" sz="2800" spc="-1" strike="noStrike">
                <a:solidFill>
                  <a:srgbClr val="ffffff"/>
                </a:solidFill>
                <a:latin typeface="Times New Roman"/>
              </a:rPr>
              <a:t>lístricas</a:t>
            </a:r>
            <a:r>
              <a:rPr b="0" lang="es-ES_tradnl" sz="2400" spc="-1" strike="noStrike">
                <a:solidFill>
                  <a:srgbClr val="ffffff"/>
                </a:solidFill>
                <a:latin typeface="Times New Roman"/>
              </a:rPr>
              <a:t> y Erslev en (86) deduce una geometría similar para las Rocky Mount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los trabajos de Fletcher(84) permiten calcular para las Rocky Mountain una profundidad de transición frágil-dúctil de 11a 16Km(MT), 28 a 38 Km(WY). Mientras que para las sierras Pampeanas estos valores no exceden los 20 a 30 K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unque es difícil de estimar (por desconocer la geometría interna), se ha asociado a este fallamiento un acortamiento cortical de 2 a 8 Km. (Sierra del Valle Fértil).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omparación en las Rocky Mountain se calcula un 7% de acortamiento horizont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pecto a los pliegues, podemos decir que no son muy comunes debido a la escasa cobertura sedimentaria. En general son de dos tipos en capas sedimentarias(*) y basamento cristali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914400" y="1905120"/>
            <a:ext cx="7543800" cy="2471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LA OROGENIA </a:t>
            </a:r>
            <a:r>
              <a:rPr b="1" lang="es-ES_tradnl" sz="4000" spc="-1" strike="noStrike">
                <a:solidFill>
                  <a:srgbClr val="ffff00"/>
                </a:solidFill>
                <a:latin typeface="Times New Roman"/>
              </a:rPr>
              <a:t>LARAMIDE</a:t>
            </a:r>
            <a:r>
              <a:rPr b="1" lang="es-ES_tradnl" sz="3600" spc="-1" strike="noStrike">
                <a:solidFill>
                  <a:srgbClr val="ffff00"/>
                </a:solidFill>
                <a:latin typeface="Times New Roman"/>
              </a:rPr>
              <a:t> </a:t>
            </a:r>
            <a:r>
              <a:rPr b="1" lang="es-ES_tradnl" sz="3600" spc="-1" strike="noStrike">
                <a:solidFill>
                  <a:srgbClr val="ffffff"/>
                </a:solidFill>
                <a:latin typeface="Times New Roman"/>
              </a:rPr>
              <a:t>Y SU COMPARACION CON LA EVOLUCION DE LAS </a:t>
            </a:r>
            <a:r>
              <a:rPr b="1" lang="es-ES_tradnl" sz="4000" spc="-1" strike="noStrike">
                <a:solidFill>
                  <a:srgbClr val="ffffff"/>
                </a:solidFill>
                <a:latin typeface="Times New Roman"/>
              </a:rPr>
              <a:t>SIERRAS</a:t>
            </a:r>
            <a:r>
              <a:rPr b="1" lang="es-ES_tradnl" sz="3600" spc="-1" strike="noStrike">
                <a:solidFill>
                  <a:srgbClr val="ffffff"/>
                </a:solidFill>
                <a:latin typeface="Times New Roman"/>
              </a:rPr>
              <a:t> </a:t>
            </a:r>
            <a:r>
              <a:rPr b="1" lang="es-ES_tradnl" sz="4000" spc="-1" strike="noStrike">
                <a:solidFill>
                  <a:srgbClr val="ffffff"/>
                </a:solidFill>
                <a:latin typeface="Times New Roman"/>
              </a:rPr>
              <a:t>PAMPEANAS</a:t>
            </a:r>
            <a:endParaRPr b="0" lang="en-US" sz="4000" spc="-1" strike="noStrike">
              <a:solidFill>
                <a:srgbClr val="000000"/>
              </a:solidFill>
              <a:latin typeface="Times New Roman"/>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304920" y="131760"/>
            <a:ext cx="8534160" cy="6829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Discusión y Conclusió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 </a:t>
            </a:r>
            <a:r>
              <a:rPr b="0" lang="es-ES_tradnl" sz="2400" spc="-1" strike="noStrike">
                <a:solidFill>
                  <a:srgbClr val="ffffff"/>
                </a:solidFill>
                <a:latin typeface="Times New Roman"/>
              </a:rPr>
              <a:t>Debido  a que los datos disponibles de las Sierras Pampeanas son distintos a los de las Rocky Mountain, es posible tomar de aquí nueva información. Esta analogía apoya las teorías de algunos autores que proponen la compresión horizontal (vía flat-slab)como responsable de la deformació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Sierras pampeanas, corresponde a una amplia zona de deformación del basamento, esta sirve de ejemplo para la deformación del antepais. Las fallas inversas que cortan el basamento estaban activas por lo menos durante los últimos 10 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basamento a sido acortado en sentido E-W por lo menos en un 2%.(menor que en Rocky Mountain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canismos focales para las Sierras Pampeanas revelan que las fallas inversas poseen un ángulo más bajo a mayor profundidad. Por lo  que alguans fallas de gran envergadura pueden permanecer siempre en el campo de la deformación frágil.</a:t>
            </a:r>
            <a:endParaRPr b="0" lang="en-US" sz="2400" spc="-1" strike="noStrike">
              <a:solidFill>
                <a:srgbClr val="000000"/>
              </a:solidFill>
              <a:latin typeface="Times New Roman"/>
            </a:endParaRPr>
          </a:p>
        </p:txBody>
      </p:sp>
      <p:sp>
        <p:nvSpPr>
          <p:cNvPr id="71" name=""/>
          <p:cNvSpPr/>
          <p:nvPr/>
        </p:nvSpPr>
        <p:spPr>
          <a:xfrm>
            <a:off x="457200" y="9907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80880" y="457200"/>
            <a:ext cx="8382240" cy="8086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Referenci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ird, P., 1998.   Kinematic history of the Laramide orogeny in latitudes 35º-49ºN, western United States. Tectonics, Vol 17, No.5, P 780-80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Jordan T, Allmendinger. 1986.   </a:t>
            </a:r>
            <a:r>
              <a:rPr b="1" lang="es-ES_tradnl" sz="2400" spc="-1" strike="noStrike">
                <a:solidFill>
                  <a:srgbClr val="000000"/>
                </a:solidFill>
                <a:latin typeface="Times New Roman"/>
              </a:rPr>
              <a:t>The</a:t>
            </a:r>
            <a:r>
              <a:rPr b="1" lang="es-ES_tradnl" sz="2400" spc="-1" strike="noStrike">
                <a:solidFill>
                  <a:srgbClr val="ffffff"/>
                </a:solidFill>
                <a:latin typeface="Times New Roman"/>
              </a:rPr>
              <a:t> Sierras Pampeanas of Argentina: A modern analogue of Rocky Mountain foreland deformation. American Journal Science, Vol 286, dic, p. 737-764.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ichard F., Livaccari, Kevin Burke, 1981.   Was the Laramide orogeny related to subduction of an oceanic plateau?,  Nature, vol. 289, No 22, p 276-27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838080" y="609480"/>
            <a:ext cx="7620120" cy="522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Introdu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gran diversidad de escenarios geológicos a través del mundo nos permite comparar distintas regiones en distintos  estadios evolu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Gracias a esto es posible comparar y modelar eventos deformativos (o de otra índole) ocurridos en determinado marco de espacio-tiempo, utilizando información, análoga, proveniente de otras reg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85800" y="990720"/>
            <a:ext cx="80010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la comparación que haremos tiene lugar debido a la similitud estructural de estos dos escenarios y no necesariamente por una relación genética entre amb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be destacar que la orogenia de Laramide, está lejos de ser un evento carente de infor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pretende entonces, presentar el orógeno de Laramide, sus principales estructuras y mecanismos de formación, para luego contrastarlo de alguna forma con las Sierras Pampeanas. A través de esta relación concluir sobre el principal motor que mueve esta de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2133720" y="2743200"/>
            <a:ext cx="51051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ffffff"/>
                </a:solidFill>
                <a:latin typeface="Times New Roman"/>
              </a:rPr>
              <a:t>LARAMID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457200" y="380880"/>
            <a:ext cx="8686800" cy="1998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Que es la orogénesis de Laramid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refiere a un evento de formación de montañas el que comenzó hace 75Ma y perduró hasta los 45 Ma. (K tardío al Eoceno). </a:t>
            </a:r>
            <a:endParaRPr b="0" lang="en-US" sz="2400" spc="-1" strike="noStrike">
              <a:solidFill>
                <a:srgbClr val="000000"/>
              </a:solidFill>
              <a:latin typeface="Times New Roman"/>
            </a:endParaRPr>
          </a:p>
        </p:txBody>
      </p:sp>
      <p:pic>
        <p:nvPicPr>
          <p:cNvPr id="47" name="northamerica" descr=""/>
          <p:cNvPicPr/>
          <p:nvPr/>
        </p:nvPicPr>
        <p:blipFill>
          <a:blip r:embed="rId1"/>
          <a:stretch/>
        </p:blipFill>
        <p:spPr>
          <a:xfrm>
            <a:off x="380880" y="2971800"/>
            <a:ext cx="5715000" cy="2982960"/>
          </a:xfrm>
          <a:prstGeom prst="rect">
            <a:avLst/>
          </a:prstGeom>
          <a:ln w="0">
            <a:noFill/>
          </a:ln>
        </p:spPr>
      </p:pic>
      <p:pic>
        <p:nvPicPr>
          <p:cNvPr id="48" name="na_wus" descr=""/>
          <p:cNvPicPr/>
          <p:nvPr/>
        </p:nvPicPr>
        <p:blipFill>
          <a:blip r:embed="rId2"/>
          <a:stretch/>
        </p:blipFill>
        <p:spPr>
          <a:xfrm>
            <a:off x="685800" y="1084320"/>
            <a:ext cx="8112240" cy="5089320"/>
          </a:xfrm>
          <a:prstGeom prst="rect">
            <a:avLst/>
          </a:prstGeom>
          <a:ln w="19080">
            <a:solidFill>
              <a:srgbClr val="ffff00"/>
            </a:solidFill>
            <a:miter/>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basin_range" descr=""/>
          <p:cNvPicPr/>
          <p:nvPr/>
        </p:nvPicPr>
        <p:blipFill>
          <a:blip r:embed="rId1"/>
          <a:stretch/>
        </p:blipFill>
        <p:spPr>
          <a:xfrm>
            <a:off x="685800" y="44280"/>
            <a:ext cx="7772400" cy="676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533520" y="533520"/>
            <a:ext cx="8305560" cy="688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Características de Importancia</a:t>
            </a:r>
            <a:r>
              <a:rPr b="0" lang="es-ES_tradnl" sz="2800" spc="-1" strike="noStrike">
                <a:solidFill>
                  <a:srgbClr val="ffff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ponsable del alzamiento de amplia zona tanto en New Mexico, Colorado, Wyoming (provincia de las Rocky Mount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mos tener en cuenta la gran distancia al interior del continente en que se alza este orógeno, de 1000 a 1500 Km (antepa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rresponde a una zona topográficamente levantada, básicamente por estructuras de tipo thick-skinned, las cuales exponen bloques del basamento metamórfico (PreCamb.) en superfi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urante el tiempo asociado a la orogénesis se reconoce un cese en el volcanismo en la región de arco.</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685800" y="533520"/>
            <a:ext cx="8001000" cy="571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Como se explica?</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este orógeno  hacen pensar en una  subducción de bajo ángulo.</a:t>
            </a:r>
            <a:endParaRPr b="0" lang="en-US" sz="2000" spc="-1" strike="noStrike">
              <a:solidFill>
                <a:srgbClr val="000000"/>
              </a:solidFill>
              <a:latin typeface="Times New Roman"/>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lgunos autores postulan que sería el resultado de la colisión de un plateau oceánico formado hace 120 a 90 Ma(Hese Rise).</a:t>
            </a:r>
            <a:r>
              <a:rPr b="0" lang="es-ES_tradnl" sz="1800" spc="-1" strike="noStrike">
                <a:solidFill>
                  <a:srgbClr val="ffffff"/>
                </a:solidFill>
                <a:latin typeface="Times New Roman"/>
              </a:rPr>
              <a:t>(</a:t>
            </a:r>
            <a:r>
              <a:rPr b="0" i="1" lang="es-ES_tradnl" sz="1800" spc="-1" strike="noStrike">
                <a:solidFill>
                  <a:srgbClr val="ffffff"/>
                </a:solidFill>
                <a:latin typeface="Times New Roman"/>
              </a:rPr>
              <a:t>Richard et. Al. 1981</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modelos para la orogénesis de Laramide:</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Compresión paralela al movimiento absoluto de Norte Améric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creción de superterreno alóctono “Baja British Columbia” y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posterior deriva al nor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or el arrastre basal (stress) producido en una subducción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horizontal.</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17:37:54Z</dcterms:created>
  <dc:creator>Miguel Ortiz Labarca</dc:creator>
  <dc:description/>
  <dc:language>en-US</dc:language>
  <cp:lastModifiedBy>Miguel Ortiz Labarca</cp:lastModifiedBy>
  <dcterms:modified xsi:type="dcterms:W3CDTF">2004-06-25T15:32:33Z</dcterms:modified>
  <cp:revision>10</cp:revision>
  <dc:subject/>
  <dc:title>Presentación de PowerPoint</dc:title>
</cp:coreProperties>
</file>