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8CB-509D-4B2B-A0EC-6390CE87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E0C-BEFD-450B-A82D-DD43351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DE0-BFF6-4EDB-9853-31AA6A09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501-8C43-4BD1-AE61-A16D8897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802-1410-4897-8AC3-02F80A07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1FF-0005-4FBB-B273-528BAEF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743F-E12B-42A1-B400-6D639F0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23AD-EC07-4F8D-A91A-08D97E4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E58-2E5F-414D-8EAF-3AB7807B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B771-CFBF-4B0F-AB05-7BBD564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9E2-8659-49EE-94E3-81D105E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1F3-BD26-418C-9679-745FC0F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0F89-552A-4D1F-AF2C-84F2AED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4D49-E71B-4B72-9E19-835B0741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8D8-8E1A-4EE3-A566-3C58C19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198-B2CC-4303-A92E-10EB3492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17EF-B912-490D-AF25-5F009FED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22B-A8C6-40CE-A291-0CFAB45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251-7E7B-49AE-809E-DFB7221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EB8-CA5C-4D45-BF0C-797A416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722-E061-429B-890A-17503CB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FEA-C230-498D-9F56-9AFCA86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FDB-AAE8-4B5A-B943-9607CFC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184-CD8C-41DB-B14C-5DCD791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DBF-9547-4DD2-9863-0467FE986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0C59-41B2-4D81-8744-414B8722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Meteor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as rocas se forman, en general, bajo la superficie de la tierra, en condiciones de presión y temperatura diferentes a las que predominan en superfici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a acción del agua, glaciares, viento y oleaje, permite que estas rocas afloren y queden expuestas al ataque de la atmósfera y de agentes orgánicos.</a:t>
            </a:r>
            <a:r>
              <a:rPr b="0" lang="es-CL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Cuando están expuestas, las rocas son transformadas por el proceso  denominado 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meteorización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84280" y="274680"/>
          <a:ext cx="6175440" cy="63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74680"/>
                    <a:ext cx="6175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La Tabla 4.10 muestra que una misma roca, afectada por distintos grados de meteorización, puede presentar variaciones importantes en sus propie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16120" y="2243160"/>
          <a:ext cx="5710320" cy="23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243160"/>
                    <a:ext cx="5710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Condiciones difíciles a evalua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dificultades más comunes son: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dimentos de características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oca blanda, meteorizada o fracturada, perme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vidades naturales o artificiales dentro de la ro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ocas Sedimentar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e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r la morfología de los cuerpos que varían su  espesor de manera rápid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rado de cementación con el fin de estimar la permeabilidad de la roc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blemas durante la etapa de exploración debido a su alta dureza ortoq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actos complejos, en general discordantes, difíciles de predec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aclasas que provienen del enfriamiento y descarga del  material que la cubría y que generan perme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teorización juega un papel muy importante en las propiedad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rocas volcánicas,diferentes tipos de materiales presentes y zonas de alta permeabilidad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lavas con diaclasamiento columnar son una de las rocas de mayor perme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superficie superior de la lava puede estar fracturada y ser porosa. La superficie inferior puede haber oxidado o alterado la roca que subyace. La porción central puede estar fracturada de manera columnar con fractur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ocas Metamórf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rado de meteorizació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blemáticas por esquistosida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ferencia gran variedad de tipos dificultan agruparlas en rocas con problemas simila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uarcita es muy dura, problemas  para perfo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r la orientación de la foliación en la explo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uy común la existencia de diaclasas producto de la relajación de esfuerz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Ultrasonic Velocities of Rock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61920"/>
            <a:ext cx="7391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meteorización física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 se refiere al proceso de ruptura de la roca.  Los agentes principales de este tipo de meteorización son organismos, ciclos congelamiento y fusión del agua, cambios de temperatura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Una vez que la roca está fracturada, agentes químicos disueltos en el agua pueden penetrar a la roca y destruir  las estructuras  de los minerales en un proceso denominado  </a:t>
            </a: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meteorización química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os principales agentes son dióxido de carbono, proveniente de la atmósfera y del suelo,  y ácidos orgánicos  disueltos por el agua infiltra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Si estos ácidos disuelven minerales   que constituyen el cemento de algunas rocas sedimentarias y/o el relleno de algunas discontinuidades selladas, la roca se debilita o se disgreg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os minerales más fácilmente alterables son la calcita, dolomita y yes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8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9900"/>
                </a:solidFill>
                <a:latin typeface="Times New Roman"/>
              </a:rPr>
              <a:t>Meteorización quí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Con el tiempo, los ácidos disueltos en el agua pueden alterar  a arcilla los cristales de feldespatos, piroxenos y anfíbol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El resultado de la descomposición será un material constituido por granos residuales de cuarzo, estable a la meteorización,  en una matriz de arcilla o limo.</a:t>
            </a:r>
            <a:r>
              <a:rPr b="0" lang="es-CL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os efectos y la profundidad de la roca afectada por la meteorización son  dependientes del tipo de roca, del clima y del tiemp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as reacciones químicas son mucho más rápidas en climas tropicales y húmedos que en climas áridos o frí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Por ejemplo, en los polos y en los desiertos, actúan principalmente los procesos mecánicos de la meteorización física, los cuales llevan, lentamente, a la ruptura de la masa roc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En los trópicos los procesos mecánicos trabajan rápidamente y  en conjunto con la meteorización química, de manera que rocas frescas, recién expuestas,  pueden ser alteradas en un corto plaz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La Tabla 4.9 muestra una clasificación de rocas meteorizad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716120" y="203040"/>
          <a:ext cx="57135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3040"/>
                    <a:ext cx="57135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52640" y="1590840"/>
            <a:ext cx="5238720" cy="3676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54100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mado de apuntes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.GRIEM &amp; S.GRIEM-KLEE. Universidad de Atacam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14680" y="1486080"/>
          <a:ext cx="567684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486080"/>
                    <a:ext cx="5676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2:47:33Z</dcterms:created>
  <dc:creator>Sofia Rebolledo</dc:creator>
  <dc:description/>
  <dc:language>en-US</dc:language>
  <cp:lastModifiedBy>Sofia Rebolledo</cp:lastModifiedBy>
  <dcterms:modified xsi:type="dcterms:W3CDTF">2004-05-31T23:07:36Z</dcterms:modified>
  <cp:revision>24</cp:revision>
  <dc:subject/>
  <dc:title>Meteorización</dc:title>
</cp:coreProperties>
</file>