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C7F-6E1A-45D8-8238-C643B5BE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9E0-3578-432B-8027-18DD1A36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E16-EC93-4BF3-9AA3-9DDB3731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505-1DAC-494A-9C3E-6B1C7234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981-1A64-4289-97A5-FD9EADEB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C55-1D36-4014-B9D1-A405117C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129-7BD1-4CA9-9977-58904803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38E-5590-485A-830F-245E0293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CF6-D542-4DD2-A6D6-763BF224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5F0-F0AE-404E-B088-97918BAC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C08-B47E-41DD-AC43-606C5559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763-91A4-40E2-8AE2-8C00FC7E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ECD7-845C-499C-8B07-3F888770E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órfidos Cuprífe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rco tectónico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árgenes convergentes de placas y arcos magmáticos ligados a sub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Cu-Mo = Márgenes continentales 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Cu-Au = Arcos de is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de Mo = Parte interna (lado del continente) de arcos magmát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de Sn-W = Tras-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dad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Varias franjas de pórfidos Cu-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retácico Inferior: En explotación Andac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aleoceno - Eoceno Inferior: Cerro Colorado, Lomas Bayas - Fortuna del Cobre en explotación; Spencer en desarr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oceno Superior - Oligoceno Inferior: Quebrada Blanca, Rosario de Collahuasi, Ujina, El Abra, Radomiro Tomic, Chuquicamata, La Escondida, Cerro Zaldivar, El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ioceno Superior - Plioceno: Los Pelambres, Río Blanco, Los Bronces, El Ten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dad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Varias franjas de pórfidos Cu-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retácico Inferior: En explotación Andac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aleoceno - Eoceno Inferior: Cerro Colorado, Lomas Bayas - Fortuna del Cobre en explotación; Spencer en desarr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oceno Superior - Oligoceno Inferior: Quebrada Blanca, Rosario de Collahuasi, Ujina, El Abra, Radomiro Tomic, Chuquicamata, La Escondida, Cerro Zaldivar, El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ioceno Superior - Plioceno: Los Pelambres, Río Blanco, Los Bronces, El Ten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odelo clásico de Lowell y Gilbert (1970) Economic Geology V.65, p. 373-407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studio de los depósitos de San Manuel - Kalamaz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Zonación de tipos de alteración hidrotermal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cionados a intrusiones ígn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91480" cy="4687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5562720" y="2590920"/>
            <a:ext cx="1295280" cy="129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35560" y="1447920"/>
            <a:ext cx="2908440" cy="10155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a potásica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núcleo del sistema: biotita, ortoclasa y cua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066680"/>
            <a:ext cx="3133440" cy="13201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propilític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alo de alteración más externo, fuera del cuerpo de mena : clorita, epidota, albita, calci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580920" y="1828800"/>
            <a:ext cx="129564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962520"/>
            <a:ext cx="3060720" cy="20858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veles profundos núcleo de cuarzo, sericita, clorita, feldespato potásico y una zona externa de clorita, sericita, epidota, magnet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124080" y="5105160"/>
            <a:ext cx="990720" cy="533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91480" cy="4687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5181480" y="2895480"/>
            <a:ext cx="1371600" cy="1067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9720" y="1433520"/>
            <a:ext cx="2940120" cy="13201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a Fílica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vuelve al núcleo potásico: cuarzo, sericita y pirita (hasta 20% del volum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120" y="1081080"/>
            <a:ext cx="3191040" cy="10155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Argílica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xterna a la sericítica: minerales de arcilla, montmorillonita, clorita, piri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438280" y="2438280"/>
            <a:ext cx="914400" cy="1524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6095880" cy="4148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86600" y="3276720"/>
            <a:ext cx="1832040" cy="441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Zona de 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257800" y="3657240"/>
            <a:ext cx="175248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67080" y="3505320"/>
            <a:ext cx="2590920" cy="1218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1828800"/>
            <a:ext cx="1461960" cy="7794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cleo de baja 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800600" y="2666880"/>
            <a:ext cx="1676520" cy="1447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1219320"/>
            <a:ext cx="1831680" cy="441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Halo Pir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495320" y="1676520"/>
            <a:ext cx="304920" cy="1828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514600"/>
            <a:ext cx="1523880" cy="1117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reola de Alteración Hipóg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590920" y="3200400"/>
            <a:ext cx="83808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3892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6913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pósitos de Cu (Mo) de gran tonelaje y baja 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0 a 500 Mt de mineral con ~1% Cu y 0.02% 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Chile algunos &gt;1000 Mt y con &gt;1% 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 50% de la producción de Cu mundial proviene de este tipo de depósi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chilena de cobre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6 pórfidos cupríferos en explo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2 en el Norte de Chile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4 en la Zona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lgunos de los pórfidos cupríferos más grandes del mundo: El Teniente y Chuquicam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órfid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 asocian con rocas ígneas intrusivas con fenocristales de feldespato en una masa fundamental cristalina de grano f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ura porfíric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gmas intruyen y cristalizan cerca de la superfici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turaleza relativamente poco profunda: INTRUSIVOS EPIZ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n ser equigranulares con grano moderadamente gr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división: contenido metá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-M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-A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órfidos ricos en Cu o Au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asociados a intrusivos derivados por cristalización fraccionada de magmas máficos originados en fusión parcial del manto en márgenes convergentes de placas(márgenes continentales activos y arcos de isla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os pórfidos de molibdeno se asocian a intrusiones félsicas derivadas de magmas con una importante componente de corteza continental re-fund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ios cuerpos de rocas intrusivas, emplazadas en varios pul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ociados a enjambres de diques y brech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rocas de caja intruidas por los pórfidos pueden ser de cualquier ti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usivos y rocas de caja: fracturamiento fuerte y pervas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ón para la mineralizació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roca huésped sea rígida o frágil desde el punto de vista estruc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neralización y alteració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intrusivos y rocas de 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ción involucra un proceso magmátic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“segunda ebullición” o “ebullición retrógrada”: agua (y otros volátiles) saturan un magma como resultado de su cristaliz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Volumen de agua disuelta en la masa silicatada fundida aumenta proporcio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gma: 2% de agua disuelta en 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0% cristalizad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magma remanent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4%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de agua disuelta en volu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ua hierve a 100ºC; magma: 600-700º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ceso de agua expulsada en forma gaseosa (segunda ebullición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erada cerca de la superficie terrest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e liber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zufre, cobre, molibdeno y oro pueden concentrarse en sol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la parte acuosa del magma es expulsada por ebulli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ceso de pres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rechización y fracturamiento de las rocas intrusivas y rocas de caj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ee vías permeables para que las soluciones hidrotermales de derivación magmática fluyan a través de las rocas y depositen su carga metá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friamiento del magma intrusivo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irculación de aguas subterráneas en las rocas de caja circundantes en torno al centro de calor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eldas conve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ol principal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producir un rápido enfriamiento del sistema a niveles somer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trampa fría para desestabilizar complejos iónicos clorurados que transportan metale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precipitar sulfuros metálicos concentrando mineral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Natalia Astudillo</cp:lastModifiedBy>
  <dcterms:modified xsi:type="dcterms:W3CDTF">2003-03-30T19:27:05Z</dcterms:modified>
  <cp:revision>4</cp:revision>
  <dc:subject/>
  <dc:title>Alteración Hidrotermal</dc:title>
</cp:coreProperties>
</file>