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4EB-B6C1-4676-969D-FBC774E2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AE9-9873-43F8-96C6-F6E29CE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908-7921-4944-84E3-6B7B6134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B30-52AF-48B6-9B8A-DB91FF95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4F8-D3D4-48F7-BE63-8953651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116-43C3-4875-BDCC-D907EDAD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F8B-CAB6-490A-8BAC-76047FAB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D67-38B8-4602-A395-23E2A9C4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66E-A14E-455A-BF0B-4C5C023D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523-826C-437D-860E-237B53D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897-A5B1-491C-9E64-F75FDA1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CBA-6E84-4692-9B64-0258FB5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9B83-C0C5-4D1E-BFC0-6E7655E43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órfidos Cuprífe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rco tectónico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rgenes convergentes de placas y arcos magmáticos ligados a sub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Mo = Márgenes continentales 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Au = Arcos de is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Mo = Parte interna (lado del continente) de arcos magmát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Sn-W = Tras-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elo clásico de Lowell y Gilbert (1970) Economic Geology V.65, p. 373-407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tudio de los depósitos de San Manuel - Kalamaz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Zonación de tipos de alteración hidroterma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onados a intrusiones ígn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562720" y="2590920"/>
            <a:ext cx="129528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5560" y="1447920"/>
            <a:ext cx="29084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potásica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úcleo del sistema: biotita, ortoclasa y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313344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propilí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lo de alteración más externo, fuera del cuerpo de mena : clorita, epidota, albita, calci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80920" y="1828800"/>
            <a:ext cx="129564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62520"/>
            <a:ext cx="3060720" cy="20858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veles profundos núcleo de cuarzo, sericita, clorita, feldespato potásico y una zona externa de clorita, sericita, epidota, magne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24080" y="5105160"/>
            <a:ext cx="99072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5181480" y="2895480"/>
            <a:ext cx="137160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9720" y="1433520"/>
            <a:ext cx="294012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Fílica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uelve al núcleo potásico: cuarzo, sericita y pirita (hasta 20% del volum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120" y="1081080"/>
            <a:ext cx="31910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Argílica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xterna a la sericítica: minerales de arcilla, montmorillonita, clorita, pir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438280" y="2438280"/>
            <a:ext cx="914400" cy="1524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095880" cy="414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86600" y="3276720"/>
            <a:ext cx="183204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ona de 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57800" y="3657240"/>
            <a:ext cx="175248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3505320"/>
            <a:ext cx="2590920" cy="1218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828800"/>
            <a:ext cx="1461960" cy="779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cleo de baj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2666880"/>
            <a:ext cx="167652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219320"/>
            <a:ext cx="183168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Halo Pir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495320" y="1676520"/>
            <a:ext cx="304920" cy="1828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14600"/>
            <a:ext cx="1523880" cy="1117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reola de Alteración Hipóg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90920" y="3200400"/>
            <a:ext cx="838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3892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691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pósitos de Cu (Mo) de gran tonelaje y baj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Chile algunos &gt;1000 Mt y con &gt;1%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50% de la producción de Cu mundial proviene de este tipo de depósi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chilena de cobr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6 pórfidos cupríferos en expl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2 en el Norte de Chile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4 en la Zona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lgunos de los pórfidos cupríferos más grandes del mundo: El Teniente y Chuquicam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órfid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asocian con rocas ígneas intrusivas con fenocristales de feldespato en una masa fundamental cristalina de grano f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a porfíric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mas intruyen y cristalizan cerca de la superfici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eza relativamente poco profunda: INTRUSIVOS EPIZ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n ser equigranulares con grano moderadamente gr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división: contenido metá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M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órfidos ricos en Cu o Au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asociados a intrusivos derivados por cristalización fraccionada de magmas máficos originados en fusión parcial del manto en márgenes convergentes de placas(márgenes continentales activos y arcos de isl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pórfidos de molibdeno se asocian a intrusiones félsicas derivadas de magmas con una importante componente de corteza continental re-fund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os cuerpos de rocas intrusivas, emplazadas en varios pul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ociados a enjambres de diques y brec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rocas de caja intruidas por los pórfidos pueden ser de cualquier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usivos y rocas de caja: fracturamiento fuerte y pervas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ón para la miner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oca huésped sea rígida o frágil desde el punto de vista estruc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neralización y alte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intrusivos y rocas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ción involucra un proceso magmátic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“segunda ebullición” o “ebullición retrógrada”: agua (y otros volátiles) saturan un magma como resultado de su cristaliz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Volumen de agua disuelta en la masa silicatada fundida aumenta proporcio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gma: 2% de agua disuelta en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% cristaliza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agma reman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4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de agua disuelta en 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ua hierve a 100ºC; magma: 600-700º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agua expulsada en forma gaseosa (segunda ebullició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erada cerca de la superficie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liber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zufre, cobre, molibdeno y oro pueden concentrarse en 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parte acuosa del magma es expulsada por ebulli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pres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chización y fracturamiento de las rocas intrusivas y rocas de caj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ee vías permeables para que las soluciones hidrotermales de derivación magmática fluyan a través de las rocas y depositen su carga metá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riamiento del magma intrusivo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irculación de aguas subterráneas en las rocas de caja circundantes en torno al centro de calor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eldas con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 principal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roducir un rápido enfriamiento del sistema a niveles somer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trampa fría para desestabilizar complejos iónicos clorurados que transportan metal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precipitar sulfuros metálicos concentrando 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Natalia Astudillo</cp:lastModifiedBy>
  <dcterms:modified xsi:type="dcterms:W3CDTF">2003-03-30T19:27:05Z</dcterms:modified>
  <cp:revision>4</cp:revision>
  <dc:subject/>
  <dc:title>Alteración Hidrotermal</dc:title>
</cp:coreProperties>
</file>