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1A0-B8E4-4739-B69B-FC1FDC0C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F28-4EC4-4FCD-BAAE-DA05401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49F-9268-4EB1-B261-E4736313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94C-6685-437D-8FA8-8DB9171D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158-7562-43D6-97B3-41FB811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ADB-C565-4B02-8AAA-7EDCF7D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CA3-24B7-4471-A0DD-F5545D7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D2B-5A79-4708-BB1F-A3B98A3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D83-9A8B-45AC-800A-B8AC546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9EC-9723-49C4-8551-89CCD99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BD1-281C-4BB0-A8ED-FD6F750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2F1-6475-43E1-9015-DDADE8B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F48-E339-4653-A0FC-6EB5024CE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órfidos Cuprífe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rco tectónico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rgenes convergentes de placas y arcos magmáticos ligados a sub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Mo = Márgenes continentales 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Cu-Au = Arcos de is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Mo = Parte interna (lado del continente) de arcos magmát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Pórfidos de Sn-W = Tras-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dad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Varias franjas de pórfidos Cu-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retácico Inferior: En explotación Andac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aleoceno - Eoceno Inferior: Cerro Colorado, Lomas Bayas - Fortuna del Cobre en explotación; Spencer en desarro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oceno Superior - Oligoceno Inferior: Quebrada Blanca, Rosario de Collahuasi, Ujina, El Abra, Radomiro Tomic, Chuquicamata, La Escondida, Cerro Zaldivar, El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ioceno Superior - Plioceno: Los Pelambres, Río Blanco, Los Bronces, El Te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 clásico de Lowell y Gilbert (1970) Economic Geology V.65, p. 373-407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studio de los depósitos de San Manuel - Kalamaz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Zonación de tipos de alteración hidroterm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onados a intrusiones ígn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5562720" y="2590920"/>
            <a:ext cx="129528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35560" y="1447920"/>
            <a:ext cx="29084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potásica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úcleo del sistema: biotita, ortoclasa y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313344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propilí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lo de alteración más externo, fuera del cuerpo de mena : clorita, epidota, albita, calci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580920" y="1828800"/>
            <a:ext cx="129564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2520"/>
            <a:ext cx="3060720" cy="20858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veles profundos núcleo de cuarzo, sericita, clorita, feldespato potásico y una zona externa de clorita, sericita, epidota, magne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24080" y="5105160"/>
            <a:ext cx="99072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91480" cy="4687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5181480" y="2895480"/>
            <a:ext cx="137160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9720" y="1433520"/>
            <a:ext cx="2940120" cy="13201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a Fílica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vuelve al núcleo potásico: cuarzo, sericita y pirita (hasta 20% del volum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120" y="1081080"/>
            <a:ext cx="3191040" cy="10155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Argílica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xterna a la sericítica: minerales de arcilla, montmorillonita, clorita, pir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438280" y="2438280"/>
            <a:ext cx="914400" cy="1524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6095880" cy="414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86600" y="3276720"/>
            <a:ext cx="183204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ona de 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57800" y="3657240"/>
            <a:ext cx="17524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3505320"/>
            <a:ext cx="2590920" cy="1218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828800"/>
            <a:ext cx="1461960" cy="779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cleo de baj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00600" y="2666880"/>
            <a:ext cx="167652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219320"/>
            <a:ext cx="1831680" cy="441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Halo Pir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495320" y="1676520"/>
            <a:ext cx="304920" cy="1828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14600"/>
            <a:ext cx="1523880" cy="1117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reola de Alteración Hipóg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90920" y="3200400"/>
            <a:ext cx="838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389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X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691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pósitos de Cu (Mo) de gran tonelaje y baj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Chile algunos &gt;1000 Mt y con &gt;1%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50% de la producción de Cu mundial proviene de este tipo de depós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chilena de cobre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6 pórfidos cupríferos en expl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2 en el Norte de Chile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4 en la Zona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lgunos de los pórfidos cupríferos más grandes del mundo: El Teniente y Chuquic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órfid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 asocian con rocas ígneas intrusivas con fenocristales de feldespato en una masa fundamental cristalina de grano f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a porfíric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gmas intruyen y cristalizan cerca de la superfici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uraleza relativamente poco profunda: INTRUSIVOS EPI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n ser equigranulares con grano moderadamente gr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división: contenido metá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M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-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órfidos ricos en Cu o Au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sociados a intrusivos derivados por cristalización fraccionada de magmas máficos originados en fusión parcial del manto en márgenes convergentes de placas(márgenes continentales activos y arcos de isl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pórfidos de molibdeno se asocian a intrusiones félsicas derivadas de magmas con una importante componente de corteza continental re-fund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os cuerpos de rocas intrusivas, emplazadas en varios pul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ociados a enjambres de diques y brech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rocas de caja intruidas por los pórfidos pueden ser de cualquier t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usivos y rocas de caja: fracturamiento fuerte y perva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ón para la miner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oca huésped sea rígida o frágil desde el punto de vista estruc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neralización y alte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intrusivos y rocas de 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ción involucra un proceso magmátic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“segunda ebullición” o “ebullición retrógrada”: agua (y otros volátiles) saturan un magma como resultado de su cristaliz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Volumen de agua disuelta en la masa silicatada fundida aumenta proporcio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gma: 2% de agua disuelta en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cristaliza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gma reman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4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de agua disuelta en 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ua hierve a 100ºC; magma: 600-700º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agua expulsada en forma gaseosa (segunda ebullició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erada cerca de la superficie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liber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zufre, cobre, molibdeno y oro pueden concentrarse en 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parte acuosa del magma es expulsada por ebulli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so de pres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chización y fracturamiento de las rocas intrusivas y rocas de caj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ee vías permeables para que las soluciones hidrotermales de derivación magmática fluyan a través de las rocas y depositen su carga metá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órfidos Cupríferos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riamiento del magma intrusivo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irculación de aguas subterráneas en las rocas de caja circundantes en torno al centro de calor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eldas con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 principal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roducir un rápido enfriamiento del sistema a niveles somer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trampa fría para desestabilizar complejos iónicos clorurados que transportan metal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precipitar sulfuros metálicos concentrando 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Natalia Astudillo</cp:lastModifiedBy>
  <dcterms:modified xsi:type="dcterms:W3CDTF">2003-03-30T19:27:05Z</dcterms:modified>
  <cp:revision>4</cp:revision>
  <dc:subject/>
  <dc:title>Alteración Hidrotermal</dc:title>
</cp:coreProperties>
</file>