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E93-38B6-4AC8-B518-7A8F0054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29A-D301-46B2-8B72-1155298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769-FA80-4AC9-B56E-2D87F26D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9DA-87F9-4FC4-A9AE-909A000F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D2B-7E83-491F-BA73-77C4CE53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50C-B43A-49A3-888A-05E20C9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F11-6085-4743-AFF5-DA62406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343-3D40-4E1B-8C2C-A04A5F7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64A-DC61-460C-8B12-1B503450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A33-F9AA-467A-A2D4-515FA9B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CE2-DF2D-4EC2-8ED0-E31B5BB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EAB-9BE2-41C8-8481-2EB1542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61A-1406-45F3-8E59-4D613765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edió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1773360"/>
            <a:ext cx="0" cy="280800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997360"/>
            <a:ext cx="2016360" cy="21564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35280" y="2781000"/>
            <a:ext cx="1584360" cy="647640"/>
          </a:xfrm>
          <a:prstGeom prst="line">
            <a:avLst/>
          </a:prstGeom>
          <a:ln w="2844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35280" y="1700280"/>
            <a:ext cx="288720" cy="2160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1700280"/>
            <a:ext cx="1224000" cy="730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87280" y="1773360"/>
            <a:ext cx="360360" cy="142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410920" y="1916280"/>
            <a:ext cx="505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835280" y="1916280"/>
            <a:ext cx="576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ri-pedial.gif (783 bytes)"/>
          <p:cNvPicPr/>
          <p:nvPr/>
        </p:nvPicPr>
        <p:blipFill>
          <a:blip r:embed="rId1"/>
          <a:stretch/>
        </p:blipFill>
        <p:spPr>
          <a:xfrm>
            <a:off x="5219640" y="2708280"/>
            <a:ext cx="302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Escalen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Tet-scalenohedral.gif (814 bytes)"/>
          <p:cNvPicPr/>
          <p:nvPr/>
        </p:nvPicPr>
        <p:blipFill>
          <a:blip r:embed="rId1"/>
          <a:stretch/>
        </p:blipFill>
        <p:spPr>
          <a:xfrm>
            <a:off x="5076720" y="220500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Romb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rig-rhombohedral.gif (743 bytes)"/>
          <p:cNvPicPr/>
          <p:nvPr/>
        </p:nvPicPr>
        <p:blipFill>
          <a:blip r:embed="rId1"/>
          <a:stretch/>
        </p:blipFill>
        <p:spPr>
          <a:xfrm>
            <a:off x="3348000" y="3645000"/>
            <a:ext cx="2087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Biesfen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Ortho-disphenoidalgif.gif (859 bytes)"/>
          <p:cNvPicPr/>
          <p:nvPr/>
        </p:nvPicPr>
        <p:blipFill>
          <a:blip r:embed="rId1"/>
          <a:stretch/>
        </p:blipFill>
        <p:spPr>
          <a:xfrm>
            <a:off x="5003640" y="3141720"/>
            <a:ext cx="2953080" cy="148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08720" y="50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Formas isomé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odecaedro (rómb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hexah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apezo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oct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65744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odec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tetra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Gir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Piritoe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pl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art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0600" y="1465200"/>
            <a:ext cx="808344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2960" y="1065240"/>
            <a:ext cx="7507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inac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852640"/>
            <a:ext cx="1728720" cy="360360"/>
          </a:xfrm>
          <a:prstGeom prst="parallelogram">
            <a:avLst>
              <a:gd name="adj" fmla="val 11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4365720"/>
            <a:ext cx="1728720" cy="360360"/>
          </a:xfrm>
          <a:prstGeom prst="parallelogram">
            <a:avLst>
              <a:gd name="adj" fmla="val 11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997360"/>
            <a:ext cx="0" cy="158400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716280"/>
            <a:ext cx="1513080" cy="7308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428640"/>
            <a:ext cx="1152360" cy="64764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Tri-pinacoidal.gif (783 bytes)"/>
          <p:cNvPicPr/>
          <p:nvPr/>
        </p:nvPicPr>
        <p:blipFill>
          <a:blip r:embed="rId1"/>
          <a:stretch/>
        </p:blipFill>
        <p:spPr>
          <a:xfrm>
            <a:off x="5724360" y="3357720"/>
            <a:ext cx="23767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D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429000"/>
            <a:ext cx="2376360" cy="863640"/>
          </a:xfrm>
          <a:prstGeom prst="parallelogram">
            <a:avLst>
              <a:gd name="adj" fmla="val 68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2997360"/>
            <a:ext cx="2376720" cy="1511280"/>
          </a:xfrm>
          <a:prstGeom prst="rect">
            <a:avLst/>
          </a:prstGeom>
          <a:noFill/>
          <a:ln w="93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3429000"/>
            <a:ext cx="358920" cy="64764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429000"/>
            <a:ext cx="287280" cy="64764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076640"/>
            <a:ext cx="1584360" cy="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o-domatic.gif (829 bytes)"/>
          <p:cNvPicPr/>
          <p:nvPr/>
        </p:nvPicPr>
        <p:blipFill>
          <a:blip r:embed="rId1"/>
          <a:stretch/>
        </p:blipFill>
        <p:spPr>
          <a:xfrm>
            <a:off x="5148360" y="3789360"/>
            <a:ext cx="3203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Esfen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860640"/>
            <a:ext cx="2376720" cy="936720"/>
          </a:xfrm>
          <a:prstGeom prst="parallelogram">
            <a:avLst>
              <a:gd name="adj" fmla="val 634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3860640"/>
            <a:ext cx="576360" cy="576360"/>
          </a:xfrm>
          <a:prstGeom prst="line">
            <a:avLst/>
          </a:prstGeom>
          <a:ln w="3816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4437000"/>
            <a:ext cx="863640" cy="0"/>
          </a:xfrm>
          <a:prstGeom prst="line">
            <a:avLst/>
          </a:prstGeom>
          <a:ln w="3816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4437000"/>
            <a:ext cx="647640" cy="0"/>
          </a:xfrm>
          <a:prstGeom prst="line">
            <a:avLst/>
          </a:prstGeom>
          <a:ln w="381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564000" y="3860280"/>
            <a:ext cx="287280" cy="576360"/>
          </a:xfrm>
          <a:prstGeom prst="line">
            <a:avLst/>
          </a:prstGeom>
          <a:ln w="38160">
            <a:solidFill>
              <a:srgbClr val="fbee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14172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3068640"/>
            <a:ext cx="432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Mono-sphenoidal.gif (707 bytes)"/>
          <p:cNvPicPr/>
          <p:nvPr/>
        </p:nvPicPr>
        <p:blipFill>
          <a:blip r:embed="rId1"/>
          <a:stretch/>
        </p:blipFill>
        <p:spPr>
          <a:xfrm>
            <a:off x="5651640" y="3645000"/>
            <a:ext cx="29527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r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bee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5300640"/>
            <a:ext cx="136836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3789360"/>
            <a:ext cx="136836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38840" y="401004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79404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21520" y="40006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34000" y="3124080"/>
            <a:ext cx="0" cy="2781360"/>
          </a:xfrm>
          <a:prstGeom prst="line">
            <a:avLst/>
          </a:prstGeom>
          <a:ln w="28440">
            <a:solidFill>
              <a:srgbClr val="fbee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8320" y="3076560"/>
            <a:ext cx="155520" cy="104760"/>
          </a:xfrm>
          <a:prstGeom prst="triangle">
            <a:avLst>
              <a:gd name="adj" fmla="val 50000"/>
            </a:avLst>
          </a:prstGeom>
          <a:solidFill>
            <a:srgbClr val="fbee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1200" y="280044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55800" y="287280"/>
            <a:ext cx="666108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Pirá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Hex-dihexagonal-pyramidal.gif (877 bytes)"/>
          <p:cNvPicPr/>
          <p:nvPr/>
        </p:nvPicPr>
        <p:blipFill>
          <a:blip r:embed="rId1"/>
          <a:stretch/>
        </p:blipFill>
        <p:spPr>
          <a:xfrm rot="21184200">
            <a:off x="7164360" y="5157720"/>
            <a:ext cx="112248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Tet-pyramidal.gif (852 bytes)"/>
          <p:cNvPicPr/>
          <p:nvPr/>
        </p:nvPicPr>
        <p:blipFill>
          <a:blip r:embed="rId2"/>
          <a:stretch/>
        </p:blipFill>
        <p:spPr>
          <a:xfrm>
            <a:off x="6372360" y="35733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Trig-pyramidal.gif (889 bytes)"/>
          <p:cNvPicPr/>
          <p:nvPr/>
        </p:nvPicPr>
        <p:blipFill>
          <a:blip r:embed="rId3"/>
          <a:stretch/>
        </p:blipFill>
        <p:spPr>
          <a:xfrm rot="21159600">
            <a:off x="7092720" y="1341000"/>
            <a:ext cx="1368360" cy="110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43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Bipirá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Rómb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te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Di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Tet-dipyrimidal.gif (804 bytes)"/>
          <p:cNvPicPr/>
          <p:nvPr/>
        </p:nvPicPr>
        <p:blipFill>
          <a:blip r:embed="rId1"/>
          <a:stretch/>
        </p:blipFill>
        <p:spPr>
          <a:xfrm>
            <a:off x="5580000" y="1557360"/>
            <a:ext cx="1809720" cy="176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ex-dipyramidal.gif (768 bytes)"/>
          <p:cNvPicPr/>
          <p:nvPr/>
        </p:nvPicPr>
        <p:blipFill>
          <a:blip r:embed="rId2"/>
          <a:stretch/>
        </p:blipFill>
        <p:spPr>
          <a:xfrm rot="21208800">
            <a:off x="5938920" y="4074840"/>
            <a:ext cx="1716120" cy="151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91524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77040" y="53341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be0e3"/>
                </a:solidFill>
                <a:latin typeface="Arial"/>
              </a:rPr>
              <a:t>NOMBRES DE FORMAS DE CRISTALES</a:t>
            </a:r>
            <a:br>
              <a:rPr sz="3200"/>
            </a:br>
            <a:r>
              <a:rPr b="0" lang="es-CL" sz="3200" spc="-1" strike="noStrike">
                <a:solidFill>
                  <a:srgbClr val="fbeea3"/>
                </a:solidFill>
                <a:latin typeface="Arial"/>
              </a:rPr>
              <a:t>Trapezoe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ri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ee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beea3"/>
                </a:solidFill>
                <a:latin typeface="Arial"/>
              </a:rPr>
              <a:t>Hex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et-trapezohedral.gif (817 bytes)"/>
          <p:cNvPicPr/>
          <p:nvPr/>
        </p:nvPicPr>
        <p:blipFill>
          <a:blip r:embed="rId1"/>
          <a:stretch/>
        </p:blipFill>
        <p:spPr>
          <a:xfrm>
            <a:off x="5219640" y="2708280"/>
            <a:ext cx="2521080" cy="176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600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beea3"/>
                </a:solidFill>
                <a:latin typeface="Arial"/>
              </a:rPr>
              <a:t>Tetr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1:12:05Z</dcterms:created>
  <dc:creator>Igor Maksaev Brockway</dc:creator>
  <dc:description/>
  <dc:language>en-US</dc:language>
  <cp:lastModifiedBy>Igor Maksaev Brockway</cp:lastModifiedBy>
  <dcterms:modified xsi:type="dcterms:W3CDTF">2004-03-25T04:06:35Z</dcterms:modified>
  <cp:revision>6</cp:revision>
  <dc:subject/>
  <dc:title>NOMBRES DE FORMAS DE CRISTALES Pedión </dc:title>
</cp:coreProperties>
</file>