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6D6-044A-46EB-AD38-59AFC786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645-3F04-4747-9842-51DC977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5FF-E895-44BD-82A0-623BFCC7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95F-F602-4279-8B66-82B6CEC8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355-5C9B-4136-8637-E8C21660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A8E-9D8D-4AEB-ADE0-D14CFB96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129-8453-4B26-BD59-906F60F1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355-81C9-4ED5-977A-32E002D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53C-FB34-4B35-813A-BE638D5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F73-8189-479E-8A23-0FE6C57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27D-9CD7-48E5-BB77-43F058E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649-39C5-46C2-9444-60B3FDB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AA3B-666B-47F1-837D-FA0A3A3F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edió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1773360"/>
            <a:ext cx="0" cy="280800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997360"/>
            <a:ext cx="2016360" cy="21564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35280" y="2781000"/>
            <a:ext cx="1584360" cy="64764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35280" y="1700280"/>
            <a:ext cx="288720" cy="2160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1700280"/>
            <a:ext cx="1224000" cy="730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87280" y="1773360"/>
            <a:ext cx="360360" cy="142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410920" y="1916280"/>
            <a:ext cx="505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835280" y="1916280"/>
            <a:ext cx="576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ri-pedial.gif (783 bytes)"/>
          <p:cNvPicPr/>
          <p:nvPr/>
        </p:nvPicPr>
        <p:blipFill>
          <a:blip r:embed="rId1"/>
          <a:stretch/>
        </p:blipFill>
        <p:spPr>
          <a:xfrm>
            <a:off x="5219640" y="2708280"/>
            <a:ext cx="302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Escalen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Tet-scalenohedral.gif (814 bytes)"/>
          <p:cNvPicPr/>
          <p:nvPr/>
        </p:nvPicPr>
        <p:blipFill>
          <a:blip r:embed="rId1"/>
          <a:stretch/>
        </p:blipFill>
        <p:spPr>
          <a:xfrm>
            <a:off x="5076720" y="220500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Romb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rig-rhombohedral.gif (743 bytes)"/>
          <p:cNvPicPr/>
          <p:nvPr/>
        </p:nvPicPr>
        <p:blipFill>
          <a:blip r:embed="rId1"/>
          <a:stretch/>
        </p:blipFill>
        <p:spPr>
          <a:xfrm>
            <a:off x="3348000" y="3645000"/>
            <a:ext cx="2087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Biesfen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Ortho-disphenoidalgif.gif (859 bytes)"/>
          <p:cNvPicPr/>
          <p:nvPr/>
        </p:nvPicPr>
        <p:blipFill>
          <a:blip r:embed="rId1"/>
          <a:stretch/>
        </p:blipFill>
        <p:spPr>
          <a:xfrm>
            <a:off x="5003640" y="3141720"/>
            <a:ext cx="2953080" cy="148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08720" y="50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Formas isomé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odecaedro (rómb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hexah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apezo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65744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odec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Gir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Pirito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pl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art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0600" y="1465200"/>
            <a:ext cx="808344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2960" y="1065240"/>
            <a:ext cx="7507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inac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852640"/>
            <a:ext cx="1728720" cy="360360"/>
          </a:xfrm>
          <a:prstGeom prst="parallelogram">
            <a:avLst>
              <a:gd name="adj" fmla="val 11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4365720"/>
            <a:ext cx="1728720" cy="360360"/>
          </a:xfrm>
          <a:prstGeom prst="parallelogram">
            <a:avLst>
              <a:gd name="adj" fmla="val 11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997360"/>
            <a:ext cx="0" cy="158400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716280"/>
            <a:ext cx="1513080" cy="7308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428640"/>
            <a:ext cx="1152360" cy="64764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Tri-pinacoidal.gif (783 bytes)"/>
          <p:cNvPicPr/>
          <p:nvPr/>
        </p:nvPicPr>
        <p:blipFill>
          <a:blip r:embed="rId1"/>
          <a:stretch/>
        </p:blipFill>
        <p:spPr>
          <a:xfrm>
            <a:off x="5724360" y="3357720"/>
            <a:ext cx="23767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D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429000"/>
            <a:ext cx="2376360" cy="863640"/>
          </a:xfrm>
          <a:prstGeom prst="parallelogram">
            <a:avLst>
              <a:gd name="adj" fmla="val 68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2997360"/>
            <a:ext cx="2376720" cy="1511280"/>
          </a:xfrm>
          <a:prstGeom prst="rect">
            <a:avLst/>
          </a:prstGeom>
          <a:noFill/>
          <a:ln w="93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3429000"/>
            <a:ext cx="358920" cy="64764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429000"/>
            <a:ext cx="287280" cy="64764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076640"/>
            <a:ext cx="1584360" cy="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o-domatic.gif (829 bytes)"/>
          <p:cNvPicPr/>
          <p:nvPr/>
        </p:nvPicPr>
        <p:blipFill>
          <a:blip r:embed="rId1"/>
          <a:stretch/>
        </p:blipFill>
        <p:spPr>
          <a:xfrm>
            <a:off x="5148360" y="3789360"/>
            <a:ext cx="3203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Esfen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860640"/>
            <a:ext cx="2376720" cy="936720"/>
          </a:xfrm>
          <a:prstGeom prst="parallelogram">
            <a:avLst>
              <a:gd name="adj" fmla="val 634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3860640"/>
            <a:ext cx="576360" cy="576360"/>
          </a:xfrm>
          <a:prstGeom prst="line">
            <a:avLst/>
          </a:prstGeom>
          <a:ln w="3816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437000"/>
            <a:ext cx="863640" cy="0"/>
          </a:xfrm>
          <a:prstGeom prst="line">
            <a:avLst/>
          </a:prstGeom>
          <a:ln w="3816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4437000"/>
            <a:ext cx="647640" cy="0"/>
          </a:xfrm>
          <a:prstGeom prst="line">
            <a:avLst/>
          </a:prstGeom>
          <a:ln w="381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564000" y="3860280"/>
            <a:ext cx="287280" cy="576360"/>
          </a:xfrm>
          <a:prstGeom prst="line">
            <a:avLst/>
          </a:prstGeom>
          <a:ln w="381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14172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3068640"/>
            <a:ext cx="432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Mono-sphenoidal.gif (707 bytes)"/>
          <p:cNvPicPr/>
          <p:nvPr/>
        </p:nvPicPr>
        <p:blipFill>
          <a:blip r:embed="rId1"/>
          <a:stretch/>
        </p:blipFill>
        <p:spPr>
          <a:xfrm>
            <a:off x="5651640" y="3645000"/>
            <a:ext cx="29527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r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bee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300640"/>
            <a:ext cx="136836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3789360"/>
            <a:ext cx="136836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38840" y="401004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79404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21520" y="40006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34000" y="3124080"/>
            <a:ext cx="0" cy="278136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8320" y="3076560"/>
            <a:ext cx="155520" cy="104760"/>
          </a:xfrm>
          <a:prstGeom prst="triangle">
            <a:avLst>
              <a:gd name="adj" fmla="val 50000"/>
            </a:avLst>
          </a:prstGeom>
          <a:solidFill>
            <a:srgbClr val="fbee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1200" y="280044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55800" y="287280"/>
            <a:ext cx="666108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irá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Hex-dihexagonal-pyramidal.gif (877 bytes)"/>
          <p:cNvPicPr/>
          <p:nvPr/>
        </p:nvPicPr>
        <p:blipFill>
          <a:blip r:embed="rId1"/>
          <a:stretch/>
        </p:blipFill>
        <p:spPr>
          <a:xfrm rot="21184200">
            <a:off x="7164360" y="5157720"/>
            <a:ext cx="112248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Tet-pyramidal.gif (852 bytes)"/>
          <p:cNvPicPr/>
          <p:nvPr/>
        </p:nvPicPr>
        <p:blipFill>
          <a:blip r:embed="rId2"/>
          <a:stretch/>
        </p:blipFill>
        <p:spPr>
          <a:xfrm>
            <a:off x="6372360" y="3573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Trig-pyramidal.gif (889 bytes)"/>
          <p:cNvPicPr/>
          <p:nvPr/>
        </p:nvPicPr>
        <p:blipFill>
          <a:blip r:embed="rId3"/>
          <a:stretch/>
        </p:blipFill>
        <p:spPr>
          <a:xfrm rot="21159600">
            <a:off x="7092720" y="1341000"/>
            <a:ext cx="1368360" cy="110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43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Bipirá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Tet-dipyrimidal.gif (804 bytes)"/>
          <p:cNvPicPr/>
          <p:nvPr/>
        </p:nvPicPr>
        <p:blipFill>
          <a:blip r:embed="rId1"/>
          <a:stretch/>
        </p:blipFill>
        <p:spPr>
          <a:xfrm>
            <a:off x="5580000" y="1557360"/>
            <a:ext cx="1809720" cy="176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ex-dipyramidal.gif (768 bytes)"/>
          <p:cNvPicPr/>
          <p:nvPr/>
        </p:nvPicPr>
        <p:blipFill>
          <a:blip r:embed="rId2"/>
          <a:stretch/>
        </p:blipFill>
        <p:spPr>
          <a:xfrm rot="21208800">
            <a:off x="5938920" y="4074840"/>
            <a:ext cx="1716120" cy="151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91524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77040" y="53341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Trapez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et-trapezohedral.gif (817 bytes)"/>
          <p:cNvPicPr/>
          <p:nvPr/>
        </p:nvPicPr>
        <p:blipFill>
          <a:blip r:embed="rId1"/>
          <a:stretch/>
        </p:blipFill>
        <p:spPr>
          <a:xfrm>
            <a:off x="5219640" y="2708280"/>
            <a:ext cx="2521080" cy="176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600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1:12:05Z</dcterms:created>
  <dc:creator>Igor Maksaev Brockway</dc:creator>
  <dc:description/>
  <dc:language>en-US</dc:language>
  <cp:lastModifiedBy>Igor Maksaev Brockway</cp:lastModifiedBy>
  <dcterms:modified xsi:type="dcterms:W3CDTF">2004-03-25T04:06:35Z</dcterms:modified>
  <cp:revision>6</cp:revision>
  <dc:subject/>
  <dc:title>NOMBRES DE FORMAS DE CRISTALES Pedión </dc:title>
</cp:coreProperties>
</file>