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C3A7E-0566-4FDC-91D6-34F093BB5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02D06-6820-4680-848A-A9B1C9652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387D7-63DF-4CBC-8A72-E3FF4BE65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331EC-2026-40F5-BF61-48C2401A8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9DD5D-080E-4D02-9B41-59334DFE8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47F2D-4487-4BC4-8ADF-855C2F9A9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F01B3-44BC-4568-A60B-4955D416F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D7153-31CB-421D-A02B-DE0BE9697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E9223-3D51-4CE9-ABA9-13A807B22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CAB0E-F217-4643-AC5E-5C77DEE82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A8823-5E23-49C8-B107-35BD0E67F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2E179-388E-4EEE-B6EF-FF5B2E4B2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7C761-109A-4914-B761-EBA9A0B561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Notas Curso </a:t>
            </a:r>
            <a:br>
              <a:rPr sz="4400"/>
            </a:b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Geofísica General</a:t>
            </a:r>
            <a:br>
              <a:rPr sz="4400"/>
            </a:b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GF 31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Campo Magnético Terrest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J. Camp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200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304920" y="304920"/>
            <a:ext cx="8534160" cy="32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Tipos de comportamiento Magné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epende de la suceptibilidad magnética del mate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i un cuerpo que contiene un mineral magnético es ubicado dentro de un campo magnético “ambiente” </a:t>
            </a:r>
            <a:r>
              <a:rPr b="1" i="1" lang="es-CL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Times New Roman"/>
              </a:rPr>
              <a:t>amb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el cuerpo adquiere una magnetización </a:t>
            </a:r>
            <a:r>
              <a:rPr b="1" i="1" lang="es-CL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con una intensidad proporcional a la suceptibilidad magnética promedio de todo el cuerp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04920" y="380880"/>
            <a:ext cx="8686800" cy="63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Diamagnetismo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-10</a:t>
            </a:r>
            <a:r>
              <a:rPr b="0" lang="es-CL" sz="2400" spc="-1" strike="noStrike" baseline="30000">
                <a:solidFill>
                  <a:srgbClr val="000000"/>
                </a:solidFill>
                <a:latin typeface="Times New Roman"/>
              </a:rPr>
              <a:t>-6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a -10</a:t>
            </a:r>
            <a:r>
              <a:rPr b="0" lang="es-CL" sz="2400" spc="-1" strike="noStrike" baseline="30000">
                <a:solidFill>
                  <a:srgbClr val="000000"/>
                </a:solidFill>
                <a:latin typeface="Times New Roman"/>
              </a:rPr>
              <a:t>-5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inerales Diamagnéticos, tales como la Halita (sal), Cuarzo y Calcita (con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-10</a:t>
            </a:r>
            <a:r>
              <a:rPr b="0" lang="es-CL" sz="2400" spc="-1" strike="noStrike" baseline="30000">
                <a:solidFill>
                  <a:srgbClr val="000000"/>
                </a:solidFill>
                <a:latin typeface="Times New Roman"/>
              </a:rPr>
              <a:t>-6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), tienen una suceptibilidad magnética negativa </a:t>
            </a:r>
            <a:r>
              <a:rPr b="0" lang="es-C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dquieren una magnetización inducida en dirección opuesta al campo externo, de intensidad débil, desaparece cuando el campo externo desaparece y es independiente de la temperatu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676520" y="4419720"/>
            <a:ext cx="5715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105520" y="5029200"/>
            <a:ext cx="685800" cy="838080"/>
          </a:xfrm>
          <a:prstGeom prst="rect">
            <a:avLst/>
          </a:prstGeom>
          <a:solidFill>
            <a:srgbClr val="00cc99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 flipV="1">
            <a:off x="5333760" y="5257800"/>
            <a:ext cx="22860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676520" y="3809880"/>
            <a:ext cx="22860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057400" y="3809880"/>
            <a:ext cx="22860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419720" y="3809880"/>
            <a:ext cx="22860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029200" y="3809880"/>
            <a:ext cx="22860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562720" y="3809880"/>
            <a:ext cx="22860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172200" y="3809880"/>
            <a:ext cx="22860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58000" y="3809880"/>
            <a:ext cx="22860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590920" y="3809880"/>
            <a:ext cx="22860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200400" y="3809880"/>
            <a:ext cx="22860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9880" y="3809880"/>
            <a:ext cx="22860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876920" y="3200400"/>
            <a:ext cx="761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Times New Roman"/>
              </a:rPr>
              <a:t>a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019920" y="5029200"/>
            <a:ext cx="266688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Magnetización Inducida </a:t>
            </a:r>
            <a:r>
              <a:rPr b="1" lang="es-CL" sz="2000" spc="-1" strike="noStrike" u="sng">
                <a:solidFill>
                  <a:srgbClr val="000000"/>
                </a:solidFill>
                <a:uFillTx/>
                <a:latin typeface="Times New Roman"/>
              </a:rPr>
              <a:t>Diamagnét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04920" y="304920"/>
            <a:ext cx="8686800" cy="618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Paramagnetismo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+10</a:t>
            </a:r>
            <a:r>
              <a:rPr b="0" lang="es-CL" sz="2400" spc="-1" strike="noStrike" baseline="30000">
                <a:solidFill>
                  <a:srgbClr val="000000"/>
                </a:solidFill>
                <a:latin typeface="Times New Roman"/>
              </a:rPr>
              <a:t>-4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) (Clorita, amfíbola, olivino, piroxen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uceptibilidad magnética positiva, pero débil con respecto al campo externo. Se adquiere un magnetismo paralelo a la dirección del campo externo (algunos átamos alinean sus momentos magnéticos paralelos al campo externo) </a:t>
            </a:r>
            <a:r>
              <a:rPr b="0" lang="es-C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Es un efecto estadístic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u suceptibilidad es reversible, de magnitud pequeña, positiva y varía con la temperatura según la Ley de Curie </a:t>
            </a:r>
            <a:r>
              <a:rPr b="0" lang="es-C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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1/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a temperatura sobre la cual un sólido es paramagnético es llamada T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 paramagnética de Curie o constante de Weiss (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del materi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334120" y="5410080"/>
            <a:ext cx="685800" cy="838440"/>
          </a:xfrm>
          <a:prstGeom prst="rect">
            <a:avLst/>
          </a:prstGeom>
          <a:solidFill>
            <a:srgbClr val="00cc99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562720" y="5638680"/>
            <a:ext cx="22860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086600" y="4191120"/>
            <a:ext cx="762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Times New Roman"/>
              </a:rPr>
              <a:t>a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523880" y="5029200"/>
            <a:ext cx="5715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523880" y="4419720"/>
            <a:ext cx="22860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971800" y="4419720"/>
            <a:ext cx="22860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05320" y="4419720"/>
            <a:ext cx="22860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114800" y="4419720"/>
            <a:ext cx="22860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724280" y="4419720"/>
            <a:ext cx="22860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334120" y="4419720"/>
            <a:ext cx="22860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867280" y="4419720"/>
            <a:ext cx="22860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400800" y="4419720"/>
            <a:ext cx="22860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934320" y="4419720"/>
            <a:ext cx="22860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286000" y="4419720"/>
            <a:ext cx="22860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248520" y="5410080"/>
            <a:ext cx="289548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Magnetización Inducida </a:t>
            </a:r>
            <a:r>
              <a:rPr b="1" lang="es-CL" sz="2000" spc="-1" strike="noStrike" u="sng">
                <a:solidFill>
                  <a:srgbClr val="000000"/>
                </a:solidFill>
                <a:uFillTx/>
                <a:latin typeface="Times New Roman"/>
              </a:rPr>
              <a:t>Paramagnét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228600" y="380880"/>
            <a:ext cx="8534520" cy="60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Ferromagnetismo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(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+10</a:t>
            </a:r>
            <a:r>
              <a:rPr b="0" lang="es-CL" sz="24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) (Fe, Ni, C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n algunos minerales metálicos ricos en Fe, Co, Ni, Mg, los momentos magnéticos atómicos se alinean fuertemente al campo externo. </a:t>
            </a:r>
            <a:r>
              <a:rPr b="0" lang="es-C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se produce magnetización espontánea (cambio de electrones vecin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162920" y="4648320"/>
            <a:ext cx="685800" cy="838080"/>
          </a:xfrm>
          <a:prstGeom prst="rect">
            <a:avLst/>
          </a:prstGeom>
          <a:solidFill>
            <a:srgbClr val="00cc99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124080" y="4495680"/>
            <a:ext cx="5715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581280" y="3962520"/>
            <a:ext cx="22860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248520" y="5867280"/>
            <a:ext cx="289548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Magnetización Inducida </a:t>
            </a:r>
            <a:r>
              <a:rPr b="1" lang="es-CL" sz="2000" spc="-1" strike="noStrike" u="sng">
                <a:solidFill>
                  <a:srgbClr val="000000"/>
                </a:solidFill>
                <a:uFillTx/>
                <a:latin typeface="Times New Roman"/>
              </a:rPr>
              <a:t>Ferromagnét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315200" y="4724280"/>
            <a:ext cx="380880" cy="762120"/>
          </a:xfrm>
          <a:prstGeom prst="line">
            <a:avLst/>
          </a:prstGeom>
          <a:ln w="63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419720" y="3962520"/>
            <a:ext cx="22860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181480" y="3962520"/>
            <a:ext cx="22860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867280" y="3962520"/>
            <a:ext cx="22860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553080" y="3962520"/>
            <a:ext cx="22860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162920" y="3962520"/>
            <a:ext cx="22860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772400" y="3962520"/>
            <a:ext cx="22860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381880" y="3962520"/>
            <a:ext cx="22860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238880" y="3429000"/>
            <a:ext cx="762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Times New Roman"/>
              </a:rPr>
              <a:t>a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304920" y="228600"/>
            <a:ext cx="8610480" cy="60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Bajo ciertas circunstancias la magnetización inducida puede mantenerse en los materiales Ferromagnéticos, incluso después que el campo externo deja de actuar </a:t>
            </a:r>
            <a:r>
              <a:rPr b="0" lang="es-C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Adquiere una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Magnetización Remane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Magnetizació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2438280" y="1980720"/>
            <a:ext cx="106704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438280" y="2666880"/>
            <a:ext cx="106704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505320" y="31240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Reman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505320" y="1676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Induc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304920" y="380880"/>
            <a:ext cx="8534160" cy="60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772400" y="4800600"/>
            <a:ext cx="685800" cy="838080"/>
          </a:xfrm>
          <a:prstGeom prst="rect">
            <a:avLst/>
          </a:prstGeom>
          <a:solidFill>
            <a:srgbClr val="00cc99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4876920"/>
            <a:ext cx="380880" cy="761760"/>
          </a:xfrm>
          <a:prstGeom prst="line">
            <a:avLst/>
          </a:prstGeom>
          <a:ln w="63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486400" y="4495680"/>
            <a:ext cx="3352680" cy="0"/>
          </a:xfrm>
          <a:prstGeom prst="line">
            <a:avLst/>
          </a:prstGeom>
          <a:ln w="63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219320" y="3276720"/>
            <a:ext cx="761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Times New Roman"/>
              </a:rPr>
              <a:t>a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276720" y="3962520"/>
            <a:ext cx="22860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743200" y="3962520"/>
            <a:ext cx="22860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209680" y="3962520"/>
            <a:ext cx="22860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752480" y="3962520"/>
            <a:ext cx="22860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219320" y="3962520"/>
            <a:ext cx="22860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62120" y="3962520"/>
            <a:ext cx="22860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9880" y="3962520"/>
            <a:ext cx="22860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895480" y="4800600"/>
            <a:ext cx="685800" cy="838080"/>
          </a:xfrm>
          <a:prstGeom prst="rect">
            <a:avLst/>
          </a:prstGeom>
          <a:solidFill>
            <a:srgbClr val="00cc99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85800" y="4495680"/>
            <a:ext cx="3352680" cy="0"/>
          </a:xfrm>
          <a:prstGeom prst="line">
            <a:avLst/>
          </a:prstGeom>
          <a:ln w="63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971800" y="4876920"/>
            <a:ext cx="380880" cy="761760"/>
          </a:xfrm>
          <a:prstGeom prst="line">
            <a:avLst/>
          </a:prstGeom>
          <a:ln w="63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124080" y="5943600"/>
            <a:ext cx="762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Times New Roman"/>
              </a:rPr>
              <a:t>i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772400" y="5943600"/>
            <a:ext cx="762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Times New Roman"/>
              </a:rPr>
              <a:t>r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14400" y="4800600"/>
            <a:ext cx="685800" cy="838080"/>
          </a:xfrm>
          <a:prstGeom prst="rect">
            <a:avLst/>
          </a:prstGeom>
          <a:solidFill>
            <a:srgbClr val="00cc99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791320" y="4800600"/>
            <a:ext cx="685800" cy="838080"/>
          </a:xfrm>
          <a:prstGeom prst="rect">
            <a:avLst/>
          </a:prstGeom>
          <a:solidFill>
            <a:srgbClr val="00cc99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066680" y="4876920"/>
            <a:ext cx="381240" cy="761760"/>
          </a:xfrm>
          <a:prstGeom prst="line">
            <a:avLst/>
          </a:prstGeom>
          <a:ln w="63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14400" y="6019920"/>
            <a:ext cx="762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Times New Roman"/>
              </a:rPr>
              <a:t>i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562720" y="579132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Pérdida de magnetiz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419720" y="3962520"/>
            <a:ext cx="838080" cy="13716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106668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agnetización Inducida y Reman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533520" y="533520"/>
            <a:ext cx="8153280" cy="364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Geometría de los cuerpos magnéticos en el subsuelo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a magnetización es inducida en un material de acuerdo a la dirección y magnitud del campo mabiente </a:t>
            </a:r>
            <a:r>
              <a:rPr b="1" i="1" lang="es-CL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es-CL" sz="2400" spc="-1" strike="noStrike" baseline="-25000">
                <a:solidFill>
                  <a:srgbClr val="000000"/>
                </a:solidFill>
                <a:latin typeface="Times New Roman"/>
              </a:rPr>
              <a:t>amb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y la suceptibilidad magnética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del cuerp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as anomalías magnéticas inducidas dependen de la latitud (campo ambiente cambia su inclinación y magnitud según la latitud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3200400" y="3581280"/>
                <a:ext cx="2438280" cy="193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mb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d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demás</m:t>
                        </m:r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J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χ</m:t>
                        </m:r>
                        <m:r>
                          <m:t xml:space="preserve"> 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mb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533520" y="457200"/>
            <a:ext cx="8001000" cy="59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demás del campo ambiente </a:t>
            </a:r>
            <a:r>
              <a:rPr b="1" i="1" lang="es-CL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es-CL" sz="2400" spc="-1" strike="noStrike" baseline="-25000">
                <a:solidFill>
                  <a:srgbClr val="000000"/>
                </a:solidFill>
                <a:latin typeface="Times New Roman"/>
              </a:rPr>
              <a:t>amb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aparece localmente un campo inducido </a:t>
            </a:r>
            <a:r>
              <a:rPr b="1" i="1" lang="es-CL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es-CL" sz="2400" spc="-1" strike="noStrike" baseline="-25000">
                <a:solidFill>
                  <a:srgbClr val="000000"/>
                </a:solidFill>
                <a:latin typeface="Times New Roman"/>
              </a:rPr>
              <a:t>ind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n general, aunque el campo magnético </a:t>
            </a:r>
            <a:r>
              <a:rPr b="1" i="1" lang="es-CL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es un vector (magnitud y dirección), los estudios de la suceptibilidad magnética bajo la superficie de la Tierra se realiza midiendo solamente la magnitud total del camp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e busca determinar la Anomalía Magnétic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2895480" y="1523880"/>
                <a:ext cx="2438640" cy="67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d</m:t>
                        </m:r>
                      </m:sub>
                    </m:sSub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F</m:t>
                        </m:r>
                      </m:e>
                    </m:acc>
                    <m:r>
                      <m:t xml:space="preserve">−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mb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3809880" y="4952880"/>
                <a:ext cx="2743200" cy="87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F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mb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9640" y="836640"/>
            <a:ext cx="7777440" cy="41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oblemas en magnetismo suelen ser más complicados que los de gravedad o electrostátic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azón: en gravedad y electrostática los campos actúan centralmente en torno a la fuente de una fuerza, la cual varía en cada caso con el inverso de la distancia al cuadrad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os Campos Magnéticos 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 son centrale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, ellos varían según el azimut. Más aún, incluso en el caso más simple (un dipolo o un loop con una pequeña corriente circulando) la intensidad del campo decae inversamente con el cubo de la distanc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95280" y="260280"/>
            <a:ext cx="8064360" cy="65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n la naturaleza existen 2 Fzas a distancia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Grave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lectromagné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(las otras 2 existen dentro del núcleo atómic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N TODO PUNTO DEL ESPACIO, PARA UN SISTEMA DE REFERENCIA DADO, EXISTE EN CADA INSTANTE 2 VECTOR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oduce sobre toda carga 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n un pto dado una fza 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q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oduce sobre todo elemento de circuito recorrido por una corriente eléctrica de intensidad I una fza (de Laplace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3132000" y="3933720"/>
                <a:ext cx="1513080" cy="57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E</m:t>
                        </m:r>
                      </m:e>
                    </m:acc>
                    <m:r>
                      <m:t xml:space="preserve"> </m:t>
                    </m:r>
                    <m:r>
                      <m:t xml:space="preserve">y</m:t>
                    </m:r>
                    <m:r>
                      <m:t xml:space="preserve"> 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B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611280" y="4724280"/>
                <a:ext cx="46044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611280" y="5229360"/>
                <a:ext cx="48564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B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" name=""/>
              <p:cNvSpPr txBox="1"/>
              <p:nvPr/>
            </p:nvSpPr>
            <p:spPr>
              <a:xfrm>
                <a:off x="4067280" y="6210360"/>
                <a:ext cx="1296720" cy="58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 </m:t>
                    </m:r>
                    <m:r>
                      <m:t xml:space="preserve">d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s</m:t>
                        </m:r>
                      </m:e>
                    </m:acc>
                    <m:r>
                      <m:t xml:space="preserve">×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B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258920" y="549360"/>
            <a:ext cx="66978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ISTEMA MKSA (S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mpè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H="1" flipV="1">
            <a:off x="3563640" y="980640"/>
            <a:ext cx="86364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55640" y="3357720"/>
            <a:ext cx="76327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a unidad de carga eléctrica es el Coulomb (C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a unidad de Campo Eléctrico es el Volt/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a unidad de Campo Magnético es el Tes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(Antiguamente se usaba Gauss en CGS; 1G = 0.0001 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5003640" y="3429000"/>
            <a:ext cx="1584360" cy="1584360"/>
          </a:xfrm>
          <a:prstGeom prst="ellipse">
            <a:avLst/>
          </a:prstGeom>
          <a:noFill/>
          <a:ln w="936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04000" y="2924280"/>
            <a:ext cx="2087640" cy="2663640"/>
          </a:xfrm>
          <a:prstGeom prst="ellipse">
            <a:avLst/>
          </a:prstGeom>
          <a:noFill/>
          <a:ln w="936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948360" y="3357720"/>
            <a:ext cx="1584360" cy="1584000"/>
          </a:xfrm>
          <a:prstGeom prst="ellipse">
            <a:avLst/>
          </a:prstGeom>
          <a:noFill/>
          <a:ln w="936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716360" y="2924280"/>
            <a:ext cx="2087640" cy="2663640"/>
          </a:xfrm>
          <a:prstGeom prst="ellipse">
            <a:avLst/>
          </a:prstGeom>
          <a:noFill/>
          <a:ln w="936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50920" y="404640"/>
            <a:ext cx="871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Campo magnético terrestre: Conceptos bás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826920" y="1628640"/>
            <a:ext cx="684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El campo magnético terrestre varía considerablemente en INTENSIDAD y DIRECC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042920" y="3357720"/>
            <a:ext cx="1513080" cy="15127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940360" y="3357720"/>
            <a:ext cx="1513080" cy="15127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763640" y="2781360"/>
            <a:ext cx="0" cy="431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2410920" y="3141720"/>
            <a:ext cx="289080" cy="287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971640" y="2997360"/>
            <a:ext cx="215640" cy="358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95280" y="4005360"/>
            <a:ext cx="431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2700000" y="4076640"/>
            <a:ext cx="360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 flipV="1">
            <a:off x="2555640" y="4653000"/>
            <a:ext cx="360360" cy="21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755640" y="4653000"/>
            <a:ext cx="287280" cy="288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1835280" y="5013000"/>
            <a:ext cx="0" cy="431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732720" y="2997360"/>
            <a:ext cx="0" cy="647640"/>
          </a:xfrm>
          <a:prstGeom prst="line">
            <a:avLst/>
          </a:prstGeom>
          <a:ln w="12600">
            <a:solidFill>
              <a:srgbClr val="00008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732720" y="4581360"/>
            <a:ext cx="0" cy="648000"/>
          </a:xfrm>
          <a:prstGeom prst="line">
            <a:avLst/>
          </a:prstGeom>
          <a:ln w="12600">
            <a:solidFill>
              <a:srgbClr val="00008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7019640" y="3284640"/>
            <a:ext cx="73080" cy="360360"/>
          </a:xfrm>
          <a:prstGeom prst="line">
            <a:avLst/>
          </a:prstGeom>
          <a:ln w="12600">
            <a:solidFill>
              <a:srgbClr val="00008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43640" y="3284640"/>
            <a:ext cx="73080" cy="360360"/>
          </a:xfrm>
          <a:prstGeom prst="line">
            <a:avLst/>
          </a:prstGeom>
          <a:ln w="12600">
            <a:solidFill>
              <a:srgbClr val="00008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27640" y="3429000"/>
            <a:ext cx="144720" cy="216000"/>
          </a:xfrm>
          <a:prstGeom prst="line">
            <a:avLst/>
          </a:prstGeom>
          <a:ln w="12600">
            <a:solidFill>
              <a:srgbClr val="00008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7164000" y="3429000"/>
            <a:ext cx="144360" cy="287280"/>
          </a:xfrm>
          <a:prstGeom prst="line">
            <a:avLst/>
          </a:prstGeom>
          <a:ln w="12600">
            <a:solidFill>
              <a:srgbClr val="00008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6516720" y="4653000"/>
            <a:ext cx="71280" cy="360360"/>
          </a:xfrm>
          <a:prstGeom prst="line">
            <a:avLst/>
          </a:prstGeom>
          <a:ln w="12600">
            <a:solidFill>
              <a:srgbClr val="00008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877080" y="4653000"/>
            <a:ext cx="71280" cy="360360"/>
          </a:xfrm>
          <a:prstGeom prst="line">
            <a:avLst/>
          </a:prstGeom>
          <a:ln w="12600">
            <a:solidFill>
              <a:srgbClr val="00008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6300360" y="4581360"/>
            <a:ext cx="71640" cy="287640"/>
          </a:xfrm>
          <a:prstGeom prst="line">
            <a:avLst/>
          </a:prstGeom>
          <a:ln w="12600">
            <a:solidFill>
              <a:srgbClr val="00008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093080" y="4581360"/>
            <a:ext cx="71280" cy="287640"/>
          </a:xfrm>
          <a:prstGeom prst="line">
            <a:avLst/>
          </a:prstGeom>
          <a:ln w="12600">
            <a:solidFill>
              <a:srgbClr val="00008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5508720" y="3933360"/>
            <a:ext cx="0" cy="358920"/>
          </a:xfrm>
          <a:prstGeom prst="line">
            <a:avLst/>
          </a:prstGeom>
          <a:ln w="12600">
            <a:solidFill>
              <a:srgbClr val="00008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7740720" y="4005360"/>
            <a:ext cx="0" cy="358560"/>
          </a:xfrm>
          <a:prstGeom prst="line">
            <a:avLst/>
          </a:prstGeom>
          <a:ln w="12600">
            <a:solidFill>
              <a:srgbClr val="00008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740720" y="3933720"/>
            <a:ext cx="14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30.000 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156360" y="5589720"/>
            <a:ext cx="14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60.000 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59280" y="3860640"/>
            <a:ext cx="201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g = 978.000 MG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16000" y="5516640"/>
            <a:ext cx="201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g = 983.000 MG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79280" y="333360"/>
            <a:ext cx="8785440" cy="63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Variación del Campo de Gravedad Terrestr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~ 0.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ción Campo Magnético Terrestr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~ do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mpo Gravedad + o – FIJO (espacial/tempor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mpo Magnético ~ VARIACIONES SECULA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8% del Campo Magnético es de orígen interno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ausado por movimientos de metal líquido en el núcle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~ 2% Campo Magnético externo es de orígen Sol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isten tormentas magnét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de 1580 se mide el Campo Magnético Terrest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 observa una deriva hacia el Oeste a tasas de ~ 0.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añ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 Intensidad ha decrecido ~ 8% en 150 añ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250920" y="476280"/>
            <a:ext cx="864216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uerpo Imant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n campo magnético puede producirse p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rrientes Eléctr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5724360" y="1052280"/>
            <a:ext cx="79236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724360" y="1916280"/>
            <a:ext cx="86364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0" y="3662280"/>
            <a:ext cx="914400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n todo lugar se produce un efecto de EXITACION MAGNETICA 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n los medios imantados se puede definir un vector imantación 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J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l campo magnético queda definido p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5651640" y="4941720"/>
                <a:ext cx="2233440" cy="172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  <m:r>
                          <m:t xml:space="preserve">=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(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H</m:t>
                            </m:r>
                          </m:e>
                        </m:acc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J</m:t>
                            </m:r>
                          </m:e>
                        </m:acc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n</m:t>
                        </m:r>
                      </m:e>
                      <m:e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t xml:space="preserve">π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7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380880" y="304920"/>
            <a:ext cx="8458200" cy="65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Magnetizació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a magnitud y dirección de la magnetización inducida dentro de un material depende de la magnitud y dirección del campo externo (ambiente) y de la capacidad del material para ser magnetiza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o tiene dimensiones. Mide el grado en el cual un material puede ser magnetizado. En general la suceptibilidad magnética de una roca es aproximativamente equivalente a la suceptibilidad del mineral magnético (o de minerales magnéticos) presente en la roca veces el % de este mineral (o minerales) y dividido por 10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762120" y="2514600"/>
                <a:ext cx="7086600" cy="179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J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χ</m:t>
                        </m:r>
                        <m:r>
                          <m:t xml:space="preserve"> </m:t>
                        </m:r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mb</m:t>
                                </m:r>
                              </m:sub>
                            </m:sSub>
                          </m:e>
                        </m:acc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con</m:t>
                        </m:r>
                        <m:r>
                          <m:t xml:space="preserve"> 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J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gnetización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inducida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χ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suceptibilidad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magnética</m:t>
                        </m:r>
                      </m:e>
                      <m:e>
                        <m:r>
                          <m:t xml:space="preserve"> </m:t>
                        </m:r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mb</m:t>
                                </m:r>
                              </m:sub>
                            </m:sSub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ampo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externo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8600" y="304920"/>
            <a:ext cx="8686800" cy="64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a siguiente tabla ilustra cómo la cantidad de Fe en un mineral, particularmente en su forma de magnetita (Fe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), influencia fuertemente en el valor de la suceptibilidad magnética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Rocas ultrabásicas (peridotita, basalto, gabro) ricas en magnetita, presentan suceptibilidad magnética elevada comparada con el granito y diori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1523880" y="2743200"/>
          <a:ext cx="6096240" cy="3616200"/>
        </p:xfrm>
        <a:graphic>
          <a:graphicData uri="http://schemas.openxmlformats.org/drawingml/2006/table">
            <a:tbl>
              <a:tblPr/>
              <a:tblGrid>
                <a:gridCol w="3048120"/>
                <a:gridCol w="304812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teri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ceptibilidad Magnétic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gneti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00 x 10</a:t>
                      </a:r>
                      <a:r>
                        <a:rPr b="0" lang="es-CL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ridoti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0 x 10</a:t>
                      </a:r>
                      <a:r>
                        <a:rPr b="0" lang="es-CL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2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salto/Gabr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 x 10</a:t>
                      </a:r>
                      <a:r>
                        <a:rPr b="0" lang="es-CL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ori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 x 10</a:t>
                      </a:r>
                      <a:r>
                        <a:rPr b="0" lang="es-CL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ani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x 10</a:t>
                      </a:r>
                      <a:r>
                        <a:rPr b="0" lang="es-CL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8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x 10</a:t>
                      </a:r>
                      <a:r>
                        <a:rPr b="0" lang="es-CL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02T14:10:32Z</dcterms:created>
  <dc:creator>JC</dc:creator>
  <dc:description/>
  <dc:language>en-US</dc:language>
  <cp:lastModifiedBy>jaime</cp:lastModifiedBy>
  <dcterms:modified xsi:type="dcterms:W3CDTF">2004-06-11T15:20:57Z</dcterms:modified>
  <cp:revision>8</cp:revision>
  <dc:subject/>
  <dc:title>Notas Curso  Geofísica General GF 31A</dc:title>
</cp:coreProperties>
</file>