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151-DA27-4553-BB2D-FEBA6CAF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E61-6F9B-42B3-A4FC-57C0EDAF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A35-B1BF-4166-A4B7-DFAB15CA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406-B63E-4857-8E25-EB1AA0EB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5735-6106-4FA2-B17C-746CA838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AB52-B3E4-4280-A5BE-B02A008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60F2-A214-40D7-9ACE-EA1D958E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A9E-EE1C-448C-ABE0-3B6ED9DC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6383-78C2-40A3-A3C6-F18103C0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139A-7C88-407F-A560-673F3CFF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BC31-B923-4155-80B2-AB65E37D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AFD-70AF-44A0-9276-12DFF5D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4D8F-7D4E-49EE-BCC2-E98FD32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E462-9B7B-4ACC-ADD7-DAEEAF09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30E4-68EB-43D5-8858-C169112C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28B6-036C-4413-AF8C-A2F32344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1CA9-66AD-4FEF-93FF-7C8D1DA8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411-0218-46A2-8AAB-BAF9AA72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60C-F00D-4F5F-B871-1B617E0E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931-0C6E-41F4-98D8-A18E80DD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65F-180C-4B71-9EB2-602E2D74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FBE-6ACA-4953-91A3-F3C16EE2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482-55C6-4C73-8CBC-AD9AD9D6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C59-EF67-450E-A148-ABED179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876D-3283-4DE8-9AE3-1BEDAF321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6FB4-EC93-4702-8887-1DC88D88C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La fibra como medio físico: Estado actual y avance en WD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forme de a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WD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WDM de dos ca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71600" y="2556000"/>
            <a:ext cx="72388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42640" y="761760"/>
            <a:ext cx="5638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de la tecnología DWD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2174760"/>
            <a:ext cx="6248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olución de DWDM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554280" cy="2209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4790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Proyecc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1981080"/>
            <a:ext cx="7467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ecesidad de un mayor ancho de ba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problema de la última mi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vances tecnológ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Fibra óp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o trabajan las 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Fibras multimodo y fibras monomo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retos de la transm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ten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isper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plificadores óp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mo trabajan las fibras opt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uctura de la fib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652840" y="-316080"/>
            <a:ext cx="3840120" cy="7491600"/>
            <a:chOff x="2652840" y="-316080"/>
            <a:chExt cx="3840120" cy="7491600"/>
          </a:xfrm>
        </p:grpSpPr>
        <p:sp>
          <p:nvSpPr>
            <p:cNvPr id="153" name=""/>
            <p:cNvSpPr/>
            <p:nvPr/>
          </p:nvSpPr>
          <p:spPr>
            <a:xfrm>
              <a:off x="2652840" y="-316080"/>
              <a:ext cx="3840120" cy="74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652840" y="-316080"/>
              <a:ext cx="3786120" cy="1143000"/>
              <a:chOff x="2652840" y="-316080"/>
              <a:chExt cx="3786120" cy="114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2652840" y="-316080"/>
                <a:ext cx="37861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52840" y="-316080"/>
                <a:ext cx="37861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6200" spc="-1" strike="noStrike">
                    <a:solidFill>
                      <a:srgbClr val="ffffff"/>
                    </a:solidFill>
                    <a:latin typeface="Arial"/>
                  </a:rPr>
                  <a:t> </a:t>
                </a: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7" name="fibra04" descr="image"/>
          <p:cNvPicPr/>
          <p:nvPr/>
        </p:nvPicPr>
        <p:blipFill>
          <a:blip r:embed="rId1"/>
          <a:stretch/>
        </p:blipFill>
        <p:spPr>
          <a:xfrm>
            <a:off x="5132520" y="2098800"/>
            <a:ext cx="3809880" cy="127476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2652840" y="-316080"/>
            <a:ext cx="3840120" cy="7491600"/>
            <a:chOff x="2652840" y="-316080"/>
            <a:chExt cx="3840120" cy="7491600"/>
          </a:xfrm>
        </p:grpSpPr>
        <p:sp>
          <p:nvSpPr>
            <p:cNvPr id="159" name=""/>
            <p:cNvSpPr/>
            <p:nvPr/>
          </p:nvSpPr>
          <p:spPr>
            <a:xfrm>
              <a:off x="2652840" y="-316080"/>
              <a:ext cx="3840120" cy="74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652840" y="-316080"/>
              <a:ext cx="3786120" cy="1357560"/>
              <a:chOff x="2652840" y="-316080"/>
              <a:chExt cx="3786120" cy="13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2652840" y="-316080"/>
                <a:ext cx="37861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52840" y="-316080"/>
                <a:ext cx="3786120" cy="13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7600" spc="-1" strike="noStrike">
                    <a:solidFill>
                      <a:srgbClr val="ffffff"/>
                    </a:solidFill>
                    <a:latin typeface="Arial"/>
                  </a:rPr>
                  <a:t> </a:t>
                </a: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3505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Fibras Multimodo y Monomod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onom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ultim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362400" cy="1905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52880" y="3962520"/>
            <a:ext cx="3657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Atenu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yleigh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-bending (curvaturas extern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-b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132520" y="2575080"/>
          <a:ext cx="380988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2575080"/>
                    <a:ext cx="380988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ispers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spersión mo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spersión cro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spersión de guía o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ispersión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32520" y="25560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Amplificadores óptic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mplificadores de fibra dopado con erb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32520" y="1946160"/>
            <a:ext cx="3809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Opciones para aumentar el ancho de b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umento de la velo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umento del número de longitudes de o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DM (Time Division Multiplex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WDM (Wavelength Division Multiplex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WDM (Dense WD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TDM y WDM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D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WD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800600" y="2098800"/>
            <a:ext cx="414180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41054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4:12:10Z</dcterms:created>
  <dc:creator>cmonges</dc:creator>
  <dc:description/>
  <dc:language>en-US</dc:language>
  <cp:lastModifiedBy>cristian</cp:lastModifiedBy>
  <dcterms:modified xsi:type="dcterms:W3CDTF">2004-04-28T03:27:46Z</dcterms:modified>
  <cp:revision>30</cp:revision>
  <dc:subject/>
  <dc:title>Presentación de PowerPoint</dc:title>
</cp:coreProperties>
</file>