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3B13-DF66-4C3E-8253-F9A02B7C6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593B-8882-4806-96FD-4714DC5AE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4522-359D-4578-A34E-B424D614A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0A80-1370-46EE-85D2-9947F104F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D4C-25C0-4379-8071-E1CD94F3AE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FF5-B43B-4A99-B4EC-11A772FA04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968-E805-4254-9E36-BD18DCB5CE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CD5-E652-4C42-9993-32782AF6E9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BA4-9567-4594-B659-84F27AFC0F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E26-113B-4793-AC69-CF4E01C1F4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B9F-411E-4FD6-99C8-EEC7965DDD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A23B-A40E-4837-B178-9C73EAB66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33B-8BB4-4C46-8769-92EA029DD6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30D-441D-41F6-ADD1-BB540AAA7C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4EA-36AF-44F3-B7B4-8179E258AF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67F-3626-4F6E-9291-59DF22A507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B16-7121-4DE6-9A9F-77D78B782F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05D7-9081-42E1-B48F-A3CA3D12C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C595-68C9-4E80-9E2F-2C33B90C3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B06E-E9EC-4BB4-B2E9-25E7F0E8A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DC44-4E4D-48B6-87D9-EFEA1E21E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910C-0A64-45E8-B5E4-528CC5EA8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356A-12AF-4199-8B5B-D6588889B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684D-0522-4976-A425-9B6F7D8DA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61E-E971-4A92-94CE-54B407925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EA5E-76B5-42B0-A340-57599FA3D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553080" y="1752480"/>
            <a:ext cx="2438640" cy="2895840"/>
            <a:chOff x="6553080" y="1752480"/>
            <a:chExt cx="2438640" cy="28958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553080" y="1752480"/>
              <a:ext cx="24386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81920" y="322380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36800" y="3565440"/>
                <a:ext cx="5290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52480" y="2971800"/>
                <a:ext cx="3373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562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deal como buffer de Voltaje: ¡¡¡La fuente puede alimentar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na carga con impedancia comparable a la propi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584600"/>
            <a:ext cx="4114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(B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E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tá en paralelo con la resistencia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pero esta última es, en un buen diseño, mucho mayor que la prim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1905120"/>
                <a:ext cx="38862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720" y="4529160"/>
                <a:ext cx="4170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 a tierra (elimino A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0.7 V;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l seguidor de emisor npn sólo puede ser “fuente” (no sumidero)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6172200" cy="34876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85440" y="4898880"/>
            <a:ext cx="4513680" cy="1229760"/>
            <a:chOff x="685440" y="4898880"/>
            <a:chExt cx="4513680" cy="1229760"/>
          </a:xfrm>
        </p:grpSpPr>
        <p:sp>
          <p:nvSpPr>
            <p:cNvPr id="148" name=""/>
            <p:cNvSpPr/>
            <p:nvPr/>
          </p:nvSpPr>
          <p:spPr>
            <a:xfrm>
              <a:off x="3048120" y="5791320"/>
              <a:ext cx="2151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Polar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85440" y="4898880"/>
              <a:ext cx="3429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20" y="2819520"/>
            <a:ext cx="6705360" cy="3639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 flipV="1">
            <a:off x="838080" y="4495320"/>
            <a:ext cx="5943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334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ciones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 m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5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2.7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centaje de la Potencia de Polarización que es entregada a la 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9%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consume potencia aún cuando no hay señal de entrada (Amplificador “Clase 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200" y="507204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lpable: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 npn sólo puede “suplir” corriente es necesario “subir” la señal de entrada (Aplicar voltaje negativo e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que en sus excursiones no corten al transi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5850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545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4935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320" y="2421000"/>
            <a:ext cx="7619760" cy="4284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858000" y="2743200"/>
            <a:ext cx="2209680" cy="2209680"/>
            <a:chOff x="6858000" y="2743200"/>
            <a:chExt cx="2209680" cy="220968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886440" y="27432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91520" y="38494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34520" y="28191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9600" y="45716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28652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67480" y="5240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675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680" y="4284720"/>
            <a:ext cx="533520" cy="82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952880"/>
            <a:ext cx="213372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218960" y="3123720"/>
            <a:ext cx="3276360" cy="167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">
            <a:off x="1828080" y="358092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">
            <a:off x="4876200" y="511920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4008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34290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001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áxima excursión señal de entrada sin disto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olarización en el Centro” (Importante Polarización estable (Temperatura, reemplazo, vejez,... )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n la zona activa la amplificación es (para variaciones pequeñas de la señal) lineal (la separación entre las curvas parámetro se mantiene constante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">
            <a:off x="2133000" y="487656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066680" y="3580920"/>
            <a:ext cx="5029200" cy="2590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Consumo de Potencia sin señal de entrada (Pensar en una aplicación para satélites o remota ..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evitarlo habría que “correr” la polarización a un extremo (en el caso np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0) pero eso implicaría que sólo estarían permitidas excursiones positivas (las otras provocarían corte). Solución: 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15240" y="5915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15240" y="56595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15240" y="5149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7049880" cy="3581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15240" y="54054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94280" y="4208400"/>
            <a:ext cx="1198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165200" y="4718160"/>
            <a:ext cx="35244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35400" y="5213520"/>
            <a:ext cx="2044800" cy="955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991800" y="3747600"/>
            <a:ext cx="3173400" cy="1465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">
            <a:off x="1556640" y="413064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">
            <a:off x="4376160" y="5416200"/>
            <a:ext cx="239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0680" y="6377040"/>
            <a:ext cx="493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3890880"/>
            <a:ext cx="4935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">
            <a:off x="1978920" y="510048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991800" y="4017600"/>
            <a:ext cx="4653000" cy="216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629400" y="2971800"/>
            <a:ext cx="2209680" cy="2209680"/>
            <a:chOff x="6629400" y="2971800"/>
            <a:chExt cx="2209680" cy="220968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6657840" y="29718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62920" y="40780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05920" y="30477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1000" y="48002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29400" y="30938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cia: Si se sale de la región activa hay gran distorsión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4767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2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52722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472428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5257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rriente de base aumenta considerablemente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320" y="307800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5791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304812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86000" y="35812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5791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utilizado como etap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np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fuent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posi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n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reservori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nega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48320" y="2917800"/>
            <a:ext cx="2187360" cy="249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967440" y="2917800"/>
            <a:ext cx="2024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 Seguidor de Emis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spreciable sin señal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positivos conduce Q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negativos conduce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ción ocurre después del encendido de las junturas base-emisor (~ 0.6V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5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8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2484360"/>
            <a:ext cx="7010280" cy="3963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23888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cc=1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3792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04812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9920" y="206532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7543800" cy="4095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Cross-O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R1 entrega corriente de activación a los diodos y juntura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s ayudan al encendido de las junturas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estable ante cambios de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s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703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 Q1 y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or de los cas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odos D1, D2 y D3 no sufren cambi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“toman” el aum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R2=R3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30ºC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0 m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 es un compromis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grande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mayor estabilidad pero también mayor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444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ush-Pull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Opti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misor Común (Q3) con fuente de corriente como “Carga Ac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Q5 present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u colector una alt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jora Ganancia del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necesario tener resistencia R1 baja (ejemplo anterior) minimizando el consumo y maximizando l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018040" y="457200"/>
            <a:ext cx="4125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Emisor Comú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Base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alta (idéntica a la del seguidor de emisor, amplif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32480" y="1752480"/>
            <a:ext cx="3611520" cy="339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4114800"/>
                <a:ext cx="1981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0880" y="5638680"/>
                <a:ext cx="3079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76560" y="5638680"/>
                <a:ext cx="1538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5791320" y="56991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990880" y="4114800"/>
                <a:ext cx="2190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048040" y="4800600"/>
                <a:ext cx="1761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790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Emisor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“Seguidor”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Baja (divid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255680" y="4105440"/>
                <a:ext cx="1639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84120" y="5629320"/>
                <a:ext cx="4568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257800" y="5653080"/>
                <a:ext cx="2209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5791320" y="5181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24080" y="3962520"/>
                <a:ext cx="154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85800" y="4648320"/>
                <a:ext cx="326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5562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“mirando”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grande pues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imación d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(C )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 considerar 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: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parece casi íntegramente com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doptan los cambios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47920" y="4422600"/>
                <a:ext cx="2985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33520" y="5410080"/>
                <a:ext cx="3181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886200" y="5261040"/>
                <a:ext cx="15415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019920" y="5257800"/>
                <a:ext cx="2203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Adi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arlingt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yor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ción de los encendidos y 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zikla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ocido como Darlington Complementario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346480" cy="2400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2416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ón Darlingt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arlington 2N6059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05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7238880" cy="3981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238880" y="2558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0.25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3124080"/>
            <a:ext cx="1600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aturación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comportamiento de un Transistor Bipolar como amplificad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nálisis de pequeña señ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nfiguraciones estánd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 amplifica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para pequeñas variaciones en torno a 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mayores son amplificadas con distors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-Común (seguidor de emiso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de voltaje unitaria; amplific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 impedancia de salida baj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etapa de salida, “Buffer de Voltaje”. Mejora: Push-Pu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 y corriente. Cambio de fase en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se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; ganancia en corriente unitar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baj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“Buffer de Corriente”. Aplicación más famosa: Cascod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figuraciones Especiales: Darlington, Szikla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1960" y="2057400"/>
            <a:ext cx="5342040" cy="344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istencias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finen 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densadores de bloqueo: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islan polarización del transistor de las etapas de entrada y sali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en filtro pasaaltos para señal pequeñ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continu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e la señ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Condensadores de bloqueo (circuito de señal pequeña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mplificación (Divisores de tens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tar que a frecuencias de operación (no bloquedas) la resistencia de carga es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de Thèveni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uen diseñ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&lt;(1+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en Zona Activ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amplitudes máximas para permanecer en Zona Ac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álido para Entrada/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54320" y="1676520"/>
            <a:ext cx="2171880" cy="352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83400" y="1676520"/>
            <a:ext cx="2460600" cy="326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5334120"/>
                <a:ext cx="1905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781680" y="5410080"/>
                <a:ext cx="1140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099120" y="3124080"/>
                <a:ext cx="660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11400" y="3962520"/>
            <a:ext cx="5432400" cy="2590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os condensadores en variaciones de la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 útil notar que variación en torno a punto de oper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liminar fuentes continu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ircuito de señal pequeña: fácil “visión” de constantes de tiemp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es de bloqueo implican filtros pasaal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Buen diseño: Frecuencias de operación &gt;&gt; frecuencia de cort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es son “corto-circuito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olvidar que el colector de un transistor en activa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cedimiento” de Análisi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cáracter de “buen diseño”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zona activa y 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frecuencias de 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ar “buen diseño” (Trade-Off con buen diseño del punto de oper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ulta práctico pensar en “eliminar fuentes continua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s e 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: Análisis de “transmisión de variacion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: Diviso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562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:“Sigue a la fuente de ent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f &gt;&gt;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no hay atenu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so contrario el transistor está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hay corriente en el emis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er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te la polarización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Definen la zona de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1752480"/>
            <a:ext cx="3162240" cy="3299040"/>
            <a:chOff x="5791320" y="1752480"/>
            <a:chExt cx="3162240" cy="32990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1752480"/>
              <a:ext cx="316224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77120" y="34290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16160" y="3949560"/>
                <a:ext cx="1365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23880" y="4398840"/>
                <a:ext cx="2971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66960" y="4917960"/>
                <a:ext cx="151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71600" y="4937040"/>
                <a:ext cx="1676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920" y="5410080"/>
            <a:ext cx="6248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de señ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efine punto de ope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ciones de señal pequeña en torno a la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5029200"/>
            <a:ext cx="266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bs: Se ha omitido por simplicidad la polarización de la base. Siempre debe haber un retorno a tierra para contin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Voltaje y Corriente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19920" y="1752480"/>
            <a:ext cx="2933640" cy="3048120"/>
            <a:chOff x="6019920" y="1752480"/>
            <a:chExt cx="2933640" cy="30481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019920" y="1752480"/>
              <a:ext cx="293364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56040" y="3301200"/>
              <a:ext cx="56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5560" y="3720960"/>
                <a:ext cx="3081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56120" y="3589200"/>
                <a:ext cx="16588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5800" y="4211640"/>
                <a:ext cx="38862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35200" y="5170320"/>
                <a:ext cx="39351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2514600"/>
                <a:ext cx="1441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38080" y="3048120"/>
                <a:ext cx="4103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823000" y="5181480"/>
                <a:ext cx="2025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276720" y="6095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1:13:09Z</dcterms:modified>
  <cp:revision>1078</cp:revision>
  <dc:subject>Transistores de Juntura Bipolar (BJT). Amplificación</dc:subject>
  <dc:title>Clase 8</dc:title>
</cp:coreProperties>
</file>