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7.png" ContentType="image/png"/>
  <Override PartName="/ppt/media/image22.jpeg" ContentType="image/jpeg"/>
  <Override PartName="/ppt/media/image17.jpeg" ContentType="image/jpeg"/>
  <Override PartName="/ppt/media/image3.png" ContentType="image/png"/>
  <Override PartName="/ppt/media/image4.wmf" ContentType="image/x-wmf"/>
  <Override PartName="/ppt/media/image6.wmf" ContentType="image/x-wmf"/>
  <Override PartName="/ppt/media/image19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D0E98-D332-4769-83C9-3F09E218B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7735-EEDE-45A6-86F1-B8AB7A4C8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D175-9E46-467E-B299-BC1EDA886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6257-4A8F-4652-B8DF-A219F7BDF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403-D177-49EC-B1DA-1A94DC4EA4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374-0CE1-463D-ACA5-93B31D6146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174-8B16-4E04-B170-ADCE06E48F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D4C-6A5D-4505-9718-BD2AF6FCB0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454-A89C-4D99-977B-4B3452390D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2AD-2535-4122-BAA7-7454904691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1F9-28CA-4FB4-91EE-C4205B7EDA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6946-3FD6-461F-A13A-D4565F06C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45F-E17C-439E-8BA1-E78F5624E0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AA2-730F-44A7-BAE3-6EC066A248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2BD-6802-4202-BF12-81D45C4A8A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CFE-8632-4BD8-88EB-CC341B2E4A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99E-6950-47AD-9D4A-6417061C8B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FC56-09F5-4CAE-9F16-A38FC9939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A0EE-B623-41E0-A5AA-3D1F74C6A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D431-10EE-43B2-AFF5-AC9C01CE5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786F-4C69-4243-BFFB-DD64AB9D5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283E-5C1D-45EB-986F-21B972BB4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979A2-3E74-47F9-883E-E9FFAE208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D87C-B3D0-4F02-85AE-135D910EB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7AF3-3397-40FA-9B9D-D34196056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0A3C-A5A3-4DCC-98F1-790695E1C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2300400"/>
            <a:ext cx="7696080" cy="4344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uestra el comportamiento de la corriente en el circu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895480"/>
            <a:ext cx="22096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rtadores inyectados por difusión (en exceso) deben “volver”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86200" y="3352680"/>
                <a:ext cx="7318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202920" y="5759280"/>
            <a:ext cx="2427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57913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67520" y="4419720"/>
            <a:ext cx="2900160" cy="113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ortamiento RC: predomin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n serie con R=1k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3ns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3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441972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26120" y="1928880"/>
            <a:ext cx="294156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untura p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irecta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irecta en régimen permanente t&lt;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 se conmuta la fuente de potencial quedando ahora el diodo en re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eso de carga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alcanzar en forma inmediata la situación de “corte” (Corriente de Saturación Invers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almacenamiento”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 la transi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transitorio-diodo" descr=""/>
          <p:cNvPicPr/>
          <p:nvPr/>
        </p:nvPicPr>
        <p:blipFill>
          <a:blip r:embed="rId1"/>
          <a:stretch/>
        </p:blipFill>
        <p:spPr>
          <a:xfrm>
            <a:off x="4730760" y="1752480"/>
            <a:ext cx="44132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untura p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 análisis de huecos en región 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rgo del diodo” 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ancia dónde se alcanza nivel de equilibri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nul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cripción de un diodo por Control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que describe la corriente en un diodo en función de la carga almacen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876920" y="2160720"/>
                <a:ext cx="37335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019400" y="2895480"/>
                <a:ext cx="4940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165640" y="3733920"/>
                <a:ext cx="2644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qA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43560" y="4457880"/>
                <a:ext cx="38890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21480" y="5334120"/>
                <a:ext cx="17874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i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&lt;0 : 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condición inicial para t &gt;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&gt; 0 : régimen transitor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almacenada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ermite alcanzar el corte inmediat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tiempo de almacenamient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obtiene d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=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691240" y="2209680"/>
                <a:ext cx="20019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16520" y="3048120"/>
                <a:ext cx="19638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86280" y="3657600"/>
                <a:ext cx="38084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410080" y="4724280"/>
                <a:ext cx="27608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81640" y="5302080"/>
                <a:ext cx="281952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Características Gener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oltaje umbral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 rompen enlaces covalente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ltiplicación por avalancha: mediante choques con la estructura cristali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uptura Zener: mediante el campo eléctrico exist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950080" y="4375080"/>
                <a:ext cx="2273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950080" y="5213520"/>
                <a:ext cx="24019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95480" y="5791320"/>
                <a:ext cx="33354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87360" y="4054320"/>
            <a:ext cx="6705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oltaje implica campo eléctrico en la jun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7360" y="45277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juntura pn abrupta (tarea 1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7360" y="4892760"/>
            <a:ext cx="5943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rup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257800"/>
            <a:ext cx="5943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juntura abrupta p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Características General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527364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Gráfica Obtenida con función “DC Sweep”, para fuente de corriente en el rango [-30, 30] 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2096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10080" y="1768320"/>
            <a:ext cx="3733920" cy="2241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162920" y="4076640"/>
            <a:ext cx="167616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abric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reakdown 1N7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.7 V y 20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320" y="3762360"/>
            <a:ext cx="6919920" cy="2943360"/>
            <a:chOff x="76320" y="3762360"/>
            <a:chExt cx="6919920" cy="294336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6320" y="3762360"/>
              <a:ext cx="691992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5486400"/>
              <a:ext cx="19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Zona Activa Di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3400" y="4343400"/>
              <a:ext cx="19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Zona Ruptura Di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105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ferencia de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 se mantiene para un amplio rango de corrient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ricción dada por la disipación de potencia o máxim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mpcos positivos y negativos (coeficiente de temperatura, como cambia la referencia cuando cambia la temperatur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s de referencia típicos entre 3 y 100 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886200"/>
            <a:ext cx="114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5715000"/>
            <a:ext cx="137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abrupt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 ruptur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ruptur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3x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8x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]~ Cte.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 la ruptura viene dado por el dopado del lado menos dopado 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dopados lineales se obtienen resultados simila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9880" y="1752480"/>
                <a:ext cx="3375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238880" y="1752480"/>
                <a:ext cx="1573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ε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2" name="Campo_Ruptura_Diodos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4190760" cy="2803320"/>
          </a:xfrm>
          <a:prstGeom prst="rect">
            <a:avLst/>
          </a:prstGeom>
          <a:ln w="0">
            <a:noFill/>
          </a:ln>
        </p:spPr>
      </p:pic>
      <p:pic>
        <p:nvPicPr>
          <p:cNvPr id="203" name="Voltaje_Ruptura_Diodos" descr=""/>
          <p:cNvPicPr/>
          <p:nvPr/>
        </p:nvPicPr>
        <p:blipFill>
          <a:blip r:embed="rId2"/>
          <a:stretch/>
        </p:blipFill>
        <p:spPr>
          <a:xfrm>
            <a:off x="4743360" y="3470400"/>
            <a:ext cx="38671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s Generales de Disposi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ariaciones con Temperat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penden de punto de operación (polariz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mentos pasiv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ecisión en sus valores” (Resistencias con 1%,5%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es discreto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ma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ímites de potencia, voltaje y corrientes máxim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Elementos no Line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hevèn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rt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urv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estát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 (Curva) de transfer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visor de tens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ircuitos R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: Constantes de tiemp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iltro: Tipo de filtro y frecuencias de 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de señal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álido en torno a 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calculan los valores de los parámetr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corpor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seri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ontact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dinám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en la juntura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pacidad de difusión 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ramente el dispositivo presentará comportamiento de filtr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Diagramadiodo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162160" cy="1676160"/>
          </a:xfrm>
          <a:prstGeom prst="rect">
            <a:avLst/>
          </a:prstGeom>
          <a:ln w="0">
            <a:noFill/>
          </a:ln>
        </p:spPr>
      </p:pic>
      <p:pic>
        <p:nvPicPr>
          <p:cNvPr id="211" name="Equivalentediodo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3305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aracterísticas Dinámicas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 los Diodos de Juntur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257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emplo: Modelo PSP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odo 1N400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edita el mod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Equivalentediodo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305160" cy="1905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715000" y="1828800"/>
            <a:ext cx="3124080" cy="211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*** Power Diode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.MODEL D1N4002-X D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IS=14.11E-9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=1.984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S=33.89E-3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KF=94.8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XTI=3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G=1.110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JO=51.17E-12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=.2762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J=.3905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C=.5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SR=100.0E-12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R=2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V=100.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BV=10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T=4.761E-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3184560"/>
            <a:ext cx="5257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ortamiento “pasabaj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frecuencias “baj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es “circuito abier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rrelevant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frecuencias “alt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es “corto circui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bra importa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76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álculo de los 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dad jun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SPICE también entrega los parámetros de señal pequeñ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Equivalentediodo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05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Simplific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naliza según 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Resistencia dinámica en serie con fuente (Voltaje cut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Resistencia de alto valor (saturación) (~ 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ircuito abierto” siempre que no existan resistencias del orden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410080" y="3726000"/>
            <a:ext cx="2103480" cy="267480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5410080" y="1644480"/>
            <a:ext cx="3657600" cy="2123280"/>
            <a:chOff x="5410080" y="1644480"/>
            <a:chExt cx="3657600" cy="2123280"/>
          </a:xfrm>
        </p:grpSpPr>
        <p:sp>
          <p:nvSpPr>
            <p:cNvPr id="224" name=""/>
            <p:cNvSpPr/>
            <p:nvPr/>
          </p:nvSpPr>
          <p:spPr>
            <a:xfrm>
              <a:off x="7010280" y="16444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10080" y="332064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19760" y="3244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619760" y="1796400"/>
              <a:ext cx="6094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562360" y="332064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1160" y="33206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34160" y="33206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9040" y="1720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76960" y="21776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5880" y="339696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85800" y="1981080"/>
            <a:ext cx="4495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a frecuencias “baj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puede simplificar el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elimina condens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elo lineal a tram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irchild Datasheet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gh-Speed Diode 414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outlineDiodo" descr=""/>
          <p:cNvPicPr/>
          <p:nvPr/>
        </p:nvPicPr>
        <p:blipFill>
          <a:blip r:embed="rId1"/>
          <a:stretch/>
        </p:blipFill>
        <p:spPr>
          <a:xfrm>
            <a:off x="6183360" y="1600200"/>
            <a:ext cx="2884320" cy="1154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2870280"/>
            <a:ext cx="2743200" cy="9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Otros Fabricantes (Philli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FRM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Recurrent Peak Forward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FSM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Peak Forward Surg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Maximum-Thermal" descr=""/>
          <p:cNvPicPr/>
          <p:nvPr/>
        </p:nvPicPr>
        <p:blipFill>
          <a:blip r:embed="rId2"/>
          <a:stretch/>
        </p:blipFill>
        <p:spPr>
          <a:xfrm>
            <a:off x="76320" y="2460600"/>
            <a:ext cx="6019560" cy="409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ower%20Derating" descr=""/>
          <p:cNvPicPr/>
          <p:nvPr/>
        </p:nvPicPr>
        <p:blipFill>
          <a:blip r:embed="rId3"/>
          <a:stretch/>
        </p:blipFill>
        <p:spPr>
          <a:xfrm>
            <a:off x="6213600" y="3916440"/>
            <a:ext cx="2854080" cy="226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irchild Datasheet High-Speed Diode 414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Electrical" descr=""/>
          <p:cNvPicPr/>
          <p:nvPr/>
        </p:nvPicPr>
        <p:blipFill>
          <a:blip r:embed="rId1"/>
          <a:stretch/>
        </p:blipFill>
        <p:spPr>
          <a:xfrm>
            <a:off x="1211400" y="2819520"/>
            <a:ext cx="6637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alores Máximos Absolu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Datasheet%20Zener%20Absolute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5833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Eléctr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Datasheet%20Zener%20Electrical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3152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4640" y="220968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Típ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Datasheet%20Zener%20Typical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2196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Capacitivos afectan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eados por inyección de port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ptura y avalancha en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enera fuentes de tensión “con capacidad de regul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ependen de la temperatur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mportamiento del diodo también (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a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uti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C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ispositivos son “variabl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lores discretos, precisión,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bricante (Datasheets), conmutación (efectos capacitivo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fectos capacitivos en tiempos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los diodos de ruptura (Zene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pasar técnicas de análisis de circuit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ducir y analizar modelos simplificados para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visar parámetros de las hojas de 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racterísticas Gener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ambio en la cantidad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capacitivo importante en labores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es función del tipo de dopad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67280" y="3429000"/>
                <a:ext cx="1979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510552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85800" y="297180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6483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9320" y="3336840"/>
            <a:ext cx="586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extraen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a l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Transición o agotamiento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9320" y="5013360"/>
            <a:ext cx="5867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a la recomb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difusión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270480" y="4267080"/>
                <a:ext cx="15652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∝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Transi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029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562720" y="2209680"/>
                <a:ext cx="20318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57200" y="274968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untura pn abr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13056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plicando la defin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419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tarea 1.1 recordamo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95680" y="2971800"/>
                <a:ext cx="42465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6920" y="4281480"/>
                <a:ext cx="4076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447920" y="5160960"/>
                <a:ext cx="1981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733920" y="5175360"/>
                <a:ext cx="3733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εA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3822840"/>
                <a:ext cx="2384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57200" y="3809880"/>
            <a:ext cx="4419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en una de las “placas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Transi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02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y voltaje juntur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directa V &gt;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inversa V &lt;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órmula “ideal” para model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638680" y="3124080"/>
                <a:ext cx="24321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590920" y="4979880"/>
                <a:ext cx="4713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o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nde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o</m:t>
                        </m:r>
                      </m:sub>
                    </m:sSub>
                    <m:r>
                      <m:t xml:space="preserve">≡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Difus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3810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yecta port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capaci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24160" y="2133720"/>
                <a:ext cx="47372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191120" y="2895480"/>
                <a:ext cx="3409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105520" y="3809880"/>
                <a:ext cx="21668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816360" y="4648320"/>
                <a:ext cx="5208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η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11760" y="5589720"/>
                <a:ext cx="37130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380880" y="3352680"/>
            <a:ext cx="381024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vida med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condensadores en parale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yección lado n: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yección lado p: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total: su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334120"/>
            <a:ext cx="381024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amente proporcional a la resistencia diná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Capacitiv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ponsables de tiempos de respues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te en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s en defecto (exceso) no permiten una rápida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400800" y="4038480"/>
                <a:ext cx="1979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324480" y="4952880"/>
                <a:ext cx="20574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85800" y="4114800"/>
            <a:ext cx="54100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 en cambio revers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ta: No es tan importante (poca car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952880"/>
            <a:ext cx="5410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 en cambio direct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versa: Importante (“gran” cantidad de car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s de entrada, diodo y resis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4572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320" y="3057480"/>
                <a:ext cx="1218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us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304920" y="2362320"/>
            <a:ext cx="7315200" cy="4133880"/>
            <a:chOff x="304920" y="2362320"/>
            <a:chExt cx="7315200" cy="413388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731520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flipH="1">
              <a:off x="281952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00400" y="2558880"/>
              <a:ext cx="1600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ent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12408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 en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133720" y="2819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441972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 en 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133720" y="41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18040" y="3086280"/>
                <a:ext cx="1353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us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54720" y="1905120"/>
            <a:ext cx="2789280" cy="218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419720" y="5486400"/>
            <a:ext cx="20574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ráfic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 proporcional a la de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638680"/>
            <a:ext cx="11430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7-30T15:17:42Z</dcterms:modified>
  <cp:revision>896</cp:revision>
  <dc:subject>Características Dinámicas de los Diodos de Juntura</dc:subject>
  <dc:title>Clase 3</dc:title>
</cp:coreProperties>
</file>