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0F8F-B437-4B05-9622-CBE6826DF1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duard Munch (1863-1944). El Grito, 189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gon Schiele (1880-1918). Autorretrato con vestido negro, 191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Vasili Kandinski (1866-1944). Boceto para El Jinete Azul, 191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Vasili Kandinski (1866-1944). Composición VI, 191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Franz Marc (1880- 1916). Tigre, 191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rnst Ludwig Kirchner (1880-1938).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etrato como soldado, 191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Otto Dix (1891-1969). Tropas de avanzada en el ciclo de la guerra, 19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3BC-DB0A-4235-90F9-B03EBBA3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82C-1858-450D-8A00-DCBA148F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C70-87E7-4386-AE41-DA823A7D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804-D1E1-43A0-8EA3-3E6551A5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F1F-92FB-4C52-A500-C524BC5E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273-8DED-479D-A5F6-2C60F877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A83-327F-4871-8736-B1551518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93F-6021-48F5-9DA8-B39AC6ED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A60-78C8-4966-8703-988839E3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755-3DFF-49C4-8F71-558C2DC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E88-222D-4A6C-A34D-B05D76C0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007-8215-4867-94FD-E1BF779E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1C46-821E-4653-8047-5CF2D956B4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unch.scream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340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chiele.portrait-black-vase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496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lau" descr=""/>
          <p:cNvPicPr/>
          <p:nvPr/>
        </p:nvPicPr>
        <p:blipFill>
          <a:blip r:embed="rId1"/>
          <a:stretch/>
        </p:blipFill>
        <p:spPr>
          <a:xfrm>
            <a:off x="2279520" y="762120"/>
            <a:ext cx="3934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andinsky.comp-6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6294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ger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4753080" cy="61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0kirc" descr="10-Kirchner"/>
          <p:cNvPicPr/>
          <p:nvPr/>
        </p:nvPicPr>
        <p:blipFill>
          <a:blip r:embed="rId1"/>
          <a:stretch/>
        </p:blipFill>
        <p:spPr>
          <a:xfrm>
            <a:off x="2241720" y="533520"/>
            <a:ext cx="4016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64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x10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3295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00:05:19Z</dcterms:created>
  <dc:creator>Juan Gabriel Valdes</dc:creator>
  <dc:description/>
  <dc:language>en-US</dc:language>
  <cp:lastModifiedBy>Juan Gabriel Valdes</cp:lastModifiedBy>
  <dcterms:modified xsi:type="dcterms:W3CDTF">2004-05-09T20:58:20Z</dcterms:modified>
  <cp:revision>100</cp:revision>
  <dc:subject/>
  <dc:title>Presentación de PowerPoint</dc:title>
</cp:coreProperties>
</file>