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C7DE-C78D-4C9E-9837-B5FAD65714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Eduard Munch (1863-1944). El Grito, 189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Egon Schiele (1880-1918). Autorretrato con vestido negro, 191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Vasili Kandinski (1866-1944). Boceto para El Jinete Azul, 191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Vasili Kandinski (1866-1944). Composición VI, 191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Franz Marc (1880- 1916). Tigre, 191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Ernst Ludwig Kirchner (1880-1938).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Autoretrato como soldado, 191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Otto Dix (1891-1969). Tropas de avanzada en el ciclo de la guerra, 192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F76-A7CF-4149-B623-869B7704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C6A-69CF-4A67-BB58-1863F6DF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2942-E07F-43C3-9C55-3826FD3A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293-3C84-49EC-B7E6-303C4A22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048-15A3-4625-B051-5FD62368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B62-0C9F-4EBB-A1EA-AC3A632D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F0B-7127-469A-9E56-736254A1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1AE-3ABD-434B-AC07-625D691B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C99-59CA-48F8-A7FB-93F8298F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FBC7-6722-469F-8724-6D17C8FD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652-2348-4665-A180-3A9F8AE3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28A-80E5-4742-A789-E6F2499E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4125-7BE4-451C-936F-B3B1912EBF5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unch.scream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73400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chiele.portrait-black-vase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496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lau" descr=""/>
          <p:cNvPicPr/>
          <p:nvPr/>
        </p:nvPicPr>
        <p:blipFill>
          <a:blip r:embed="rId1"/>
          <a:stretch/>
        </p:blipFill>
        <p:spPr>
          <a:xfrm>
            <a:off x="2279520" y="762120"/>
            <a:ext cx="39340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andinsky.comp-6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6294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ger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4753080" cy="61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0kirc" descr="10-Kirchner"/>
          <p:cNvPicPr/>
          <p:nvPr/>
        </p:nvPicPr>
        <p:blipFill>
          <a:blip r:embed="rId1"/>
          <a:stretch/>
        </p:blipFill>
        <p:spPr>
          <a:xfrm>
            <a:off x="2241720" y="533520"/>
            <a:ext cx="4016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7640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ix10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3295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00:05:19Z</dcterms:created>
  <dc:creator>Juan Gabriel Valdes</dc:creator>
  <dc:description/>
  <dc:language>en-US</dc:language>
  <cp:lastModifiedBy>Juan Gabriel Valdes</cp:lastModifiedBy>
  <dcterms:modified xsi:type="dcterms:W3CDTF">2004-05-09T20:58:20Z</dcterms:modified>
  <cp:revision>100</cp:revision>
  <dc:subject/>
  <dc:title>Presentación de PowerPoint</dc:title>
</cp:coreProperties>
</file>