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77D2-071D-4DA5-A454-565782D8542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Eduard Munch (1863-1944). El Grito, 189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Egon Schiele (1880-1918). Autorretrato con vestido negro, 191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Vasili Kandinski (1866-1944). Boceto para El Jinete Azul, 191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Vasili Kandinski (1866-1944). Composición VI, 191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Franz Marc (1880- 1916). Tigre, 191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Ernst Ludwig Kirchner (1880-1938).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Autoretrato como soldado, 191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Otto Dix (1891-1969). Tropas de avanzada en el ciclo de la guerra, 192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545-6542-47E8-8C82-86483BE0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E41E-4D7C-4F6B-828D-24EFE8B3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F39-62CD-49EE-B6E8-8234D1C1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23FA-4B63-46EF-B615-709FC708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9570-6E46-43B9-8D88-3946B81A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EF8-183F-4C8C-BE14-A7BC0A5F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224B-8F10-4517-A57D-7E384751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E8CA-78B2-4925-BD9F-05AD46D5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384-BD39-4C5B-B011-BA2C0424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93A-9106-485C-9839-23607A53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0FD-1BFB-480D-A6D2-18F21DD5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9482-C23F-4B62-8AD9-4C19533E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AAB0-3686-4DB6-A1A4-0AD95A76BC8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unch.scream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73400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chiele.portrait-black-vase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496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lau" descr=""/>
          <p:cNvPicPr/>
          <p:nvPr/>
        </p:nvPicPr>
        <p:blipFill>
          <a:blip r:embed="rId1"/>
          <a:stretch/>
        </p:blipFill>
        <p:spPr>
          <a:xfrm>
            <a:off x="2279520" y="762120"/>
            <a:ext cx="39340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kandinsky.comp-6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6294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ger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4753080" cy="61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10kirc" descr="10-Kirchner"/>
          <p:cNvPicPr/>
          <p:nvPr/>
        </p:nvPicPr>
        <p:blipFill>
          <a:blip r:embed="rId1"/>
          <a:stretch/>
        </p:blipFill>
        <p:spPr>
          <a:xfrm>
            <a:off x="2241720" y="533520"/>
            <a:ext cx="40161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7640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dix10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3295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00:05:19Z</dcterms:created>
  <dc:creator>Juan Gabriel Valdes</dc:creator>
  <dc:description/>
  <dc:language>en-US</dc:language>
  <cp:lastModifiedBy>Juan Gabriel Valdes</cp:lastModifiedBy>
  <dcterms:modified xsi:type="dcterms:W3CDTF">2004-05-09T20:58:20Z</dcterms:modified>
  <cp:revision>100</cp:revision>
  <dc:subject/>
  <dc:title>Presentación de PowerPoint</dc:title>
</cp:coreProperties>
</file>