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2FAA-4085-473A-819D-6AFA42E8A3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duard Munch (1863-1944). El Grito, 189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gon Schiele (1880-1918). Autorretrato con vestido negro, 191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Vasili Kandinski (1866-1944). Boceto para El Jinete Azul, 191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Vasili Kandinski (1866-1944). Composición VI, 191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Franz Marc (1880- 1916). Tigre, 191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rnst Ludwig Kirchner (1880-1938).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etrato como soldado, 191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Otto Dix (1891-1969). Tropas de avanzada en el ciclo de la guerra, 19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7DC-E918-4550-8569-E1088284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2A0-EAAF-467B-A846-7059BB52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892-09D2-4DA9-9B8A-CA63D088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097-E530-4FFF-84F2-C84EA988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902-A500-45A3-A10F-D432F115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90F-C1E5-417E-82D7-73190C5A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E47-44DC-4495-8D0F-0D64C299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65C-0659-46CF-A526-B99FE2CC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69A-343D-487E-A18D-951D3A32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11F-67F0-4D45-B66E-1A383221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4BA-76CF-446A-9694-693BCDC0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838-0F49-4162-B426-68C36BE2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6294-04FD-4BB3-8F9A-276B05FD2C5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unch.scream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340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chiele.portrait-black-vase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496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lau" descr=""/>
          <p:cNvPicPr/>
          <p:nvPr/>
        </p:nvPicPr>
        <p:blipFill>
          <a:blip r:embed="rId1"/>
          <a:stretch/>
        </p:blipFill>
        <p:spPr>
          <a:xfrm>
            <a:off x="2279520" y="762120"/>
            <a:ext cx="3934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andinsky.comp-6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6294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ger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4753080" cy="61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0kirc" descr="10-Kirchner"/>
          <p:cNvPicPr/>
          <p:nvPr/>
        </p:nvPicPr>
        <p:blipFill>
          <a:blip r:embed="rId1"/>
          <a:stretch/>
        </p:blipFill>
        <p:spPr>
          <a:xfrm>
            <a:off x="2241720" y="533520"/>
            <a:ext cx="4016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64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x10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3295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00:05:19Z</dcterms:created>
  <dc:creator>Juan Gabriel Valdes</dc:creator>
  <dc:description/>
  <dc:language>en-US</dc:language>
  <cp:lastModifiedBy>Juan Gabriel Valdes</cp:lastModifiedBy>
  <dcterms:modified xsi:type="dcterms:W3CDTF">2004-05-09T20:58:20Z</dcterms:modified>
  <cp:revision>100</cp:revision>
  <dc:subject/>
  <dc:title>Presentación de PowerPoint</dc:title>
</cp:coreProperties>
</file>