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3.wmf" ContentType="image/x-wmf"/>
  <Override PartName="/ppt/media/image5.wmf" ContentType="image/x-wmf"/>
  <Override PartName="/ppt/media/image30.png" ContentType="image/png"/>
  <Override PartName="/ppt/media/image28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32.png" ContentType="image/png"/>
  <Override PartName="/ppt/media/image15.wmf" ContentType="image/x-wmf"/>
  <Override PartName="/ppt/media/image33.png" ContentType="image/png"/>
  <Override PartName="/ppt/media/image34.png" ContentType="image/png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14.wmf" ContentType="image/x-wmf"/>
  <Override PartName="/ppt/media/image2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6.png" ContentType="image/png"/>
  <Override PartName="/ppt/media/image18.wmf" ContentType="image/x-wmf"/>
  <Override PartName="/ppt/media/image20.wmf" ContentType="image/x-wmf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F5BA-4479-4224-AD75-CFFED0B28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017C-7357-43C6-AAFF-19DE0B1B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EA86-D85A-4D15-8E04-B559C103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87F0-04A2-4281-83EC-F64D3BFD3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01E4-9F99-4BFD-B333-AEB3F9C9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7A65-061E-477F-BC33-5FF0FE98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4B30-BD79-4B17-A84E-047AEDEC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4031-4131-412B-9B55-6E3D6F51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BC17-9214-4783-A644-F216EAE8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ED17-EA5E-49CA-8015-FE94E3C8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CCE9-F026-4699-A011-3FE89BB7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D432-0DAE-4394-8F6C-D0E9DAD5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AC22-A3FB-473C-ADDA-44637E40E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87280" y="2349360"/>
            <a:ext cx="71298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iagnóstico y clasificación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e los cursos de agua según objetivos de calidad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UENCA DEL RIO MAIPO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5076720" y="5373720"/>
            <a:ext cx="352908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rancisco L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éstor Rojas Alcaya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duardo Riquelme Rí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620640" cy="100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58920" y="836640"/>
            <a:ext cx="374472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epartamento de Ingenierí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187280" y="4653000"/>
            <a:ext cx="324036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620640"/>
            <a:ext cx="77770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ección de la cuenca y definición de cau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3357720"/>
            <a:ext cx="18000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3519360"/>
            <a:ext cx="576360" cy="486000"/>
          </a:xfrm>
          <a:prstGeom prst="rightArrow">
            <a:avLst>
              <a:gd name="adj1" fmla="val 50000"/>
              <a:gd name="adj2" fmla="val 2964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76720" y="2133720"/>
            <a:ext cx="496728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1187280" y="4005360"/>
            <a:ext cx="48600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4508640"/>
            <a:ext cx="28810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32º55` - 34º15` LAT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69º55`- 71º31`LONG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Área: 15304 Km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1280" y="620640"/>
            <a:ext cx="77770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ección de la cuenca y definición de cau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3357720"/>
            <a:ext cx="18000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AU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40000" y="3519360"/>
            <a:ext cx="576360" cy="486000"/>
          </a:xfrm>
          <a:prstGeom prst="rightArrow">
            <a:avLst>
              <a:gd name="adj1" fmla="val 50000"/>
              <a:gd name="adj2" fmla="val 2964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87280" y="4005360"/>
            <a:ext cx="48600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4508640"/>
            <a:ext cx="2881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rgo río Maipo 250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03640" y="2637000"/>
            <a:ext cx="3887640" cy="2865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380360" y="1916280"/>
            <a:ext cx="151272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Mai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Volcá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Y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Color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Oliv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Angos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Mapo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estero Yerba Lo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San Francis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Mol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estero Arrayá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estero Col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estero Polpa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estero Puan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620640"/>
            <a:ext cx="77770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ección de la cuenca y definición de cau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3357720"/>
            <a:ext cx="18000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AU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40000" y="3519360"/>
            <a:ext cx="576360" cy="486000"/>
          </a:xfrm>
          <a:prstGeom prst="rightArrow">
            <a:avLst>
              <a:gd name="adj1" fmla="val 50000"/>
              <a:gd name="adj2" fmla="val 2964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4005360"/>
            <a:ext cx="48600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4508640"/>
            <a:ext cx="2881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rgo río Maipo 250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1916280"/>
            <a:ext cx="151272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Mai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Volcá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Y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Color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Oliv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Angos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Mapo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estero Yerba Lo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San Francis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Mol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estero Arrayá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estero Col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estero Polpa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estero Puan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03640" y="2276640"/>
            <a:ext cx="3887640" cy="32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1916280"/>
            <a:ext cx="6913800" cy="39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ección de la cuenca y definición de cau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Recopilación de información y caracterización de la cue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álisis y procesamiento de la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lidad actual y natural de los cursos superfi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posición de las clase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tros aspectos relev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3068640"/>
            <a:ext cx="252072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tografía y seg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9674600">
            <a:off x="2484360" y="2852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035800">
            <a:off x="2484360" y="4220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0000" y="1700280"/>
            <a:ext cx="3240000" cy="20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IGRH(DG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IAR(CONAM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CBN(CONA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IIR(CN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ases OTAS(G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ases descargas industriales(COREM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05320" y="3736800"/>
            <a:ext cx="5500440" cy="3121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476360" y="5229360"/>
            <a:ext cx="187164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32 Tr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2060640"/>
            <a:ext cx="252072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stema Físico y Na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32000" y="1916280"/>
            <a:ext cx="576360" cy="414000"/>
          </a:xfrm>
          <a:prstGeom prst="rightArrow">
            <a:avLst>
              <a:gd name="adj1" fmla="val 50000"/>
              <a:gd name="adj2" fmla="val 3480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89000"/>
            <a:ext cx="4535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Cli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emplado mediterráneo con estación seca prolong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lima frío de al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32000" y="3260880"/>
            <a:ext cx="576360" cy="414360"/>
          </a:xfrm>
          <a:prstGeom prst="rightArrow">
            <a:avLst>
              <a:gd name="adj1" fmla="val 50000"/>
              <a:gd name="adj2" fmla="val 3477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24360" y="3333600"/>
            <a:ext cx="4535280" cy="30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Geolog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llenos sedimentarios (fluviales, fluvioglaciales, cenizas volcánic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ocas graníticas paleozoicas y mesozo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ocas volcánicas y sedimentarias cretác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Volcanism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upungato, Marmolejo, Tupungatito, San José y Ma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2060640"/>
            <a:ext cx="252072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stema Físico y Na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32000" y="1916280"/>
            <a:ext cx="576360" cy="414000"/>
          </a:xfrm>
          <a:prstGeom prst="rightArrow">
            <a:avLst>
              <a:gd name="adj1" fmla="val 50000"/>
              <a:gd name="adj2" fmla="val 3480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24360" y="1949400"/>
            <a:ext cx="4535280" cy="13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Hidrogeologí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uífero Cordille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uífero de Santi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uífero Sector Río El Volc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3519360"/>
            <a:ext cx="576360" cy="414360"/>
          </a:xfrm>
          <a:prstGeom prst="rightArrow">
            <a:avLst>
              <a:gd name="adj1" fmla="val 50000"/>
              <a:gd name="adj2" fmla="val 3477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24360" y="3519360"/>
            <a:ext cx="453528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Geomorfolog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Zona an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iedm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en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alle estero Array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emboca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2060640"/>
            <a:ext cx="252108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stema Físico y Na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71640" y="1916280"/>
            <a:ext cx="576360" cy="414000"/>
          </a:xfrm>
          <a:prstGeom prst="rightArrow">
            <a:avLst>
              <a:gd name="adj1" fmla="val 50000"/>
              <a:gd name="adj2" fmla="val 3480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48000" y="1949400"/>
            <a:ext cx="4535640" cy="13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Hidrogeologí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uífero Cordille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uífero de Santi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uífero Sector Río El Volc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00360" y="3519360"/>
            <a:ext cx="576360" cy="414360"/>
          </a:xfrm>
          <a:prstGeom prst="rightArrow">
            <a:avLst>
              <a:gd name="adj1" fmla="val 50000"/>
              <a:gd name="adj2" fmla="val 3477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48000" y="3519360"/>
            <a:ext cx="453564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Geomorfolog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Zona an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iedm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en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alle estero Array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emboca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91280" y="3933720"/>
            <a:ext cx="3852720" cy="179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1844640"/>
            <a:ext cx="252108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stema Físico y Na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71640" y="2060640"/>
            <a:ext cx="576360" cy="414360"/>
          </a:xfrm>
          <a:prstGeom prst="rightArrow">
            <a:avLst>
              <a:gd name="adj1" fmla="val 50000"/>
              <a:gd name="adj2" fmla="val 3477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37080" y="1989000"/>
            <a:ext cx="453528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Sue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cción Superior Alta Cordillera (Esqueléticos con afloramientos roco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cción Media Precordillera y Piedmont (estratificados, bien drenados y fért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cción fondo del valle( problemas de drenaje y permeabilidad, variabilidad alcalinidad y salinid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cción costera (valles estrechos, granito, estratificados, bien drenados, baja fertilidad, falta de agu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uífero Sector Río El Volc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2060640"/>
            <a:ext cx="25210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lora y fa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00360" y="2349360"/>
            <a:ext cx="431640" cy="27000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132000" y="2914560"/>
            <a:ext cx="5688000" cy="20988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276720" y="2205000"/>
            <a:ext cx="29509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Comunidades vege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00360" y="5319720"/>
            <a:ext cx="431640" cy="27000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5175360"/>
            <a:ext cx="29509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Biota acu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2500200" cy="4160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140360" y="4076640"/>
            <a:ext cx="4105080" cy="21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regar una visión completa de la situación de calidad de los ríos que han sido o serán priorizados por el Gobierno para protegerlos a través del dictamen de una norma de calidad secundaria para las aguas continentales del país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32360" y="2421000"/>
            <a:ext cx="2160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Bradley Hand ITC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2637000"/>
            <a:ext cx="863640" cy="485640"/>
          </a:xfrm>
          <a:prstGeom prst="rightArrow">
            <a:avLst>
              <a:gd name="adj1" fmla="val 50000"/>
              <a:gd name="adj2" fmla="val 4445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64000" y="3357720"/>
            <a:ext cx="136872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20000" y="6021360"/>
            <a:ext cx="158436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.G.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2060640"/>
            <a:ext cx="252108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stemas hum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00360" y="1989000"/>
            <a:ext cx="431640" cy="27000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1844640"/>
            <a:ext cx="29509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sentamientos hum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00360" y="4527720"/>
            <a:ext cx="431640" cy="269640"/>
          </a:xfrm>
          <a:prstGeom prst="rightArrow">
            <a:avLst>
              <a:gd name="adj1" fmla="val 50000"/>
              <a:gd name="adj2" fmla="val 4002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4383000"/>
            <a:ext cx="29509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ctividad econó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00360" y="4941720"/>
            <a:ext cx="431640" cy="27000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4797360"/>
            <a:ext cx="29509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Usos de su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276720" y="2349360"/>
            <a:ext cx="3887640" cy="20624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308400" y="5229360"/>
            <a:ext cx="400032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1916280"/>
            <a:ext cx="6913800" cy="39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ección de la cuenca y definición de cau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Establecimiento de la base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álisis y procesamiento de la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lidad actual y natural de los cursos superfi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posición de las clase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tros aspectos relev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2060640"/>
            <a:ext cx="252108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formación fluviomét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00360" y="1989000"/>
            <a:ext cx="431640" cy="27000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1844640"/>
            <a:ext cx="4608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Estaciones fluviométricas(CIRH, D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635280" y="2349360"/>
            <a:ext cx="3306960" cy="2451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492360" y="5013360"/>
            <a:ext cx="381636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taciones patr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aipo en el Manzano (niv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apocho en los Almendros (mix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uangue en Boquerón (pluv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6560" y="1700280"/>
            <a:ext cx="25210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os del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11280" y="2565360"/>
            <a:ext cx="7777080" cy="731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2" name=""/>
          <p:cNvSpPr/>
          <p:nvPr/>
        </p:nvSpPr>
        <p:spPr>
          <a:xfrm>
            <a:off x="1619280" y="3645000"/>
            <a:ext cx="158436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10.2 [m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/seg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629800" y="4149720"/>
            <a:ext cx="1550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9000 [l/se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64000" y="4797360"/>
            <a:ext cx="1297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0 C.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3284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3284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11640" y="3284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00720" y="5229360"/>
            <a:ext cx="115236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60 [l/seg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48360" y="328464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12000" y="328464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32360" y="6093000"/>
            <a:ext cx="23036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90 [l/seg]+35[l/seg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6560" y="1557360"/>
            <a:ext cx="42498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acterización de descar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08360" y="3716280"/>
            <a:ext cx="504720" cy="414360"/>
          </a:xfrm>
          <a:prstGeom prst="rightArrow">
            <a:avLst>
              <a:gd name="adj1" fmla="val 50000"/>
              <a:gd name="adj2" fmla="val 3045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27640" y="36432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06920" y="3716280"/>
            <a:ext cx="505080" cy="414360"/>
          </a:xfrm>
          <a:prstGeom prst="rightArrow">
            <a:avLst>
              <a:gd name="adj1" fmla="val 50000"/>
              <a:gd name="adj2" fmla="val 3047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56360" y="357192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00% de sane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42920" y="2133720"/>
            <a:ext cx="31687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guas serv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42920" y="2349360"/>
            <a:ext cx="504720" cy="414360"/>
          </a:xfrm>
          <a:prstGeom prst="rightArrow">
            <a:avLst>
              <a:gd name="adj1" fmla="val 50000"/>
              <a:gd name="adj2" fmla="val 3045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908000" y="3500280"/>
            <a:ext cx="144000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857760" y="2095560"/>
            <a:ext cx="2286000" cy="15238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189400" y="2311560"/>
            <a:ext cx="90720" cy="61920"/>
          </a:xfrm>
          <a:custGeom>
            <a:avLst/>
            <a:gdLst/>
            <a:ahLst/>
            <a:rect l="l" t="t" r="r" b="b"/>
            <a:pathLst>
              <a:path w="57" h="39">
                <a:moveTo>
                  <a:pt x="49" y="0"/>
                </a:moveTo>
                <a:cubicBezTo>
                  <a:pt x="41" y="3"/>
                  <a:pt x="32" y="3"/>
                  <a:pt x="25" y="8"/>
                </a:cubicBezTo>
                <a:cubicBezTo>
                  <a:pt x="17" y="14"/>
                  <a:pt x="0" y="28"/>
                  <a:pt x="9" y="32"/>
                </a:cubicBezTo>
                <a:cubicBezTo>
                  <a:pt x="24" y="39"/>
                  <a:pt x="41" y="27"/>
                  <a:pt x="57" y="24"/>
                </a:cubicBezTo>
                <a:cubicBezTo>
                  <a:pt x="54" y="16"/>
                  <a:pt x="49" y="0"/>
                  <a:pt x="49" y="0"/>
                </a:cubicBezTo>
                <a:close/>
              </a:path>
            </a:pathLst>
          </a:custGeom>
          <a:solidFill>
            <a:srgbClr val="aca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30880" y="3022560"/>
            <a:ext cx="88920" cy="131760"/>
          </a:xfrm>
          <a:custGeom>
            <a:avLst/>
            <a:gdLst/>
            <a:ahLst/>
            <a:rect l="l" t="t" r="r" b="b"/>
            <a:pathLst>
              <a:path w="56" h="83">
                <a:moveTo>
                  <a:pt x="8" y="0"/>
                </a:moveTo>
                <a:cubicBezTo>
                  <a:pt x="42" y="11"/>
                  <a:pt x="52" y="21"/>
                  <a:pt x="40" y="56"/>
                </a:cubicBezTo>
                <a:cubicBezTo>
                  <a:pt x="43" y="64"/>
                  <a:pt x="56" y="78"/>
                  <a:pt x="48" y="80"/>
                </a:cubicBezTo>
                <a:cubicBezTo>
                  <a:pt x="31" y="83"/>
                  <a:pt x="0" y="64"/>
                  <a:pt x="0" y="64"/>
                </a:cubicBezTo>
                <a:cubicBezTo>
                  <a:pt x="8" y="5"/>
                  <a:pt x="8" y="27"/>
                  <a:pt x="8" y="0"/>
                </a:cubicBezTo>
                <a:close/>
              </a:path>
            </a:pathLst>
          </a:custGeom>
          <a:solidFill>
            <a:srgbClr val="ffcc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08520" y="3295800"/>
            <a:ext cx="573120" cy="352440"/>
          </a:xfrm>
          <a:custGeom>
            <a:avLst/>
            <a:gdLst/>
            <a:ahLst/>
            <a:rect l="l" t="t" r="r" b="b"/>
            <a:pathLst>
              <a:path w="344" h="222">
                <a:moveTo>
                  <a:pt x="13" y="96"/>
                </a:moveTo>
                <a:cubicBezTo>
                  <a:pt x="20" y="117"/>
                  <a:pt x="46" y="156"/>
                  <a:pt x="67" y="168"/>
                </a:cubicBezTo>
                <a:cubicBezTo>
                  <a:pt x="78" y="174"/>
                  <a:pt x="92" y="173"/>
                  <a:pt x="103" y="180"/>
                </a:cubicBezTo>
                <a:cubicBezTo>
                  <a:pt x="138" y="203"/>
                  <a:pt x="164" y="214"/>
                  <a:pt x="205" y="222"/>
                </a:cubicBezTo>
                <a:cubicBezTo>
                  <a:pt x="248" y="216"/>
                  <a:pt x="266" y="203"/>
                  <a:pt x="301" y="180"/>
                </a:cubicBezTo>
                <a:cubicBezTo>
                  <a:pt x="312" y="173"/>
                  <a:pt x="337" y="168"/>
                  <a:pt x="337" y="168"/>
                </a:cubicBezTo>
                <a:cubicBezTo>
                  <a:pt x="344" y="148"/>
                  <a:pt x="337" y="81"/>
                  <a:pt x="325" y="66"/>
                </a:cubicBezTo>
                <a:cubicBezTo>
                  <a:pt x="321" y="61"/>
                  <a:pt x="313" y="62"/>
                  <a:pt x="307" y="60"/>
                </a:cubicBezTo>
                <a:cubicBezTo>
                  <a:pt x="285" y="75"/>
                  <a:pt x="256" y="76"/>
                  <a:pt x="235" y="90"/>
                </a:cubicBezTo>
                <a:cubicBezTo>
                  <a:pt x="213" y="104"/>
                  <a:pt x="188" y="118"/>
                  <a:pt x="163" y="126"/>
                </a:cubicBezTo>
                <a:cubicBezTo>
                  <a:pt x="79" y="115"/>
                  <a:pt x="142" y="124"/>
                  <a:pt x="91" y="90"/>
                </a:cubicBezTo>
                <a:cubicBezTo>
                  <a:pt x="75" y="67"/>
                  <a:pt x="75" y="57"/>
                  <a:pt x="103" y="48"/>
                </a:cubicBezTo>
                <a:cubicBezTo>
                  <a:pt x="135" y="0"/>
                  <a:pt x="60" y="30"/>
                  <a:pt x="25" y="18"/>
                </a:cubicBezTo>
                <a:cubicBezTo>
                  <a:pt x="11" y="61"/>
                  <a:pt x="20" y="43"/>
                  <a:pt x="1" y="72"/>
                </a:cubicBezTo>
                <a:cubicBezTo>
                  <a:pt x="8" y="105"/>
                  <a:pt x="0" y="109"/>
                  <a:pt x="13" y="96"/>
                </a:cubicBezTo>
                <a:close/>
              </a:path>
            </a:pathLst>
          </a:custGeom>
          <a:solidFill>
            <a:srgbClr val="fff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53760" y="3390840"/>
            <a:ext cx="470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La Obr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81640" y="2517840"/>
            <a:ext cx="228600" cy="366480"/>
          </a:xfrm>
          <a:custGeom>
            <a:avLst/>
            <a:gdLst/>
            <a:ahLst/>
            <a:rect l="l" t="t" r="r" b="b"/>
            <a:pathLst>
              <a:path w="65" h="231">
                <a:moveTo>
                  <a:pt x="14" y="214"/>
                </a:moveTo>
                <a:cubicBezTo>
                  <a:pt x="65" y="231"/>
                  <a:pt x="34" y="155"/>
                  <a:pt x="26" y="130"/>
                </a:cubicBezTo>
                <a:cubicBezTo>
                  <a:pt x="20" y="85"/>
                  <a:pt x="16" y="79"/>
                  <a:pt x="38" y="46"/>
                </a:cubicBezTo>
                <a:cubicBezTo>
                  <a:pt x="36" y="42"/>
                  <a:pt x="13" y="0"/>
                  <a:pt x="8" y="34"/>
                </a:cubicBezTo>
                <a:cubicBezTo>
                  <a:pt x="4" y="58"/>
                  <a:pt x="12" y="82"/>
                  <a:pt x="14" y="106"/>
                </a:cubicBezTo>
                <a:cubicBezTo>
                  <a:pt x="11" y="126"/>
                  <a:pt x="2" y="146"/>
                  <a:pt x="2" y="166"/>
                </a:cubicBezTo>
                <a:cubicBezTo>
                  <a:pt x="2" y="228"/>
                  <a:pt x="0" y="194"/>
                  <a:pt x="26" y="220"/>
                </a:cubicBezTo>
                <a:cubicBezTo>
                  <a:pt x="29" y="223"/>
                  <a:pt x="18" y="216"/>
                  <a:pt x="14" y="214"/>
                </a:cubicBezTo>
                <a:close/>
              </a:path>
            </a:pathLst>
          </a:custGeom>
          <a:solidFill>
            <a:srgbClr val="ffc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52880" y="2260440"/>
            <a:ext cx="142920" cy="16200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46"/>
                </a:moveTo>
                <a:cubicBezTo>
                  <a:pt x="8" y="14"/>
                  <a:pt x="10" y="0"/>
                  <a:pt x="42" y="22"/>
                </a:cubicBezTo>
                <a:cubicBezTo>
                  <a:pt x="49" y="33"/>
                  <a:pt x="53" y="47"/>
                  <a:pt x="60" y="58"/>
                </a:cubicBezTo>
                <a:cubicBezTo>
                  <a:pt x="69" y="71"/>
                  <a:pt x="81" y="81"/>
                  <a:pt x="90" y="94"/>
                </a:cubicBezTo>
                <a:cubicBezTo>
                  <a:pt x="84" y="96"/>
                  <a:pt x="78" y="102"/>
                  <a:pt x="72" y="100"/>
                </a:cubicBezTo>
                <a:cubicBezTo>
                  <a:pt x="58" y="95"/>
                  <a:pt x="36" y="76"/>
                  <a:pt x="36" y="76"/>
                </a:cubicBezTo>
                <a:cubicBezTo>
                  <a:pt x="21" y="32"/>
                  <a:pt x="43" y="76"/>
                  <a:pt x="12" y="64"/>
                </a:cubicBezTo>
                <a:cubicBezTo>
                  <a:pt x="5" y="61"/>
                  <a:pt x="4" y="52"/>
                  <a:pt x="0" y="46"/>
                </a:cubicBezTo>
                <a:close/>
              </a:path>
            </a:pathLst>
          </a:custGeom>
          <a:solidFill>
            <a:srgbClr val="ba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90840" y="3828960"/>
            <a:ext cx="285840" cy="219240"/>
          </a:xfrm>
          <a:custGeom>
            <a:avLst/>
            <a:gdLst/>
            <a:ahLst/>
            <a:rect l="l" t="t" r="r" b="b"/>
            <a:pathLst>
              <a:path w="180" h="138">
                <a:moveTo>
                  <a:pt x="0" y="138"/>
                </a:moveTo>
                <a:cubicBezTo>
                  <a:pt x="23" y="103"/>
                  <a:pt x="25" y="100"/>
                  <a:pt x="60" y="84"/>
                </a:cubicBezTo>
                <a:cubicBezTo>
                  <a:pt x="72" y="79"/>
                  <a:pt x="96" y="72"/>
                  <a:pt x="96" y="72"/>
                </a:cubicBezTo>
                <a:cubicBezTo>
                  <a:pt x="116" y="57"/>
                  <a:pt x="132" y="44"/>
                  <a:pt x="156" y="36"/>
                </a:cubicBezTo>
                <a:cubicBezTo>
                  <a:pt x="164" y="24"/>
                  <a:pt x="180" y="0"/>
                  <a:pt x="180" y="0"/>
                </a:cubicBez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48240" y="3214800"/>
            <a:ext cx="581040" cy="642960"/>
          </a:xfrm>
          <a:custGeom>
            <a:avLst/>
            <a:gdLst/>
            <a:ahLst/>
            <a:rect l="l" t="t" r="r" b="b"/>
            <a:pathLst>
              <a:path w="366" h="405">
                <a:moveTo>
                  <a:pt x="0" y="405"/>
                </a:moveTo>
                <a:cubicBezTo>
                  <a:pt x="36" y="381"/>
                  <a:pt x="38" y="348"/>
                  <a:pt x="48" y="309"/>
                </a:cubicBezTo>
                <a:cubicBezTo>
                  <a:pt x="53" y="289"/>
                  <a:pt x="78" y="255"/>
                  <a:pt x="78" y="255"/>
                </a:cubicBezTo>
                <a:cubicBezTo>
                  <a:pt x="84" y="222"/>
                  <a:pt x="82" y="206"/>
                  <a:pt x="114" y="195"/>
                </a:cubicBezTo>
                <a:cubicBezTo>
                  <a:pt x="134" y="166"/>
                  <a:pt x="120" y="162"/>
                  <a:pt x="156" y="153"/>
                </a:cubicBezTo>
                <a:cubicBezTo>
                  <a:pt x="183" y="135"/>
                  <a:pt x="180" y="107"/>
                  <a:pt x="210" y="87"/>
                </a:cubicBezTo>
                <a:cubicBezTo>
                  <a:pt x="227" y="62"/>
                  <a:pt x="248" y="48"/>
                  <a:pt x="276" y="39"/>
                </a:cubicBezTo>
                <a:cubicBezTo>
                  <a:pt x="289" y="0"/>
                  <a:pt x="343" y="10"/>
                  <a:pt x="366" y="33"/>
                </a:cubicBez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91120" y="2581200"/>
            <a:ext cx="190440" cy="638280"/>
          </a:xfrm>
          <a:custGeom>
            <a:avLst/>
            <a:gdLst/>
            <a:ahLst/>
            <a:rect l="l" t="t" r="r" b="b"/>
            <a:pathLst>
              <a:path w="120" h="402">
                <a:moveTo>
                  <a:pt x="30" y="402"/>
                </a:moveTo>
                <a:cubicBezTo>
                  <a:pt x="41" y="359"/>
                  <a:pt x="24" y="323"/>
                  <a:pt x="0" y="288"/>
                </a:cubicBezTo>
                <a:cubicBezTo>
                  <a:pt x="9" y="261"/>
                  <a:pt x="32" y="251"/>
                  <a:pt x="42" y="222"/>
                </a:cubicBezTo>
                <a:cubicBezTo>
                  <a:pt x="34" y="136"/>
                  <a:pt x="39" y="161"/>
                  <a:pt x="0" y="102"/>
                </a:cubicBezTo>
                <a:cubicBezTo>
                  <a:pt x="7" y="81"/>
                  <a:pt x="13" y="47"/>
                  <a:pt x="30" y="30"/>
                </a:cubicBezTo>
                <a:cubicBezTo>
                  <a:pt x="44" y="16"/>
                  <a:pt x="67" y="11"/>
                  <a:pt x="84" y="0"/>
                </a:cubicBezTo>
                <a:cubicBezTo>
                  <a:pt x="96" y="8"/>
                  <a:pt x="120" y="24"/>
                  <a:pt x="120" y="24"/>
                </a:cubicBez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200480" y="3176640"/>
            <a:ext cx="7164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0" y="45"/>
                </a:moveTo>
                <a:cubicBezTo>
                  <a:pt x="23" y="37"/>
                  <a:pt x="45" y="0"/>
                  <a:pt x="0" y="45"/>
                </a:cubicBezTo>
                <a:close/>
              </a:path>
            </a:pathLst>
          </a:custGeom>
          <a:solidFill>
            <a:srgbClr val="bbe0e3"/>
          </a:solidFill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81560" y="2306520"/>
            <a:ext cx="1333440" cy="349200"/>
          </a:xfrm>
          <a:custGeom>
            <a:avLst/>
            <a:gdLst/>
            <a:ahLst/>
            <a:rect l="l" t="t" r="r" b="b"/>
            <a:pathLst>
              <a:path w="840" h="220">
                <a:moveTo>
                  <a:pt x="0" y="191"/>
                </a:moveTo>
                <a:cubicBezTo>
                  <a:pt x="90" y="180"/>
                  <a:pt x="57" y="181"/>
                  <a:pt x="198" y="191"/>
                </a:cubicBezTo>
                <a:cubicBezTo>
                  <a:pt x="211" y="192"/>
                  <a:pt x="227" y="199"/>
                  <a:pt x="240" y="203"/>
                </a:cubicBezTo>
                <a:cubicBezTo>
                  <a:pt x="256" y="207"/>
                  <a:pt x="288" y="215"/>
                  <a:pt x="288" y="215"/>
                </a:cubicBezTo>
                <a:cubicBezTo>
                  <a:pt x="323" y="213"/>
                  <a:pt x="419" y="220"/>
                  <a:pt x="462" y="191"/>
                </a:cubicBezTo>
                <a:cubicBezTo>
                  <a:pt x="487" y="174"/>
                  <a:pt x="509" y="163"/>
                  <a:pt x="534" y="149"/>
                </a:cubicBezTo>
                <a:cubicBezTo>
                  <a:pt x="547" y="142"/>
                  <a:pt x="570" y="125"/>
                  <a:pt x="570" y="125"/>
                </a:cubicBezTo>
                <a:cubicBezTo>
                  <a:pt x="582" y="90"/>
                  <a:pt x="567" y="122"/>
                  <a:pt x="594" y="95"/>
                </a:cubicBezTo>
                <a:cubicBezTo>
                  <a:pt x="655" y="34"/>
                  <a:pt x="685" y="28"/>
                  <a:pt x="774" y="17"/>
                </a:cubicBezTo>
                <a:cubicBezTo>
                  <a:pt x="799" y="0"/>
                  <a:pt x="787" y="2"/>
                  <a:pt x="822" y="11"/>
                </a:cubicBezTo>
                <a:cubicBezTo>
                  <a:pt x="828" y="13"/>
                  <a:pt x="840" y="17"/>
                  <a:pt x="840" y="17"/>
                </a:cubicBez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15000" y="2305080"/>
            <a:ext cx="885960" cy="95400"/>
          </a:xfrm>
          <a:custGeom>
            <a:avLst/>
            <a:gdLst/>
            <a:ahLst/>
            <a:rect l="l" t="t" r="r" b="b"/>
            <a:pathLst>
              <a:path w="558" h="60">
                <a:moveTo>
                  <a:pt x="0" y="18"/>
                </a:moveTo>
                <a:cubicBezTo>
                  <a:pt x="30" y="12"/>
                  <a:pt x="60" y="5"/>
                  <a:pt x="90" y="0"/>
                </a:cubicBezTo>
                <a:cubicBezTo>
                  <a:pt x="125" y="7"/>
                  <a:pt x="158" y="19"/>
                  <a:pt x="192" y="30"/>
                </a:cubicBezTo>
                <a:cubicBezTo>
                  <a:pt x="212" y="37"/>
                  <a:pt x="226" y="53"/>
                  <a:pt x="246" y="60"/>
                </a:cubicBezTo>
                <a:cubicBezTo>
                  <a:pt x="320" y="56"/>
                  <a:pt x="395" y="45"/>
                  <a:pt x="468" y="54"/>
                </a:cubicBezTo>
                <a:cubicBezTo>
                  <a:pt x="501" y="48"/>
                  <a:pt x="525" y="54"/>
                  <a:pt x="558" y="54"/>
                </a:cubicBez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95920" y="233352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cubicBezTo>
                  <a:pt x="6" y="2"/>
                  <a:pt x="18" y="6"/>
                  <a:pt x="18" y="6"/>
                </a:cubicBezTo>
                <a:cubicBezTo>
                  <a:pt x="18" y="6"/>
                  <a:pt x="6" y="2"/>
                  <a:pt x="0" y="0"/>
                </a:cubicBezTo>
                <a:close/>
              </a:path>
            </a:pathLst>
          </a:custGeom>
          <a:solidFill>
            <a:srgbClr val="bbe0e3"/>
          </a:solidFill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67440" y="2019240"/>
            <a:ext cx="68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534280" y="1828800"/>
            <a:ext cx="95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Rí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Mapo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593720" y="3390840"/>
            <a:ext cx="5451480" cy="1841400"/>
            <a:chOff x="1593720" y="3390840"/>
            <a:chExt cx="5451480" cy="1841400"/>
          </a:xfrm>
        </p:grpSpPr>
        <p:grpSp>
          <p:nvGrpSpPr>
            <p:cNvPr id="230" name=""/>
            <p:cNvGrpSpPr/>
            <p:nvPr/>
          </p:nvGrpSpPr>
          <p:grpSpPr>
            <a:xfrm>
              <a:off x="1593720" y="3390840"/>
              <a:ext cx="5451480" cy="1841400"/>
              <a:chOff x="1593720" y="3390840"/>
              <a:chExt cx="5451480" cy="1841400"/>
            </a:xfrm>
          </p:grpSpPr>
          <p:sp>
            <p:nvSpPr>
              <p:cNvPr id="231" name=""/>
              <p:cNvSpPr/>
              <p:nvPr/>
            </p:nvSpPr>
            <p:spPr>
              <a:xfrm>
                <a:off x="1593720" y="4149720"/>
                <a:ext cx="841320" cy="115920"/>
              </a:xfrm>
              <a:custGeom>
                <a:avLst/>
                <a:gdLst/>
                <a:ahLst/>
                <a:rect l="l" t="t" r="r" b="b"/>
                <a:pathLst>
                  <a:path w="530" h="73">
                    <a:moveTo>
                      <a:pt x="2" y="18"/>
                    </a:moveTo>
                    <a:cubicBezTo>
                      <a:pt x="20" y="73"/>
                      <a:pt x="0" y="39"/>
                      <a:pt x="106" y="34"/>
                    </a:cubicBezTo>
                    <a:cubicBezTo>
                      <a:pt x="186" y="30"/>
                      <a:pt x="266" y="29"/>
                      <a:pt x="346" y="26"/>
                    </a:cubicBezTo>
                    <a:cubicBezTo>
                      <a:pt x="354" y="18"/>
                      <a:pt x="359" y="3"/>
                      <a:pt x="370" y="2"/>
                    </a:cubicBezTo>
                    <a:cubicBezTo>
                      <a:pt x="387" y="0"/>
                      <a:pt x="418" y="18"/>
                      <a:pt x="418" y="18"/>
                    </a:cubicBezTo>
                    <a:cubicBezTo>
                      <a:pt x="434" y="65"/>
                      <a:pt x="486" y="66"/>
                      <a:pt x="530" y="66"/>
                    </a:cubicBezTo>
                  </a:path>
                </a:pathLst>
              </a:custGeom>
              <a:noFill/>
              <a:ln w="82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447640" y="3987720"/>
                <a:ext cx="304920" cy="216000"/>
              </a:xfrm>
              <a:custGeom>
                <a:avLst/>
                <a:gdLst/>
                <a:ahLst/>
                <a:rect l="l" t="t" r="r" b="b"/>
                <a:pathLst>
                  <a:path w="192" h="136">
                    <a:moveTo>
                      <a:pt x="0" y="136"/>
                    </a:moveTo>
                    <a:cubicBezTo>
                      <a:pt x="5" y="125"/>
                      <a:pt x="6" y="111"/>
                      <a:pt x="16" y="104"/>
                    </a:cubicBezTo>
                    <a:cubicBezTo>
                      <a:pt x="29" y="94"/>
                      <a:pt x="64" y="88"/>
                      <a:pt x="64" y="88"/>
                    </a:cubicBezTo>
                    <a:cubicBezTo>
                      <a:pt x="69" y="69"/>
                      <a:pt x="64" y="43"/>
                      <a:pt x="80" y="32"/>
                    </a:cubicBezTo>
                    <a:cubicBezTo>
                      <a:pt x="112" y="9"/>
                      <a:pt x="158" y="17"/>
                      <a:pt x="192" y="0"/>
                    </a:cubicBezTo>
                  </a:path>
                </a:pathLst>
              </a:custGeom>
              <a:noFill/>
              <a:ln w="82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688840" y="3960720"/>
                <a:ext cx="1194120" cy="534960"/>
              </a:xfrm>
              <a:custGeom>
                <a:avLst/>
                <a:gdLst/>
                <a:ahLst/>
                <a:rect l="l" t="t" r="r" b="b"/>
                <a:pathLst>
                  <a:path w="752" h="337">
                    <a:moveTo>
                      <a:pt x="0" y="17"/>
                    </a:moveTo>
                    <a:cubicBezTo>
                      <a:pt x="27" y="14"/>
                      <a:pt x="54" y="13"/>
                      <a:pt x="80" y="9"/>
                    </a:cubicBezTo>
                    <a:cubicBezTo>
                      <a:pt x="88" y="8"/>
                      <a:pt x="96" y="0"/>
                      <a:pt x="104" y="1"/>
                    </a:cubicBezTo>
                    <a:cubicBezTo>
                      <a:pt x="142" y="5"/>
                      <a:pt x="166" y="30"/>
                      <a:pt x="200" y="41"/>
                    </a:cubicBezTo>
                    <a:cubicBezTo>
                      <a:pt x="253" y="94"/>
                      <a:pt x="294" y="70"/>
                      <a:pt x="376" y="65"/>
                    </a:cubicBezTo>
                    <a:cubicBezTo>
                      <a:pt x="413" y="53"/>
                      <a:pt x="437" y="70"/>
                      <a:pt x="472" y="73"/>
                    </a:cubicBezTo>
                    <a:cubicBezTo>
                      <a:pt x="533" y="78"/>
                      <a:pt x="595" y="78"/>
                      <a:pt x="656" y="81"/>
                    </a:cubicBezTo>
                    <a:cubicBezTo>
                      <a:pt x="674" y="134"/>
                      <a:pt x="628" y="210"/>
                      <a:pt x="696" y="233"/>
                    </a:cubicBezTo>
                    <a:cubicBezTo>
                      <a:pt x="725" y="262"/>
                      <a:pt x="752" y="293"/>
                      <a:pt x="752" y="337"/>
                    </a:cubicBezTo>
                  </a:path>
                </a:pathLst>
              </a:custGeom>
              <a:noFill/>
              <a:ln w="82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882960" y="3924360"/>
                <a:ext cx="787320" cy="611280"/>
              </a:xfrm>
              <a:custGeom>
                <a:avLst/>
                <a:gdLst/>
                <a:ahLst/>
                <a:rect l="l" t="t" r="r" b="b"/>
                <a:pathLst>
                  <a:path w="496" h="385">
                    <a:moveTo>
                      <a:pt x="0" y="376"/>
                    </a:moveTo>
                    <a:cubicBezTo>
                      <a:pt x="95" y="360"/>
                      <a:pt x="17" y="385"/>
                      <a:pt x="64" y="344"/>
                    </a:cubicBezTo>
                    <a:cubicBezTo>
                      <a:pt x="78" y="331"/>
                      <a:pt x="112" y="312"/>
                      <a:pt x="112" y="312"/>
                    </a:cubicBezTo>
                    <a:cubicBezTo>
                      <a:pt x="117" y="304"/>
                      <a:pt x="120" y="294"/>
                      <a:pt x="128" y="288"/>
                    </a:cubicBezTo>
                    <a:cubicBezTo>
                      <a:pt x="135" y="283"/>
                      <a:pt x="146" y="286"/>
                      <a:pt x="152" y="280"/>
                    </a:cubicBezTo>
                    <a:cubicBezTo>
                      <a:pt x="216" y="216"/>
                      <a:pt x="154" y="242"/>
                      <a:pt x="208" y="224"/>
                    </a:cubicBezTo>
                    <a:cubicBezTo>
                      <a:pt x="213" y="216"/>
                      <a:pt x="217" y="207"/>
                      <a:pt x="224" y="200"/>
                    </a:cubicBezTo>
                    <a:cubicBezTo>
                      <a:pt x="231" y="193"/>
                      <a:pt x="242" y="191"/>
                      <a:pt x="248" y="184"/>
                    </a:cubicBezTo>
                    <a:cubicBezTo>
                      <a:pt x="301" y="124"/>
                      <a:pt x="255" y="144"/>
                      <a:pt x="304" y="128"/>
                    </a:cubicBezTo>
                    <a:cubicBezTo>
                      <a:pt x="312" y="120"/>
                      <a:pt x="319" y="110"/>
                      <a:pt x="328" y="104"/>
                    </a:cubicBezTo>
                    <a:cubicBezTo>
                      <a:pt x="335" y="99"/>
                      <a:pt x="345" y="101"/>
                      <a:pt x="352" y="96"/>
                    </a:cubicBezTo>
                    <a:cubicBezTo>
                      <a:pt x="360" y="90"/>
                      <a:pt x="360" y="77"/>
                      <a:pt x="368" y="72"/>
                    </a:cubicBezTo>
                    <a:cubicBezTo>
                      <a:pt x="373" y="69"/>
                      <a:pt x="454" y="35"/>
                      <a:pt x="464" y="32"/>
                    </a:cubicBezTo>
                    <a:cubicBezTo>
                      <a:pt x="483" y="3"/>
                      <a:pt x="471" y="12"/>
                      <a:pt x="496" y="0"/>
                    </a:cubicBezTo>
                  </a:path>
                </a:pathLst>
              </a:custGeom>
              <a:noFill/>
              <a:ln w="82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682880" y="3530520"/>
                <a:ext cx="749160" cy="368280"/>
              </a:xfrm>
              <a:custGeom>
                <a:avLst/>
                <a:gdLst/>
                <a:ahLst/>
                <a:rect l="l" t="t" r="r" b="b"/>
                <a:pathLst>
                  <a:path w="472" h="232">
                    <a:moveTo>
                      <a:pt x="0" y="232"/>
                    </a:moveTo>
                    <a:cubicBezTo>
                      <a:pt x="8" y="227"/>
                      <a:pt x="18" y="224"/>
                      <a:pt x="24" y="216"/>
                    </a:cubicBezTo>
                    <a:cubicBezTo>
                      <a:pt x="29" y="209"/>
                      <a:pt x="26" y="198"/>
                      <a:pt x="32" y="192"/>
                    </a:cubicBezTo>
                    <a:cubicBezTo>
                      <a:pt x="38" y="186"/>
                      <a:pt x="48" y="187"/>
                      <a:pt x="56" y="184"/>
                    </a:cubicBezTo>
                    <a:cubicBezTo>
                      <a:pt x="67" y="179"/>
                      <a:pt x="77" y="172"/>
                      <a:pt x="88" y="168"/>
                    </a:cubicBezTo>
                    <a:cubicBezTo>
                      <a:pt x="104" y="162"/>
                      <a:pt x="136" y="152"/>
                      <a:pt x="136" y="152"/>
                    </a:cubicBezTo>
                    <a:cubicBezTo>
                      <a:pt x="164" y="110"/>
                      <a:pt x="216" y="118"/>
                      <a:pt x="264" y="112"/>
                    </a:cubicBezTo>
                    <a:cubicBezTo>
                      <a:pt x="291" y="103"/>
                      <a:pt x="317" y="97"/>
                      <a:pt x="344" y="88"/>
                    </a:cubicBezTo>
                    <a:cubicBezTo>
                      <a:pt x="364" y="58"/>
                      <a:pt x="398" y="43"/>
                      <a:pt x="432" y="32"/>
                    </a:cubicBezTo>
                    <a:cubicBezTo>
                      <a:pt x="437" y="24"/>
                      <a:pt x="440" y="14"/>
                      <a:pt x="448" y="8"/>
                    </a:cubicBezTo>
                    <a:cubicBezTo>
                      <a:pt x="455" y="3"/>
                      <a:pt x="472" y="0"/>
                      <a:pt x="472" y="0"/>
                    </a:cubicBezTo>
                  </a:path>
                </a:pathLst>
              </a:custGeom>
              <a:noFill/>
              <a:ln w="82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381280" y="3390840"/>
                <a:ext cx="787680" cy="190440"/>
              </a:xfrm>
              <a:custGeom>
                <a:avLst/>
                <a:gdLst/>
                <a:ahLst/>
                <a:rect l="l" t="t" r="r" b="b"/>
                <a:pathLst>
                  <a:path w="496" h="120">
                    <a:moveTo>
                      <a:pt x="0" y="120"/>
                    </a:moveTo>
                    <a:cubicBezTo>
                      <a:pt x="17" y="114"/>
                      <a:pt x="31" y="102"/>
                      <a:pt x="48" y="96"/>
                    </a:cubicBezTo>
                    <a:cubicBezTo>
                      <a:pt x="74" y="87"/>
                      <a:pt x="102" y="87"/>
                      <a:pt x="128" y="80"/>
                    </a:cubicBezTo>
                    <a:cubicBezTo>
                      <a:pt x="184" y="99"/>
                      <a:pt x="136" y="59"/>
                      <a:pt x="184" y="32"/>
                    </a:cubicBezTo>
                    <a:cubicBezTo>
                      <a:pt x="221" y="12"/>
                      <a:pt x="265" y="13"/>
                      <a:pt x="304" y="0"/>
                    </a:cubicBezTo>
                    <a:cubicBezTo>
                      <a:pt x="320" y="3"/>
                      <a:pt x="336" y="5"/>
                      <a:pt x="352" y="8"/>
                    </a:cubicBezTo>
                    <a:cubicBezTo>
                      <a:pt x="374" y="13"/>
                      <a:pt x="416" y="24"/>
                      <a:pt x="416" y="24"/>
                    </a:cubicBezTo>
                    <a:cubicBezTo>
                      <a:pt x="443" y="42"/>
                      <a:pt x="463" y="48"/>
                      <a:pt x="496" y="48"/>
                    </a:cubicBezTo>
                  </a:path>
                </a:pathLst>
              </a:custGeom>
              <a:noFill/>
              <a:ln w="82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206760" y="3556080"/>
                <a:ext cx="838440" cy="1676160"/>
              </a:xfrm>
              <a:custGeom>
                <a:avLst/>
                <a:gdLst/>
                <a:ahLst/>
                <a:rect l="l" t="t" r="r" b="b"/>
                <a:pathLst>
                  <a:path w="528" h="1056">
                    <a:moveTo>
                      <a:pt x="0" y="0"/>
                    </a:moveTo>
                    <a:cubicBezTo>
                      <a:pt x="7" y="84"/>
                      <a:pt x="8" y="235"/>
                      <a:pt x="88" y="288"/>
                    </a:cubicBezTo>
                    <a:cubicBezTo>
                      <a:pt x="98" y="303"/>
                      <a:pt x="101" y="322"/>
                      <a:pt x="112" y="336"/>
                    </a:cubicBezTo>
                    <a:cubicBezTo>
                      <a:pt x="129" y="357"/>
                      <a:pt x="169" y="369"/>
                      <a:pt x="192" y="384"/>
                    </a:cubicBezTo>
                    <a:cubicBezTo>
                      <a:pt x="197" y="392"/>
                      <a:pt x="200" y="402"/>
                      <a:pt x="208" y="408"/>
                    </a:cubicBezTo>
                    <a:cubicBezTo>
                      <a:pt x="215" y="413"/>
                      <a:pt x="227" y="409"/>
                      <a:pt x="232" y="416"/>
                    </a:cubicBezTo>
                    <a:cubicBezTo>
                      <a:pt x="273" y="473"/>
                      <a:pt x="222" y="455"/>
                      <a:pt x="272" y="480"/>
                    </a:cubicBezTo>
                    <a:cubicBezTo>
                      <a:pt x="280" y="484"/>
                      <a:pt x="288" y="485"/>
                      <a:pt x="296" y="488"/>
                    </a:cubicBezTo>
                    <a:cubicBezTo>
                      <a:pt x="318" y="522"/>
                      <a:pt x="334" y="509"/>
                      <a:pt x="352" y="544"/>
                    </a:cubicBezTo>
                    <a:cubicBezTo>
                      <a:pt x="383" y="606"/>
                      <a:pt x="369" y="662"/>
                      <a:pt x="432" y="704"/>
                    </a:cubicBezTo>
                    <a:cubicBezTo>
                      <a:pt x="441" y="730"/>
                      <a:pt x="455" y="750"/>
                      <a:pt x="464" y="776"/>
                    </a:cubicBezTo>
                    <a:cubicBezTo>
                      <a:pt x="458" y="857"/>
                      <a:pt x="441" y="945"/>
                      <a:pt x="488" y="1016"/>
                    </a:cubicBezTo>
                    <a:cubicBezTo>
                      <a:pt x="496" y="1047"/>
                      <a:pt x="494" y="1056"/>
                      <a:pt x="528" y="1056"/>
                    </a:cubicBezTo>
                  </a:path>
                </a:pathLst>
              </a:custGeom>
              <a:noFill/>
              <a:ln w="82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6130800" y="3467160"/>
              <a:ext cx="75960" cy="88920"/>
            </a:xfrm>
            <a:custGeom>
              <a:avLst/>
              <a:gdLst/>
              <a:ahLst/>
              <a:rect l="l" t="t" r="r" b="b"/>
              <a:pathLst>
                <a:path w="48" h="56">
                  <a:moveTo>
                    <a:pt x="0" y="0"/>
                  </a:moveTo>
                  <a:cubicBezTo>
                    <a:pt x="32" y="21"/>
                    <a:pt x="23" y="31"/>
                    <a:pt x="48" y="56"/>
                  </a:cubicBezTo>
                </a:path>
              </a:pathLst>
            </a:custGeom>
            <a:noFill/>
            <a:ln w="82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1647360" y="419112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Río Mai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3203400">
            <a:off x="6083640" y="432468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Río Mai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43560" y="2666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43520" y="2286000"/>
            <a:ext cx="164880" cy="162000"/>
          </a:xfrm>
          <a:custGeom>
            <a:avLst/>
            <a:gdLst/>
            <a:ahLst/>
            <a:rect l="l" t="t" r="r" b="b"/>
            <a:pathLst>
              <a:path w="104" h="102">
                <a:moveTo>
                  <a:pt x="0" y="54"/>
                </a:moveTo>
                <a:cubicBezTo>
                  <a:pt x="6" y="24"/>
                  <a:pt x="6" y="10"/>
                  <a:pt x="36" y="0"/>
                </a:cubicBezTo>
                <a:cubicBezTo>
                  <a:pt x="55" y="19"/>
                  <a:pt x="54" y="34"/>
                  <a:pt x="78" y="42"/>
                </a:cubicBezTo>
                <a:cubicBezTo>
                  <a:pt x="82" y="48"/>
                  <a:pt x="87" y="53"/>
                  <a:pt x="90" y="60"/>
                </a:cubicBezTo>
                <a:cubicBezTo>
                  <a:pt x="95" y="72"/>
                  <a:pt x="98" y="84"/>
                  <a:pt x="102" y="96"/>
                </a:cubicBezTo>
                <a:cubicBezTo>
                  <a:pt x="104" y="102"/>
                  <a:pt x="90" y="92"/>
                  <a:pt x="84" y="90"/>
                </a:cubicBezTo>
                <a:cubicBezTo>
                  <a:pt x="76" y="88"/>
                  <a:pt x="68" y="86"/>
                  <a:pt x="60" y="84"/>
                </a:cubicBezTo>
                <a:cubicBezTo>
                  <a:pt x="42" y="79"/>
                  <a:pt x="13" y="67"/>
                  <a:pt x="0" y="54"/>
                </a:cubicBezTo>
                <a:close/>
              </a:path>
            </a:pathLst>
          </a:custGeom>
          <a:solidFill>
            <a:srgbClr val="b7b3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492920" y="3670200"/>
            <a:ext cx="840600" cy="368280"/>
            <a:chOff x="1492920" y="3670200"/>
            <a:chExt cx="840600" cy="368280"/>
          </a:xfrm>
        </p:grpSpPr>
        <p:sp>
          <p:nvSpPr>
            <p:cNvPr id="244" name=""/>
            <p:cNvSpPr/>
            <p:nvPr/>
          </p:nvSpPr>
          <p:spPr>
            <a:xfrm>
              <a:off x="2104920" y="3809880"/>
              <a:ext cx="22860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92920" y="3670200"/>
              <a:ext cx="736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Melipill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257560" y="3352680"/>
            <a:ext cx="838080" cy="457200"/>
            <a:chOff x="2257560" y="3352680"/>
            <a:chExt cx="838080" cy="457200"/>
          </a:xfrm>
        </p:grpSpPr>
        <p:sp>
          <p:nvSpPr>
            <p:cNvPr id="247" name=""/>
            <p:cNvSpPr/>
            <p:nvPr/>
          </p:nvSpPr>
          <p:spPr>
            <a:xfrm>
              <a:off x="2638440" y="3581280"/>
              <a:ext cx="22860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57560" y="3352680"/>
              <a:ext cx="838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Pomai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943000" y="3594240"/>
            <a:ext cx="766080" cy="444240"/>
            <a:chOff x="2943000" y="3594240"/>
            <a:chExt cx="766080" cy="444240"/>
          </a:xfrm>
        </p:grpSpPr>
        <p:sp>
          <p:nvSpPr>
            <p:cNvPr id="250" name=""/>
            <p:cNvSpPr/>
            <p:nvPr/>
          </p:nvSpPr>
          <p:spPr>
            <a:xfrm>
              <a:off x="2943000" y="3594240"/>
              <a:ext cx="766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El Mon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324240" y="3809880"/>
              <a:ext cx="228600" cy="2286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 rot="1463400">
            <a:off x="4538160" y="4129200"/>
            <a:ext cx="381240" cy="685800"/>
          </a:xfrm>
          <a:prstGeom prst="ellipse">
            <a:avLst/>
          </a:prstGeom>
          <a:solidFill>
            <a:srgbClr val="ff3300">
              <a:alpha val="50000"/>
            </a:srgbClr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33720" y="4419720"/>
            <a:ext cx="228600" cy="1522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2320800">
            <a:off x="4238280" y="3885840"/>
            <a:ext cx="380880" cy="609480"/>
          </a:xfrm>
          <a:prstGeom prst="ellipse">
            <a:avLst/>
          </a:prstGeom>
          <a:solidFill>
            <a:srgbClr val="666633">
              <a:alpha val="50000"/>
            </a:srgbClr>
          </a:solidFill>
          <a:ln w="284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81440" y="4114800"/>
            <a:ext cx="228600" cy="228600"/>
          </a:xfrm>
          <a:prstGeom prst="ellipse">
            <a:avLst/>
          </a:prstGeom>
          <a:solidFill>
            <a:srgbClr val="666633">
              <a:alpha val="50000"/>
            </a:srgbClr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14760" y="2362320"/>
            <a:ext cx="228600" cy="228600"/>
          </a:xfrm>
          <a:prstGeom prst="ellipse">
            <a:avLst/>
          </a:prstGeom>
          <a:solidFill>
            <a:srgbClr val="666633">
              <a:alpha val="50000"/>
            </a:srgbClr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05320" y="3048120"/>
            <a:ext cx="972360" cy="609480"/>
            <a:chOff x="5305320" y="3048120"/>
            <a:chExt cx="972360" cy="609480"/>
          </a:xfrm>
        </p:grpSpPr>
        <p:sp>
          <p:nvSpPr>
            <p:cNvPr id="258" name=""/>
            <p:cNvSpPr/>
            <p:nvPr/>
          </p:nvSpPr>
          <p:spPr>
            <a:xfrm>
              <a:off x="5305320" y="3276720"/>
              <a:ext cx="762120" cy="380880"/>
            </a:xfrm>
            <a:prstGeom prst="ellipse">
              <a:avLst/>
            </a:prstGeom>
            <a:solidFill>
              <a:srgbClr val="6666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58320" y="3048120"/>
              <a:ext cx="819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El Canel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143760" y="3200400"/>
            <a:ext cx="1064160" cy="428760"/>
            <a:chOff x="6143760" y="3200400"/>
            <a:chExt cx="1064160" cy="428760"/>
          </a:xfrm>
        </p:grpSpPr>
        <p:sp>
          <p:nvSpPr>
            <p:cNvPr id="261" name=""/>
            <p:cNvSpPr/>
            <p:nvPr/>
          </p:nvSpPr>
          <p:spPr>
            <a:xfrm>
              <a:off x="6143760" y="3352680"/>
              <a:ext cx="304560" cy="228600"/>
            </a:xfrm>
            <a:prstGeom prst="ellipse">
              <a:avLst/>
            </a:prstGeo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373440" y="3200400"/>
              <a:ext cx="8344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San José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de Maip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3246840" y="3040560"/>
            <a:ext cx="1494720" cy="996120"/>
            <a:chOff x="3246840" y="3040560"/>
            <a:chExt cx="1494720" cy="996120"/>
          </a:xfrm>
        </p:grpSpPr>
        <p:sp>
          <p:nvSpPr>
            <p:cNvPr id="264" name=""/>
            <p:cNvSpPr/>
            <p:nvPr/>
          </p:nvSpPr>
          <p:spPr>
            <a:xfrm rot="20283600">
              <a:off x="3698640" y="3192120"/>
              <a:ext cx="947520" cy="692280"/>
            </a:xfrm>
            <a:prstGeom prst="ellipse">
              <a:avLst/>
            </a:prstGeom>
            <a:solidFill>
              <a:srgbClr val="ffff66">
                <a:alpha val="50000"/>
              </a:srgbClr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21566400">
              <a:off x="3247920" y="3047760"/>
              <a:ext cx="838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Talagan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2030040" y="2286000"/>
            <a:ext cx="772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 u="sng">
                <a:solidFill>
                  <a:srgbClr val="000000"/>
                </a:solidFill>
                <a:uFillTx/>
                <a:latin typeface="Arial"/>
              </a:rPr>
              <a:t>Curacav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353760" y="4343400"/>
            <a:ext cx="756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 u="sng">
                <a:solidFill>
                  <a:srgbClr val="000000"/>
                </a:solidFill>
                <a:uFillTx/>
                <a:latin typeface="Arial"/>
              </a:rPr>
              <a:t>Valdiv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 u="sng">
                <a:solidFill>
                  <a:srgbClr val="000000"/>
                </a:solidFill>
                <a:uFillTx/>
                <a:latin typeface="Arial"/>
              </a:rPr>
              <a:t>de Pai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49560" y="4343400"/>
            <a:ext cx="554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 u="sng">
                <a:solidFill>
                  <a:srgbClr val="000000"/>
                </a:solidFill>
                <a:uFillTx/>
                <a:latin typeface="Arial"/>
              </a:rPr>
              <a:t>Pai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18440" y="3886200"/>
            <a:ext cx="1023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 u="sng">
                <a:solidFill>
                  <a:srgbClr val="000000"/>
                </a:solidFill>
                <a:uFillTx/>
                <a:latin typeface="Arial"/>
              </a:rPr>
              <a:t>Buin - Maip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162320" y="5486400"/>
            <a:ext cx="1905120" cy="956880"/>
            <a:chOff x="4162320" y="5486400"/>
            <a:chExt cx="1905120" cy="956880"/>
          </a:xfrm>
        </p:grpSpPr>
        <p:sp>
          <p:nvSpPr>
            <p:cNvPr id="271" name=""/>
            <p:cNvSpPr/>
            <p:nvPr/>
          </p:nvSpPr>
          <p:spPr>
            <a:xfrm>
              <a:off x="4162320" y="5486400"/>
              <a:ext cx="1905120" cy="95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Constru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Proye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90920" y="5638680"/>
              <a:ext cx="152280" cy="1522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90920" y="586728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90920" y="6172200"/>
              <a:ext cx="152280" cy="1522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4932360" y="2209680"/>
            <a:ext cx="185760" cy="223920"/>
          </a:xfrm>
          <a:custGeom>
            <a:avLst/>
            <a:gdLst/>
            <a:ahLst/>
            <a:rect l="l" t="t" r="r" b="b"/>
            <a:pathLst>
              <a:path w="117" h="141">
                <a:moveTo>
                  <a:pt x="13" y="88"/>
                </a:moveTo>
                <a:cubicBezTo>
                  <a:pt x="59" y="58"/>
                  <a:pt x="20" y="48"/>
                  <a:pt x="69" y="32"/>
                </a:cubicBezTo>
                <a:cubicBezTo>
                  <a:pt x="95" y="110"/>
                  <a:pt x="53" y="0"/>
                  <a:pt x="101" y="72"/>
                </a:cubicBezTo>
                <a:cubicBezTo>
                  <a:pt x="112" y="88"/>
                  <a:pt x="111" y="110"/>
                  <a:pt x="117" y="128"/>
                </a:cubicBezTo>
                <a:cubicBezTo>
                  <a:pt x="78" y="141"/>
                  <a:pt x="79" y="125"/>
                  <a:pt x="45" y="112"/>
                </a:cubicBezTo>
                <a:cubicBezTo>
                  <a:pt x="32" y="107"/>
                  <a:pt x="16" y="112"/>
                  <a:pt x="5" y="104"/>
                </a:cubicBezTo>
                <a:cubicBezTo>
                  <a:pt x="0" y="100"/>
                  <a:pt x="10" y="93"/>
                  <a:pt x="13" y="88"/>
                </a:cubicBezTo>
                <a:close/>
              </a:path>
            </a:pathLst>
          </a:custGeom>
          <a:solidFill>
            <a:srgbClr val="b7b3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508720" y="2214720"/>
            <a:ext cx="106200" cy="83880"/>
          </a:xfrm>
          <a:custGeom>
            <a:avLst/>
            <a:gdLst/>
            <a:ahLst/>
            <a:rect l="l" t="t" r="r" b="b"/>
            <a:pathLst>
              <a:path w="67" h="53">
                <a:moveTo>
                  <a:pt x="18" y="13"/>
                </a:moveTo>
                <a:cubicBezTo>
                  <a:pt x="29" y="16"/>
                  <a:pt x="43" y="12"/>
                  <a:pt x="50" y="21"/>
                </a:cubicBezTo>
                <a:cubicBezTo>
                  <a:pt x="67" y="44"/>
                  <a:pt x="22" y="52"/>
                  <a:pt x="18" y="53"/>
                </a:cubicBezTo>
                <a:cubicBezTo>
                  <a:pt x="13" y="45"/>
                  <a:pt x="0" y="38"/>
                  <a:pt x="2" y="29"/>
                </a:cubicBezTo>
                <a:cubicBezTo>
                  <a:pt x="9" y="0"/>
                  <a:pt x="41" y="36"/>
                  <a:pt x="18" y="13"/>
                </a:cubicBezTo>
                <a:close/>
              </a:path>
            </a:pathLst>
          </a:custGeom>
          <a:solidFill>
            <a:srgbClr val="b7b3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99000" y="2473200"/>
            <a:ext cx="42840" cy="90720"/>
          </a:xfrm>
          <a:custGeom>
            <a:avLst/>
            <a:gdLst/>
            <a:ahLst/>
            <a:rect l="l" t="t" r="r" b="b"/>
            <a:pathLst>
              <a:path w="27" h="57">
                <a:moveTo>
                  <a:pt x="24" y="2"/>
                </a:moveTo>
                <a:cubicBezTo>
                  <a:pt x="21" y="18"/>
                  <a:pt x="27" y="39"/>
                  <a:pt x="16" y="50"/>
                </a:cubicBezTo>
                <a:cubicBezTo>
                  <a:pt x="9" y="57"/>
                  <a:pt x="0" y="36"/>
                  <a:pt x="0" y="26"/>
                </a:cubicBezTo>
                <a:cubicBezTo>
                  <a:pt x="0" y="0"/>
                  <a:pt x="11" y="2"/>
                  <a:pt x="24" y="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78160" y="2057400"/>
            <a:ext cx="1012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 u="sng">
                <a:solidFill>
                  <a:srgbClr val="000000"/>
                </a:solidFill>
                <a:uFillTx/>
                <a:latin typeface="Arial"/>
              </a:rPr>
              <a:t>Los Nog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353040" y="2438280"/>
            <a:ext cx="889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 u="sng">
                <a:solidFill>
                  <a:srgbClr val="000000"/>
                </a:solidFill>
                <a:uFillTx/>
                <a:latin typeface="Arial"/>
              </a:rPr>
              <a:t>La Farfa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352680" y="2743200"/>
            <a:ext cx="77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 u="sng">
                <a:solidFill>
                  <a:srgbClr val="000000"/>
                </a:solidFill>
                <a:uFillTx/>
                <a:latin typeface="Arial"/>
              </a:rPr>
              <a:t>El Treb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190760" y="2286000"/>
            <a:ext cx="228960" cy="76320"/>
            <a:chOff x="4190760" y="2286000"/>
            <a:chExt cx="228960" cy="76320"/>
          </a:xfrm>
        </p:grpSpPr>
        <p:sp>
          <p:nvSpPr>
            <p:cNvPr id="282" name=""/>
            <p:cNvSpPr/>
            <p:nvPr/>
          </p:nvSpPr>
          <p:spPr>
            <a:xfrm flipH="1">
              <a:off x="4305240" y="2362320"/>
              <a:ext cx="11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4190760" y="2286000"/>
              <a:ext cx="1141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114440" y="2590920"/>
            <a:ext cx="305280" cy="151920"/>
            <a:chOff x="4114440" y="2590920"/>
            <a:chExt cx="305280" cy="151920"/>
          </a:xfrm>
        </p:grpSpPr>
        <p:sp>
          <p:nvSpPr>
            <p:cNvPr id="285" name=""/>
            <p:cNvSpPr/>
            <p:nvPr/>
          </p:nvSpPr>
          <p:spPr>
            <a:xfrm flipH="1">
              <a:off x="4267080" y="274284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4114440" y="2590920"/>
              <a:ext cx="15228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038120" y="2895480"/>
            <a:ext cx="228960" cy="76320"/>
            <a:chOff x="4038120" y="2895480"/>
            <a:chExt cx="228960" cy="76320"/>
          </a:xfrm>
        </p:grpSpPr>
        <p:sp>
          <p:nvSpPr>
            <p:cNvPr id="288" name=""/>
            <p:cNvSpPr/>
            <p:nvPr/>
          </p:nvSpPr>
          <p:spPr>
            <a:xfrm flipH="1">
              <a:off x="4152600" y="2971800"/>
              <a:ext cx="11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4038120" y="2895480"/>
              <a:ext cx="1141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lan de saneamiento de aguas serv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651640" y="6381720"/>
            <a:ext cx="3313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Arial"/>
              </a:rPr>
              <a:t>Fuente: Aguas Andinas S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6560" y="1557360"/>
            <a:ext cx="42498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acterización de descar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74920" y="2287440"/>
            <a:ext cx="1873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042920" y="2349360"/>
            <a:ext cx="504720" cy="414360"/>
          </a:xfrm>
          <a:prstGeom prst="rightArrow">
            <a:avLst>
              <a:gd name="adj1" fmla="val 50000"/>
              <a:gd name="adj2" fmla="val 3045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5400000">
            <a:off x="2237400" y="2883600"/>
            <a:ext cx="708120" cy="503280"/>
          </a:xfrm>
          <a:custGeom>
            <a:avLst/>
            <a:gdLst>
              <a:gd name="textAreaLeft" fmla="*/ 236160 w 708120"/>
              <a:gd name="textAreaRight" fmla="*/ 606600 w 708120"/>
              <a:gd name="textAreaTop" fmla="*/ 289800 h 503280"/>
              <a:gd name="textAreaBottom" fmla="*/ 4312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59280" y="2852640"/>
            <a:ext cx="4464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olo industrias con descarga  a aguas superficiales (SISS, CNR) (list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74920" y="4027320"/>
            <a:ext cx="4105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aminación dif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042920" y="4089240"/>
            <a:ext cx="504720" cy="414360"/>
          </a:xfrm>
          <a:prstGeom prst="rightArrow">
            <a:avLst>
              <a:gd name="adj1" fmla="val 50000"/>
              <a:gd name="adj2" fmla="val 3045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237400" y="4623480"/>
            <a:ext cx="708120" cy="503280"/>
          </a:xfrm>
          <a:custGeom>
            <a:avLst/>
            <a:gdLst>
              <a:gd name="textAreaLeft" fmla="*/ 236160 w 708120"/>
              <a:gd name="textAreaRight" fmla="*/ 606600 w 708120"/>
              <a:gd name="textAreaTop" fmla="*/ 289800 h 503280"/>
              <a:gd name="textAreaBottom" fmla="*/ 4312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059280" y="4778280"/>
            <a:ext cx="4752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sticidas (carbofurano y clorotalon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6560" y="1557360"/>
            <a:ext cx="76345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atos de Calidad (Fuentes de inform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762200" y="2425680"/>
            <a:ext cx="684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nitoreo de calidad de aguas de la DGA(1984-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87280" y="2487600"/>
            <a:ext cx="360360" cy="343080"/>
          </a:xfrm>
          <a:prstGeom prst="rightArrow">
            <a:avLst>
              <a:gd name="adj1" fmla="val 50000"/>
              <a:gd name="adj2" fmla="val 2625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763640" y="4653000"/>
            <a:ext cx="684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formación Aguas And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87280" y="4714920"/>
            <a:ext cx="360360" cy="342720"/>
          </a:xfrm>
          <a:prstGeom prst="rightArrow">
            <a:avLst>
              <a:gd name="adj1" fmla="val 50000"/>
              <a:gd name="adj2" fmla="val 2628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762200" y="3289320"/>
            <a:ext cx="684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grama de Tratamiento de aguas servidas del Gran Santiago, Julio 1995 (Informe Final “Modelo hidrológico y calidad de aguas”(MOP-CA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87280" y="3351240"/>
            <a:ext cx="360360" cy="342720"/>
          </a:xfrm>
          <a:prstGeom prst="rightArrow">
            <a:avLst>
              <a:gd name="adj1" fmla="val 50000"/>
              <a:gd name="adj2" fmla="val 2628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763640" y="5307120"/>
            <a:ext cx="684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grama de muestreo CADE-IDE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87280" y="5369040"/>
            <a:ext cx="360360" cy="342720"/>
          </a:xfrm>
          <a:prstGeom prst="rightArrow">
            <a:avLst>
              <a:gd name="adj1" fmla="val 50000"/>
              <a:gd name="adj2" fmla="val 2628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26920" y="1916280"/>
            <a:ext cx="6913800" cy="39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ección de la cuenca y definición de cau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Análisis y procesamiento de la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lidad actual y natural de los cursos superfi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posición de las clase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tros aspectos relev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2971800"/>
            <a:ext cx="6629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.1. Análisis por est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dividen las subcuen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indican áreas y alt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 de régi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1981080"/>
            <a:ext cx="67816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.1. Análisis información fluviomét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56000" y="2565360"/>
            <a:ext cx="720720" cy="341280"/>
          </a:xfrm>
          <a:prstGeom prst="rightArrow">
            <a:avLst>
              <a:gd name="adj1" fmla="val 50000"/>
              <a:gd name="adj2" fmla="val 5279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42920" y="2276640"/>
            <a:ext cx="136836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.G.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2133720"/>
            <a:ext cx="345600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agnostico y Clasificación de Cursos y Cuerpos de Aguas según objetivos de C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116000">
            <a:off x="2837160" y="3391200"/>
            <a:ext cx="1911240" cy="921600"/>
          </a:xfrm>
          <a:custGeom>
            <a:avLst/>
            <a:gdLst>
              <a:gd name="textAreaLeft" fmla="*/ 0 w 1911240"/>
              <a:gd name="textAreaRight" fmla="*/ 1911600 w 1911240"/>
              <a:gd name="textAreaTop" fmla="*/ 219240 h 921600"/>
              <a:gd name="textAreaBottom" fmla="*/ 702360 h 921600"/>
            </a:gdLst>
            <a:ahLst/>
            <a:rect l="textAreaLeft" t="textAreaTop" r="textAreaRight" b="textAreaBottom"/>
            <a:pathLst>
              <a:path w="21600" h="21600">
                <a:moveTo>
                  <a:pt x="0" y="5139"/>
                </a:moveTo>
                <a:lnTo>
                  <a:pt x="0" y="16461"/>
                </a:lnTo>
                <a:lnTo>
                  <a:pt x="7577" y="16461"/>
                </a:lnTo>
                <a:lnTo>
                  <a:pt x="7577" y="18406"/>
                </a:lnTo>
                <a:lnTo>
                  <a:pt x="5367" y="18406"/>
                </a:lnTo>
                <a:lnTo>
                  <a:pt x="10800" y="21600"/>
                </a:lnTo>
                <a:lnTo>
                  <a:pt x="16233" y="18406"/>
                </a:lnTo>
                <a:lnTo>
                  <a:pt x="14023" y="18406"/>
                </a:lnTo>
                <a:lnTo>
                  <a:pt x="14023" y="16461"/>
                </a:lnTo>
                <a:lnTo>
                  <a:pt x="21600" y="16461"/>
                </a:lnTo>
                <a:lnTo>
                  <a:pt x="21600" y="5139"/>
                </a:lnTo>
                <a:lnTo>
                  <a:pt x="14023" y="5139"/>
                </a:lnTo>
                <a:lnTo>
                  <a:pt x="14023" y="3194"/>
                </a:lnTo>
                <a:lnTo>
                  <a:pt x="16233" y="3194"/>
                </a:lnTo>
                <a:lnTo>
                  <a:pt x="10800" y="0"/>
                </a:lnTo>
                <a:lnTo>
                  <a:pt x="5367" y="3194"/>
                </a:lnTo>
                <a:lnTo>
                  <a:pt x="7577" y="3194"/>
                </a:lnTo>
                <a:lnTo>
                  <a:pt x="7577" y="5139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ENEFICI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92360" y="4508640"/>
            <a:ext cx="316872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ios Públicos, Agricultores en general, Minería, CONAMA y Particul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0527200">
            <a:off x="5585400" y="3391560"/>
            <a:ext cx="1911240" cy="921600"/>
          </a:xfrm>
          <a:custGeom>
            <a:avLst/>
            <a:gdLst>
              <a:gd name="textAreaLeft" fmla="*/ 0 w 1911240"/>
              <a:gd name="textAreaRight" fmla="*/ 1911600 w 1911240"/>
              <a:gd name="textAreaTop" fmla="*/ 219240 h 921600"/>
              <a:gd name="textAreaBottom" fmla="*/ 702360 h 921600"/>
            </a:gdLst>
            <a:ahLst/>
            <a:rect l="textAreaLeft" t="textAreaTop" r="textAreaRight" b="textAreaBottom"/>
            <a:pathLst>
              <a:path w="21600" h="21600">
                <a:moveTo>
                  <a:pt x="0" y="5139"/>
                </a:moveTo>
                <a:lnTo>
                  <a:pt x="0" y="16461"/>
                </a:lnTo>
                <a:lnTo>
                  <a:pt x="7577" y="16461"/>
                </a:lnTo>
                <a:lnTo>
                  <a:pt x="7577" y="18406"/>
                </a:lnTo>
                <a:lnTo>
                  <a:pt x="5367" y="18406"/>
                </a:lnTo>
                <a:lnTo>
                  <a:pt x="10800" y="21600"/>
                </a:lnTo>
                <a:lnTo>
                  <a:pt x="16233" y="18406"/>
                </a:lnTo>
                <a:lnTo>
                  <a:pt x="14023" y="18406"/>
                </a:lnTo>
                <a:lnTo>
                  <a:pt x="14023" y="16461"/>
                </a:lnTo>
                <a:lnTo>
                  <a:pt x="21600" y="16461"/>
                </a:lnTo>
                <a:lnTo>
                  <a:pt x="21600" y="5139"/>
                </a:lnTo>
                <a:lnTo>
                  <a:pt x="14023" y="5139"/>
                </a:lnTo>
                <a:lnTo>
                  <a:pt x="14023" y="3194"/>
                </a:lnTo>
                <a:lnTo>
                  <a:pt x="16233" y="3194"/>
                </a:lnTo>
                <a:lnTo>
                  <a:pt x="10800" y="0"/>
                </a:lnTo>
                <a:lnTo>
                  <a:pt x="5367" y="3194"/>
                </a:lnTo>
                <a:lnTo>
                  <a:pt x="7577" y="3194"/>
                </a:lnTo>
                <a:lnTo>
                  <a:pt x="7577" y="5139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MPA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1280" y="4508640"/>
            <a:ext cx="3168360" cy="14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ificar las aguas Continentales del país según objetivos de calidad para la aplicación de normas de calidad ambiental del recurso hídr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527840" y="1905120"/>
            <a:ext cx="127944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71800" y="2133720"/>
            <a:ext cx="609480" cy="333360"/>
          </a:xfrm>
          <a:prstGeom prst="rightArrow">
            <a:avLst>
              <a:gd name="adj1" fmla="val 50000"/>
              <a:gd name="adj2" fmla="val 4570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733920" y="1905120"/>
            <a:ext cx="36576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ción las Hualta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693396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527840" y="1905120"/>
            <a:ext cx="127944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971800" y="2133720"/>
            <a:ext cx="609480" cy="333360"/>
          </a:xfrm>
          <a:prstGeom prst="rightArrow">
            <a:avLst>
              <a:gd name="adj1" fmla="val 50000"/>
              <a:gd name="adj2" fmla="val 4570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733920" y="1905120"/>
            <a:ext cx="36576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ción las Hualta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981080" y="2895480"/>
            <a:ext cx="4903920" cy="321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914400" y="2971800"/>
            <a:ext cx="6629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.1.2 Conclus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bcuenca alta del Mai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bcuenca media del Mai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bcuenca baja del Mai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bcuenca alta del Mapoc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bcuenca baja del Mapoc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" y="1981080"/>
            <a:ext cx="67816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.1. Análisis información fluviomét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66680" y="3048120"/>
            <a:ext cx="22860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ío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esti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1447920" y="4038480"/>
            <a:ext cx="5943600" cy="16923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 flipV="1">
            <a:off x="3276720" y="3276000"/>
            <a:ext cx="609480" cy="685800"/>
          </a:xfrm>
          <a:custGeom>
            <a:avLst/>
            <a:gdLst>
              <a:gd name="textAreaLeft" fmla="*/ 203040 w 609480"/>
              <a:gd name="textAreaRight" fmla="*/ 522000 w 609480"/>
              <a:gd name="textAreaTop" fmla="*/ 39492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1981080"/>
            <a:ext cx="67816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.1. Análisis información fluviomét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066680" y="1990800"/>
            <a:ext cx="59436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 Análisis de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066680" y="28954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.2.1. Selección de pará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. obligatori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: pH, DBO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CE,OD, SS y 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. Princip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RAS, Nitrito,Cloruro, Sulfato, Cu, Cr total, Arsénico, Plomo,Al, Mn, Mo, Zinc, Coliformes totales y hier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66680" y="1600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1. Selección de parámetro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abla 4.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rcRect l="0" t="3451" r="0" b="0"/>
          <a:stretch/>
        </p:blipFill>
        <p:spPr>
          <a:xfrm>
            <a:off x="1066680" y="2057400"/>
            <a:ext cx="678204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6553080" cy="44956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066680" y="1600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1. Selección de parámetro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abla 4.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066680" y="178920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4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de datos integ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43000" y="2438280"/>
            <a:ext cx="7238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formación DGA:Nivel 1, 2, 3 para los perío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ciónales de invierno, verano, primavera y oto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grama de Muestreo Puntual CADE-IDEPE: Nivel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formación estimada por el Consultor: Nivel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tras fu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Programa de tratamiento de las aguas servidas del Gran Santiago, 1995 (MOP-CA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Información Aguas Andinas. Información nivel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066680" y="178920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5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amiento de datos por período est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90884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066680" y="178920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5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amiento de datos por período est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63904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2060640"/>
            <a:ext cx="345600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agnostico y Clasificación de Cursos y Cuerpos de Aguas según objetivos de C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35280" y="3357720"/>
            <a:ext cx="144000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16000" y="4292640"/>
            <a:ext cx="648036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Línea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rma Secundaria de Calidad Ambien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64000" y="5734080"/>
            <a:ext cx="49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Fuente: Mesenia Atenas, Jefa del departamento de Conservación de la DG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66680" y="178920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es que inciden en la calidad de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543800" cy="45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26920" y="1916280"/>
            <a:ext cx="6913800" cy="39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ección de la cuenca y definición de cau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álisis y procesamiento de la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Calidad actual y natural de los cursos superfi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posición de las clase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tros aspectos relev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Calidad actual y natural de los cursos superfi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066680" y="178920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álisis Espacio Temporal en Cauce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6248520" cy="396252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1523880" y="2209680"/>
            <a:ext cx="6782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2 cauces principales: Maipo y Mapoc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Calidad actual y natural de los cursos superfi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066680" y="1789200"/>
            <a:ext cx="7620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álisis de los Parámetros de Calidad a nivel de Cuen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676520" y="2438280"/>
            <a:ext cx="6019560" cy="4214880"/>
            <a:chOff x="1676520" y="2438280"/>
            <a:chExt cx="6019560" cy="4214880"/>
          </a:xfrm>
        </p:grpSpPr>
        <p:pic>
          <p:nvPicPr>
            <p:cNvPr id="384" name="" descr=""/>
            <p:cNvPicPr/>
            <p:nvPr/>
          </p:nvPicPr>
          <p:blipFill>
            <a:blip r:embed="rId1"/>
            <a:srcRect l="0" t="0" r="31374" b="0"/>
            <a:stretch/>
          </p:blipFill>
          <p:spPr>
            <a:xfrm>
              <a:off x="1676520" y="2438280"/>
              <a:ext cx="6019560" cy="42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1828800" y="6454440"/>
              <a:ext cx="563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Calidad actual y natural de los cursos superfi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066680" y="1789200"/>
            <a:ext cx="7620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gnación de Clases de Calidad Actual a Nivel de la Cuen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685800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Calidad actual y natural de los cursos superfi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066680" y="178920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dad Natural y Factores Incid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90720" y="2514600"/>
            <a:ext cx="69339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idificación del agua meteórica por C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S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tmosfér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teorización de las formaciones rocosas por intemperización, lo que lleva a un aumento de la superficie específica y por tanto mayor intensidad de la reacción de lixivi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xiviación superficial de rocas meteorizadas por escorrentía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rretimiento de nieve ác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lubilización de compuestos presentes en los sue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centración de solutos por evaporación de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rastre de sólidos por escorrentías y pérdida de cobertura vege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Calidad actual y natural de los cursos superfi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066680" y="178920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dad Natural y Factores Incid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066680" y="2133720"/>
            <a:ext cx="51055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ámetros que exceden la clase de exce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371600" y="2895480"/>
            <a:ext cx="289548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1 Cob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2 Alumi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3 Hier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4 Cro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5 Molibde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6 Mangan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7 Conductividad eléct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495680" y="2895480"/>
            <a:ext cx="2895840" cy="29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8 Relación de absorción de sodio (R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9 Sulfat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10 Zi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11Arsén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12 Clorur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13 Plo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26920" y="1916280"/>
            <a:ext cx="6913800" cy="39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ección de la cuenca y definición de cau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álisis y procesamiento de la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lidad actual y natural de los cursos superfi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Proposición de las clase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tros aspectos relev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Proposición de las clase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066680" y="160020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ecimiento de tr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3570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Proposición de las clase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066680" y="186516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rimientos de Calidad según Usos del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752480" y="2514600"/>
            <a:ext cx="4724640" cy="32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os del a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e actual más caracterí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e de uso a preser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e Objetivo del tra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pciones en el tra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ámetros seleccionados que requieren más estu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00000" y="2668680"/>
            <a:ext cx="251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cuencas que se encuentran desarrollando estudi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92720" y="2327400"/>
            <a:ext cx="2951280" cy="28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q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onc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3300"/>
                </a:solidFill>
                <a:latin typeface="Arial"/>
              </a:rPr>
              <a:t>Maipo - Mapo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chap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ío B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24360" y="2997360"/>
            <a:ext cx="976320" cy="1009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5445000"/>
            <a:ext cx="26636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ño 2002 Licitó 33 estu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Proposición de las clase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66680" y="186516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rimientos de Calidad según Usos del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219320" y="2438280"/>
            <a:ext cx="67546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Proposición de las clase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066680" y="186516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o de Cumplimiento de la Calidad 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600200" y="2514600"/>
            <a:ext cx="6553080" cy="31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mbre de la Estación de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 estacional del pará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e asignada estacional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mo en el que se ubica la estación de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e Objetivo del tr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 del parámetro según el Instructivo para la Clase Objetivo del Tr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26920" y="1916280"/>
            <a:ext cx="6913800" cy="39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ección de la cuenca y definición de cau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álisis y procesamiento de la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lidad actual y natural de los cursos superfi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posición de las clase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Otros aspectos relev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Otros aspecto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066680" y="1865160"/>
            <a:ext cx="7848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Índice de Calidad de Agua Superficial (IC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371600" y="3103560"/>
            <a:ext cx="3352680" cy="28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ductividad Eléc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B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xigeno Disue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ólidos Suspend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liformes Fe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181480" y="2916360"/>
            <a:ext cx="2133720" cy="39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loru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ulf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romo 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ier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angan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olibd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Zin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lumin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rsé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lo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liformes To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2514600"/>
            <a:ext cx="2895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. Obligato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181480" y="2514600"/>
            <a:ext cx="2895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. Relev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Otros aspecto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066680" y="186516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Índice de Calidad de Agua Superficial (IC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41972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Otros aspecto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066680" y="186516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AS 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4472280" cy="428004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4433760" y="2819520"/>
            <a:ext cx="47102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Otros aspecto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066680" y="186516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 de Monitoreo Fut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295280" y="2438280"/>
            <a:ext cx="594360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ámetros Obligato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ámetros Princip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ámetros con Límite de Det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ámetros Sin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ámetros Orgá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ámetros Orgánico Plaguic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Otros aspecto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066680" y="186516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 de Monitoreo Fut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5180040" cy="41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11280" y="533520"/>
            <a:ext cx="8532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mentarios y 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85800" y="1828800"/>
            <a:ext cx="7924680" cy="35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ínea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icultad de aplicabilidad del APN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aración de pará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ciencias de análisis de descargas industriales y actividad 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2708280"/>
            <a:ext cx="2952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Por qué estudiar la cuen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Maipo – Mapoch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32000" y="2708280"/>
            <a:ext cx="503280" cy="1009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2349360"/>
            <a:ext cx="3446280" cy="4291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53753" dir="2700000" blurRad="0" rotWithShape="0">
              <a:srgbClr val="3399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Recursos Limit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38800" y="3002040"/>
            <a:ext cx="3805200" cy="7642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53753" dir="2700000" blurRad="0" rotWithShape="0">
              <a:srgbClr val="3399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Actividad Antrópica Fuer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(6 millones de hab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4362480" y="3927600"/>
            <a:ext cx="852480" cy="576000"/>
          </a:xfrm>
          <a:custGeom>
            <a:avLst/>
            <a:gdLst>
              <a:gd name="textAreaLeft" fmla="*/ 158400 w 852480"/>
              <a:gd name="textAreaRight" fmla="*/ 743040 w 852480"/>
              <a:gd name="textAreaTop" fmla="*/ 365760 h 576000"/>
              <a:gd name="textAreaBottom" fmla="*/ 5022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6492"/>
                </a:moveTo>
                <a:lnTo>
                  <a:pt x="13716" y="16492"/>
                </a:lnTo>
                <a:lnTo>
                  <a:pt x="13716" y="4020"/>
                </a:lnTo>
                <a:lnTo>
                  <a:pt x="10940" y="4020"/>
                </a:lnTo>
                <a:lnTo>
                  <a:pt x="16270" y="0"/>
                </a:lnTo>
                <a:lnTo>
                  <a:pt x="21600" y="4020"/>
                </a:lnTo>
                <a:lnTo>
                  <a:pt x="18824" y="4020"/>
                </a:lnTo>
                <a:lnTo>
                  <a:pt x="1882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19640" y="4149720"/>
            <a:ext cx="392436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ta Dda. (Doméstica, Industrial y Agríco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4362480" y="4791240"/>
            <a:ext cx="852480" cy="576000"/>
          </a:xfrm>
          <a:custGeom>
            <a:avLst/>
            <a:gdLst>
              <a:gd name="textAreaLeft" fmla="*/ 158400 w 852480"/>
              <a:gd name="textAreaRight" fmla="*/ 743040 w 852480"/>
              <a:gd name="textAreaTop" fmla="*/ 365760 h 576000"/>
              <a:gd name="textAreaBottom" fmla="*/ 5022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6492"/>
                </a:moveTo>
                <a:lnTo>
                  <a:pt x="13716" y="16492"/>
                </a:lnTo>
                <a:lnTo>
                  <a:pt x="13716" y="4020"/>
                </a:lnTo>
                <a:lnTo>
                  <a:pt x="10940" y="4020"/>
                </a:lnTo>
                <a:lnTo>
                  <a:pt x="16270" y="0"/>
                </a:lnTo>
                <a:lnTo>
                  <a:pt x="21600" y="4020"/>
                </a:lnTo>
                <a:lnTo>
                  <a:pt x="18824" y="4020"/>
                </a:lnTo>
                <a:lnTo>
                  <a:pt x="1882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3360"/>
            <a:ext cx="392436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ta producción de aguas resid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2637000"/>
            <a:ext cx="309564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agnostico y Clasificación de Cursos y Cuerpos de Aguas según objetivos de C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uenca </a:t>
            </a: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MAIPO MAPO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284640"/>
            <a:ext cx="432000" cy="100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1916280"/>
            <a:ext cx="396108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6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lección de la cuenca y definición de cau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nálisis y procesamiento de la inform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lidad actual y natural de los cursos superfi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posición de las clases obje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tros aspectos relev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1916280"/>
            <a:ext cx="6913800" cy="39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Elección de la cuenca y definición de cau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álisis y procesamiento de la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lidad actual y natural de los cursos superfi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posición de las clase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tros aspectos relev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620640"/>
            <a:ext cx="77770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ección de la cuenca y definición de cau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74920" y="2205000"/>
            <a:ext cx="4969080" cy="355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468360" y="3357720"/>
            <a:ext cx="18000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40000" y="3519360"/>
            <a:ext cx="576360" cy="486000"/>
          </a:xfrm>
          <a:prstGeom prst="rightArrow">
            <a:avLst>
              <a:gd name="adj1" fmla="val 50000"/>
              <a:gd name="adj2" fmla="val 2964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21:38:26Z</dcterms:created>
  <dc:creator>Néstor</dc:creator>
  <dc:description/>
  <dc:language>en-US</dc:language>
  <cp:lastModifiedBy>nrojas</cp:lastModifiedBy>
  <dcterms:modified xsi:type="dcterms:W3CDTF">2004-10-27T18:58:01Z</dcterms:modified>
  <cp:revision>44</cp:revision>
  <dc:subject/>
  <dc:title>Diapositiva 1</dc:title>
</cp:coreProperties>
</file>