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3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34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F14-D7E6-4B3E-BFB3-0F43747F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FB7-DFC7-424B-B98C-294AD812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03D-B936-4A8A-B80D-A17AEC96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89E-11D0-40D2-84DE-7503380D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456-1CFA-44D7-BDAE-E30B317C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BB4-2CA9-4D2D-B8E0-9DC214C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02D-167D-4CF4-893B-C5378A92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C49-79B2-4B86-B188-FEB822E6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EA4-0602-4D2F-A875-03CBE73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659-8729-4D98-85ED-9722C5D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3B7-7789-40D7-8E15-D9E114B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5AF-1240-40BD-B03F-07D9154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158-2385-41FB-BD2E-FCD7AF01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349360"/>
            <a:ext cx="7129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iagnóstico y clasificación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 los cursos de agua según objetivos de calida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UENCA DEL RIO MAIP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5373720"/>
            <a:ext cx="35290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ancisco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éstor Rojas Alcay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ardo Riquelme Rí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2064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836640"/>
            <a:ext cx="3744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653000"/>
            <a:ext cx="32403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49672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508640"/>
            <a:ext cx="2881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2º55` - 34º15` LAT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9º55`- 71º31`LONG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Área: 15304 Km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887640" cy="286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005360"/>
            <a:ext cx="486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4508640"/>
            <a:ext cx="288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rgo río Maipo 25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1916280"/>
            <a:ext cx="151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Volc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Y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Col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Oliv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Angos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Yerba L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San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río M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Array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Co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olpa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·  estero Pu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887640" cy="32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068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tografía y seg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674600">
            <a:off x="248436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35800">
            <a:off x="2484360" y="42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1700280"/>
            <a:ext cx="32400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GRH(D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AR(CONA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CBN(CON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IR(CN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OTAS(G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es descargas industriales(CORE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3736800"/>
            <a:ext cx="5500440" cy="3121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76360" y="5229360"/>
            <a:ext cx="1871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32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89000"/>
            <a:ext cx="453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l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mplado mediterráneo con estación seca prolong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ma frío de a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26088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3333600"/>
            <a:ext cx="4535280" cy="30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lenos sedimentarios (fluviales, fluvioglaciales, cenizas volcán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graníticas paleozoicas y mesozo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cas volcánicas y sedimentarias cretác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Volcanism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pungato, Marmolejo, Tupungatito, San José y Ma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060640"/>
            <a:ext cx="25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1949400"/>
            <a:ext cx="45352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3519360"/>
            <a:ext cx="4535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916280"/>
            <a:ext cx="576360" cy="414000"/>
          </a:xfrm>
          <a:prstGeom prst="rightArrow">
            <a:avLst>
              <a:gd name="adj1" fmla="val 50000"/>
              <a:gd name="adj2" fmla="val 348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1949400"/>
            <a:ext cx="453564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Hidroge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Cordill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de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351936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519360"/>
            <a:ext cx="45356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omorfolog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 an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le estero Arra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emboc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91280" y="3933720"/>
            <a:ext cx="385272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844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ísico y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206064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1989000"/>
            <a:ext cx="4535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e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Superior Alta Cordillera (Esqueléticos con afloramientos roco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Media Precordillera y Piedmont (estratificados, bien drenados y fért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fondo del valle( problemas de drenaje y permeabilidad, variabilidad alcalinidad y sali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 costera (valles estrechos, granito, estratificados, bien drenados, baja fertilidad, falta de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 Sector Río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06064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ra y 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234936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32000" y="2914560"/>
            <a:ext cx="5688000" cy="2098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76720" y="2205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munidades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5319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175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Biota acu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50020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4076640"/>
            <a:ext cx="410508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gar una visión completa de la situación de calidad de los ríos que han sido o serán priorizados por el Gobierno para protegerlos a través del dictamen de una norma de calidad secundaria para las aguas continentales del paí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421000"/>
            <a:ext cx="2160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radley Hand ITC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263700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357720"/>
            <a:ext cx="1368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6021360"/>
            <a:ext cx="158436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.G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84464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sentamient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527720"/>
            <a:ext cx="431640" cy="26964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8300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ctiv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94172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797360"/>
            <a:ext cx="295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os de s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3887640" cy="2062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308400" y="5229360"/>
            <a:ext cx="40003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060640"/>
            <a:ext cx="2521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luvi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1989000"/>
            <a:ext cx="431640" cy="27000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44640"/>
            <a:ext cx="460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staciones fluviométricas(CIRH, D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330696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92360" y="5013360"/>
            <a:ext cx="381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aciones patr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ipo en el Manzano (ni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pocho en los Almendros (mix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angue en Boquerón (pluv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6560" y="1700280"/>
            <a:ext cx="2521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77708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619280" y="3645000"/>
            <a:ext cx="1584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10.2 [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9800" y="4149720"/>
            <a:ext cx="1550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000 [l/se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4797360"/>
            <a:ext cx="129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0 C.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328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5229360"/>
            <a:ext cx="115236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0 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284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28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6093000"/>
            <a:ext cx="230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90 [l/seg]+35[l/seg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371628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643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3716280"/>
            <a:ext cx="505080" cy="414360"/>
          </a:xfrm>
          <a:prstGeom prst="rightArrow">
            <a:avLst>
              <a:gd name="adj1" fmla="val 50000"/>
              <a:gd name="adj2" fmla="val 304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571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00% de san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2133720"/>
            <a:ext cx="3168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ser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3500280"/>
            <a:ext cx="14400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57760" y="20955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189400" y="2311560"/>
            <a:ext cx="9072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0880" y="30225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8520" y="32958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53760" y="3390840"/>
            <a:ext cx="470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81640" y="2517840"/>
            <a:ext cx="228600" cy="36648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6044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90840" y="3828960"/>
            <a:ext cx="28584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48240" y="32148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25812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00480" y="317664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230652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23050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95920" y="233352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67440" y="20192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34280" y="182880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93720" y="3390840"/>
            <a:ext cx="5451480" cy="1841400"/>
            <a:chOff x="1593720" y="3390840"/>
            <a:chExt cx="5451480" cy="1841400"/>
          </a:xfrm>
        </p:grpSpPr>
        <p:grpSp>
          <p:nvGrpSpPr>
            <p:cNvPr id="230" name=""/>
            <p:cNvGrpSpPr/>
            <p:nvPr/>
          </p:nvGrpSpPr>
          <p:grpSpPr>
            <a:xfrm>
              <a:off x="1593720" y="3390840"/>
              <a:ext cx="5451480" cy="1841400"/>
              <a:chOff x="1593720" y="3390840"/>
              <a:chExt cx="5451480" cy="1841400"/>
            </a:xfrm>
          </p:grpSpPr>
          <p:sp>
            <p:nvSpPr>
              <p:cNvPr id="231" name=""/>
              <p:cNvSpPr/>
              <p:nvPr/>
            </p:nvSpPr>
            <p:spPr>
              <a:xfrm>
                <a:off x="1593720" y="4149720"/>
                <a:ext cx="841320" cy="115920"/>
              </a:xfrm>
              <a:custGeom>
                <a:avLst/>
                <a:gdLst/>
                <a:ahLst/>
                <a:rect l="l" t="t" r="r" b="b"/>
                <a:pathLst>
                  <a:path w="530" h="73">
                    <a:moveTo>
                      <a:pt x="2" y="18"/>
                    </a:moveTo>
                    <a:cubicBezTo>
                      <a:pt x="20" y="73"/>
                      <a:pt x="0" y="39"/>
                      <a:pt x="106" y="34"/>
                    </a:cubicBezTo>
                    <a:cubicBezTo>
                      <a:pt x="186" y="30"/>
                      <a:pt x="266" y="29"/>
                      <a:pt x="346" y="26"/>
                    </a:cubicBezTo>
                    <a:cubicBezTo>
                      <a:pt x="354" y="18"/>
                      <a:pt x="359" y="3"/>
                      <a:pt x="370" y="2"/>
                    </a:cubicBezTo>
                    <a:cubicBezTo>
                      <a:pt x="387" y="0"/>
                      <a:pt x="418" y="18"/>
                      <a:pt x="418" y="18"/>
                    </a:cubicBezTo>
                    <a:cubicBezTo>
                      <a:pt x="434" y="65"/>
                      <a:pt x="486" y="66"/>
                      <a:pt x="530" y="6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47640" y="3987720"/>
                <a:ext cx="304920" cy="216000"/>
              </a:xfrm>
              <a:custGeom>
                <a:avLst/>
                <a:gdLst/>
                <a:ahLst/>
                <a:rect l="l" t="t" r="r" b="b"/>
                <a:pathLst>
                  <a:path w="192" h="136">
                    <a:moveTo>
                      <a:pt x="0" y="136"/>
                    </a:moveTo>
                    <a:cubicBezTo>
                      <a:pt x="5" y="125"/>
                      <a:pt x="6" y="111"/>
                      <a:pt x="16" y="104"/>
                    </a:cubicBezTo>
                    <a:cubicBezTo>
                      <a:pt x="29" y="94"/>
                      <a:pt x="64" y="88"/>
                      <a:pt x="64" y="88"/>
                    </a:cubicBezTo>
                    <a:cubicBezTo>
                      <a:pt x="69" y="69"/>
                      <a:pt x="64" y="43"/>
                      <a:pt x="80" y="32"/>
                    </a:cubicBezTo>
                    <a:cubicBezTo>
                      <a:pt x="112" y="9"/>
                      <a:pt x="158" y="17"/>
                      <a:pt x="19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88840" y="3960720"/>
                <a:ext cx="1194120" cy="534960"/>
              </a:xfrm>
              <a:custGeom>
                <a:avLst/>
                <a:gdLst/>
                <a:ahLst/>
                <a:rect l="l" t="t" r="r" b="b"/>
                <a:pathLst>
                  <a:path w="752" h="337">
                    <a:moveTo>
                      <a:pt x="0" y="17"/>
                    </a:moveTo>
                    <a:cubicBezTo>
                      <a:pt x="27" y="14"/>
                      <a:pt x="54" y="13"/>
                      <a:pt x="80" y="9"/>
                    </a:cubicBezTo>
                    <a:cubicBezTo>
                      <a:pt x="88" y="8"/>
                      <a:pt x="96" y="0"/>
                      <a:pt x="104" y="1"/>
                    </a:cubicBezTo>
                    <a:cubicBezTo>
                      <a:pt x="142" y="5"/>
                      <a:pt x="166" y="30"/>
                      <a:pt x="200" y="41"/>
                    </a:cubicBezTo>
                    <a:cubicBezTo>
                      <a:pt x="253" y="94"/>
                      <a:pt x="294" y="70"/>
                      <a:pt x="376" y="65"/>
                    </a:cubicBezTo>
                    <a:cubicBezTo>
                      <a:pt x="413" y="53"/>
                      <a:pt x="437" y="70"/>
                      <a:pt x="472" y="73"/>
                    </a:cubicBezTo>
                    <a:cubicBezTo>
                      <a:pt x="533" y="78"/>
                      <a:pt x="595" y="78"/>
                      <a:pt x="656" y="81"/>
                    </a:cubicBezTo>
                    <a:cubicBezTo>
                      <a:pt x="674" y="134"/>
                      <a:pt x="628" y="210"/>
                      <a:pt x="696" y="233"/>
                    </a:cubicBezTo>
                    <a:cubicBezTo>
                      <a:pt x="725" y="262"/>
                      <a:pt x="752" y="293"/>
                      <a:pt x="752" y="337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2960" y="3924360"/>
                <a:ext cx="787320" cy="611280"/>
              </a:xfrm>
              <a:custGeom>
                <a:avLst/>
                <a:gdLst/>
                <a:ahLst/>
                <a:rect l="l" t="t" r="r" b="b"/>
                <a:pathLst>
                  <a:path w="496" h="385">
                    <a:moveTo>
                      <a:pt x="0" y="376"/>
                    </a:moveTo>
                    <a:cubicBezTo>
                      <a:pt x="95" y="360"/>
                      <a:pt x="17" y="385"/>
                      <a:pt x="64" y="344"/>
                    </a:cubicBezTo>
                    <a:cubicBezTo>
                      <a:pt x="78" y="331"/>
                      <a:pt x="112" y="312"/>
                      <a:pt x="112" y="312"/>
                    </a:cubicBezTo>
                    <a:cubicBezTo>
                      <a:pt x="117" y="304"/>
                      <a:pt x="120" y="294"/>
                      <a:pt x="128" y="288"/>
                    </a:cubicBezTo>
                    <a:cubicBezTo>
                      <a:pt x="135" y="283"/>
                      <a:pt x="146" y="286"/>
                      <a:pt x="152" y="280"/>
                    </a:cubicBezTo>
                    <a:cubicBezTo>
                      <a:pt x="216" y="216"/>
                      <a:pt x="154" y="242"/>
                      <a:pt x="208" y="224"/>
                    </a:cubicBezTo>
                    <a:cubicBezTo>
                      <a:pt x="213" y="216"/>
                      <a:pt x="217" y="207"/>
                      <a:pt x="224" y="200"/>
                    </a:cubicBezTo>
                    <a:cubicBezTo>
                      <a:pt x="231" y="193"/>
                      <a:pt x="242" y="191"/>
                      <a:pt x="248" y="184"/>
                    </a:cubicBezTo>
                    <a:cubicBezTo>
                      <a:pt x="301" y="124"/>
                      <a:pt x="255" y="144"/>
                      <a:pt x="304" y="128"/>
                    </a:cubicBezTo>
                    <a:cubicBezTo>
                      <a:pt x="312" y="120"/>
                      <a:pt x="319" y="110"/>
                      <a:pt x="328" y="104"/>
                    </a:cubicBezTo>
                    <a:cubicBezTo>
                      <a:pt x="335" y="99"/>
                      <a:pt x="345" y="101"/>
                      <a:pt x="352" y="96"/>
                    </a:cubicBezTo>
                    <a:cubicBezTo>
                      <a:pt x="360" y="90"/>
                      <a:pt x="360" y="77"/>
                      <a:pt x="368" y="72"/>
                    </a:cubicBezTo>
                    <a:cubicBezTo>
                      <a:pt x="373" y="69"/>
                      <a:pt x="454" y="35"/>
                      <a:pt x="464" y="32"/>
                    </a:cubicBezTo>
                    <a:cubicBezTo>
                      <a:pt x="483" y="3"/>
                      <a:pt x="471" y="12"/>
                      <a:pt x="496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82880" y="3530520"/>
                <a:ext cx="749160" cy="368280"/>
              </a:xfrm>
              <a:custGeom>
                <a:avLst/>
                <a:gdLst/>
                <a:ahLst/>
                <a:rect l="l" t="t" r="r" b="b"/>
                <a:pathLst>
                  <a:path w="472" h="232">
                    <a:moveTo>
                      <a:pt x="0" y="232"/>
                    </a:moveTo>
                    <a:cubicBezTo>
                      <a:pt x="8" y="227"/>
                      <a:pt x="18" y="224"/>
                      <a:pt x="24" y="216"/>
                    </a:cubicBezTo>
                    <a:cubicBezTo>
                      <a:pt x="29" y="209"/>
                      <a:pt x="26" y="198"/>
                      <a:pt x="32" y="192"/>
                    </a:cubicBezTo>
                    <a:cubicBezTo>
                      <a:pt x="38" y="186"/>
                      <a:pt x="48" y="187"/>
                      <a:pt x="56" y="184"/>
                    </a:cubicBezTo>
                    <a:cubicBezTo>
                      <a:pt x="67" y="179"/>
                      <a:pt x="77" y="172"/>
                      <a:pt x="88" y="168"/>
                    </a:cubicBezTo>
                    <a:cubicBezTo>
                      <a:pt x="104" y="162"/>
                      <a:pt x="136" y="152"/>
                      <a:pt x="136" y="152"/>
                    </a:cubicBezTo>
                    <a:cubicBezTo>
                      <a:pt x="164" y="110"/>
                      <a:pt x="216" y="118"/>
                      <a:pt x="264" y="112"/>
                    </a:cubicBezTo>
                    <a:cubicBezTo>
                      <a:pt x="291" y="103"/>
                      <a:pt x="317" y="97"/>
                      <a:pt x="344" y="88"/>
                    </a:cubicBezTo>
                    <a:cubicBezTo>
                      <a:pt x="364" y="58"/>
                      <a:pt x="398" y="43"/>
                      <a:pt x="432" y="32"/>
                    </a:cubicBezTo>
                    <a:cubicBezTo>
                      <a:pt x="437" y="24"/>
                      <a:pt x="440" y="14"/>
                      <a:pt x="448" y="8"/>
                    </a:cubicBezTo>
                    <a:cubicBezTo>
                      <a:pt x="455" y="3"/>
                      <a:pt x="472" y="0"/>
                      <a:pt x="472" y="0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81280" y="3390840"/>
                <a:ext cx="787680" cy="190440"/>
              </a:xfrm>
              <a:custGeom>
                <a:avLst/>
                <a:gdLst/>
                <a:ahLst/>
                <a:rect l="l" t="t" r="r" b="b"/>
                <a:pathLst>
                  <a:path w="496" h="120">
                    <a:moveTo>
                      <a:pt x="0" y="120"/>
                    </a:moveTo>
                    <a:cubicBezTo>
                      <a:pt x="17" y="114"/>
                      <a:pt x="31" y="102"/>
                      <a:pt x="48" y="96"/>
                    </a:cubicBezTo>
                    <a:cubicBezTo>
                      <a:pt x="74" y="87"/>
                      <a:pt x="102" y="87"/>
                      <a:pt x="128" y="80"/>
                    </a:cubicBezTo>
                    <a:cubicBezTo>
                      <a:pt x="184" y="99"/>
                      <a:pt x="136" y="59"/>
                      <a:pt x="184" y="32"/>
                    </a:cubicBezTo>
                    <a:cubicBezTo>
                      <a:pt x="221" y="12"/>
                      <a:pt x="265" y="13"/>
                      <a:pt x="304" y="0"/>
                    </a:cubicBezTo>
                    <a:cubicBezTo>
                      <a:pt x="320" y="3"/>
                      <a:pt x="336" y="5"/>
                      <a:pt x="352" y="8"/>
                    </a:cubicBezTo>
                    <a:cubicBezTo>
                      <a:pt x="374" y="13"/>
                      <a:pt x="416" y="24"/>
                      <a:pt x="416" y="24"/>
                    </a:cubicBezTo>
                    <a:cubicBezTo>
                      <a:pt x="443" y="42"/>
                      <a:pt x="463" y="48"/>
                      <a:pt x="496" y="48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06760" y="3556080"/>
                <a:ext cx="838440" cy="1676160"/>
              </a:xfrm>
              <a:custGeom>
                <a:avLst/>
                <a:gdLst/>
                <a:ahLst/>
                <a:rect l="l" t="t" r="r" b="b"/>
                <a:pathLst>
                  <a:path w="528" h="1056">
                    <a:moveTo>
                      <a:pt x="0" y="0"/>
                    </a:moveTo>
                    <a:cubicBezTo>
                      <a:pt x="7" y="84"/>
                      <a:pt x="8" y="235"/>
                      <a:pt x="88" y="288"/>
                    </a:cubicBezTo>
                    <a:cubicBezTo>
                      <a:pt x="98" y="303"/>
                      <a:pt x="101" y="322"/>
                      <a:pt x="112" y="336"/>
                    </a:cubicBezTo>
                    <a:cubicBezTo>
                      <a:pt x="129" y="357"/>
                      <a:pt x="169" y="369"/>
                      <a:pt x="192" y="384"/>
                    </a:cubicBezTo>
                    <a:cubicBezTo>
                      <a:pt x="197" y="392"/>
                      <a:pt x="200" y="402"/>
                      <a:pt x="208" y="408"/>
                    </a:cubicBezTo>
                    <a:cubicBezTo>
                      <a:pt x="215" y="413"/>
                      <a:pt x="227" y="409"/>
                      <a:pt x="232" y="416"/>
                    </a:cubicBezTo>
                    <a:cubicBezTo>
                      <a:pt x="273" y="473"/>
                      <a:pt x="222" y="455"/>
                      <a:pt x="272" y="480"/>
                    </a:cubicBezTo>
                    <a:cubicBezTo>
                      <a:pt x="280" y="484"/>
                      <a:pt x="288" y="485"/>
                      <a:pt x="296" y="488"/>
                    </a:cubicBezTo>
                    <a:cubicBezTo>
                      <a:pt x="318" y="522"/>
                      <a:pt x="334" y="509"/>
                      <a:pt x="352" y="544"/>
                    </a:cubicBezTo>
                    <a:cubicBezTo>
                      <a:pt x="383" y="606"/>
                      <a:pt x="369" y="662"/>
                      <a:pt x="432" y="704"/>
                    </a:cubicBezTo>
                    <a:cubicBezTo>
                      <a:pt x="441" y="730"/>
                      <a:pt x="455" y="750"/>
                      <a:pt x="464" y="776"/>
                    </a:cubicBezTo>
                    <a:cubicBezTo>
                      <a:pt x="458" y="857"/>
                      <a:pt x="441" y="945"/>
                      <a:pt x="488" y="1016"/>
                    </a:cubicBezTo>
                    <a:cubicBezTo>
                      <a:pt x="496" y="1047"/>
                      <a:pt x="494" y="1056"/>
                      <a:pt x="528" y="1056"/>
                    </a:cubicBezTo>
                  </a:path>
                </a:pathLst>
              </a:custGeom>
              <a:noFill/>
              <a:ln w="82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130800" y="3467160"/>
              <a:ext cx="7596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0"/>
                  </a:moveTo>
                  <a:cubicBezTo>
                    <a:pt x="32" y="21"/>
                    <a:pt x="23" y="31"/>
                    <a:pt x="48" y="56"/>
                  </a:cubicBezTo>
                </a:path>
              </a:pathLst>
            </a:custGeom>
            <a:noFill/>
            <a:ln w="82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647360" y="41911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3203400">
            <a:off x="6083640" y="43246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Río Ma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43560" y="2666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43520" y="2286000"/>
            <a:ext cx="164880" cy="16200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54"/>
                </a:moveTo>
                <a:cubicBezTo>
                  <a:pt x="6" y="24"/>
                  <a:pt x="6" y="10"/>
                  <a:pt x="36" y="0"/>
                </a:cubicBezTo>
                <a:cubicBezTo>
                  <a:pt x="55" y="19"/>
                  <a:pt x="54" y="34"/>
                  <a:pt x="78" y="42"/>
                </a:cubicBezTo>
                <a:cubicBezTo>
                  <a:pt x="82" y="48"/>
                  <a:pt x="87" y="53"/>
                  <a:pt x="90" y="60"/>
                </a:cubicBezTo>
                <a:cubicBezTo>
                  <a:pt x="95" y="72"/>
                  <a:pt x="98" y="84"/>
                  <a:pt x="102" y="96"/>
                </a:cubicBezTo>
                <a:cubicBezTo>
                  <a:pt x="104" y="102"/>
                  <a:pt x="90" y="92"/>
                  <a:pt x="84" y="90"/>
                </a:cubicBezTo>
                <a:cubicBezTo>
                  <a:pt x="76" y="88"/>
                  <a:pt x="68" y="86"/>
                  <a:pt x="60" y="84"/>
                </a:cubicBezTo>
                <a:cubicBezTo>
                  <a:pt x="42" y="79"/>
                  <a:pt x="13" y="67"/>
                  <a:pt x="0" y="54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92920" y="3670200"/>
            <a:ext cx="840600" cy="368280"/>
            <a:chOff x="1492920" y="3670200"/>
            <a:chExt cx="840600" cy="368280"/>
          </a:xfrm>
        </p:grpSpPr>
        <p:sp>
          <p:nvSpPr>
            <p:cNvPr id="244" name=""/>
            <p:cNvSpPr/>
            <p:nvPr/>
          </p:nvSpPr>
          <p:spPr>
            <a:xfrm>
              <a:off x="2104920" y="38098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2920" y="3670200"/>
              <a:ext cx="73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Melipil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257560" y="3352680"/>
            <a:ext cx="838080" cy="457200"/>
            <a:chOff x="2257560" y="3352680"/>
            <a:chExt cx="838080" cy="457200"/>
          </a:xfrm>
        </p:grpSpPr>
        <p:sp>
          <p:nvSpPr>
            <p:cNvPr id="247" name=""/>
            <p:cNvSpPr/>
            <p:nvPr/>
          </p:nvSpPr>
          <p:spPr>
            <a:xfrm>
              <a:off x="2638440" y="3581280"/>
              <a:ext cx="22860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57560" y="3352680"/>
              <a:ext cx="83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Pom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943000" y="3594240"/>
            <a:ext cx="766080" cy="444240"/>
            <a:chOff x="2943000" y="3594240"/>
            <a:chExt cx="766080" cy="444240"/>
          </a:xfrm>
        </p:grpSpPr>
        <p:sp>
          <p:nvSpPr>
            <p:cNvPr id="250" name=""/>
            <p:cNvSpPr/>
            <p:nvPr/>
          </p:nvSpPr>
          <p:spPr>
            <a:xfrm>
              <a:off x="2943000" y="3594240"/>
              <a:ext cx="766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Mo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24240" y="3809880"/>
              <a:ext cx="228600" cy="228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463400">
            <a:off x="4538160" y="4129200"/>
            <a:ext cx="381240" cy="685800"/>
          </a:xfrm>
          <a:prstGeom prst="ellipse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4419720"/>
            <a:ext cx="22860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320800">
            <a:off x="4238280" y="3885840"/>
            <a:ext cx="380880" cy="609480"/>
          </a:xfrm>
          <a:prstGeom prst="ellipse">
            <a:avLst/>
          </a:prstGeom>
          <a:solidFill>
            <a:srgbClr val="666633">
              <a:alpha val="50000"/>
            </a:srgbClr>
          </a:solidFill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1440" y="411480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14760" y="2362320"/>
            <a:ext cx="228600" cy="228600"/>
          </a:xfrm>
          <a:prstGeom prst="ellipse">
            <a:avLst/>
          </a:prstGeom>
          <a:solidFill>
            <a:srgbClr val="666633">
              <a:alpha val="50000"/>
            </a:srgbClr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05320" y="3048120"/>
            <a:ext cx="972360" cy="609480"/>
            <a:chOff x="5305320" y="3048120"/>
            <a:chExt cx="972360" cy="609480"/>
          </a:xfrm>
        </p:grpSpPr>
        <p:sp>
          <p:nvSpPr>
            <p:cNvPr id="258" name=""/>
            <p:cNvSpPr/>
            <p:nvPr/>
          </p:nvSpPr>
          <p:spPr>
            <a:xfrm>
              <a:off x="5305320" y="3276720"/>
              <a:ext cx="762120" cy="380880"/>
            </a:xfrm>
            <a:prstGeom prst="ellipse">
              <a:avLst/>
            </a:prstGeom>
            <a:solidFill>
              <a:srgbClr val="6666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8320" y="3048120"/>
              <a:ext cx="819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El Canel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43760" y="3200400"/>
            <a:ext cx="1064160" cy="428760"/>
            <a:chOff x="6143760" y="3200400"/>
            <a:chExt cx="1064160" cy="428760"/>
          </a:xfrm>
        </p:grpSpPr>
        <p:sp>
          <p:nvSpPr>
            <p:cNvPr id="261" name=""/>
            <p:cNvSpPr/>
            <p:nvPr/>
          </p:nvSpPr>
          <p:spPr>
            <a:xfrm>
              <a:off x="6143760" y="3352680"/>
              <a:ext cx="304560" cy="228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3440" y="3200400"/>
              <a:ext cx="834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San José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Ma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246840" y="3040560"/>
            <a:ext cx="1494720" cy="996120"/>
            <a:chOff x="3246840" y="3040560"/>
            <a:chExt cx="1494720" cy="996120"/>
          </a:xfrm>
        </p:grpSpPr>
        <p:sp>
          <p:nvSpPr>
            <p:cNvPr id="264" name=""/>
            <p:cNvSpPr/>
            <p:nvPr/>
          </p:nvSpPr>
          <p:spPr>
            <a:xfrm rot="20283600">
              <a:off x="3698640" y="3192120"/>
              <a:ext cx="947520" cy="69228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1566400">
              <a:off x="3247920" y="3047760"/>
              <a:ext cx="83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030040" y="2286000"/>
            <a:ext cx="77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Curaca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3760" y="4343400"/>
            <a:ext cx="75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Valdiv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de 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49560" y="4343400"/>
            <a:ext cx="55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P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8440" y="38862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Buin - Maip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162320" y="5486400"/>
            <a:ext cx="1905120" cy="956880"/>
            <a:chOff x="4162320" y="5486400"/>
            <a:chExt cx="1905120" cy="956880"/>
          </a:xfrm>
        </p:grpSpPr>
        <p:sp>
          <p:nvSpPr>
            <p:cNvPr id="271" name=""/>
            <p:cNvSpPr/>
            <p:nvPr/>
          </p:nvSpPr>
          <p:spPr>
            <a:xfrm>
              <a:off x="4162320" y="5486400"/>
              <a:ext cx="1905120" cy="9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0920" y="5638680"/>
              <a:ext cx="15228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90920" y="5867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0920" y="6172200"/>
              <a:ext cx="1522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932360" y="2209680"/>
            <a:ext cx="185760" cy="223920"/>
          </a:xfrm>
          <a:custGeom>
            <a:avLst/>
            <a:gdLst/>
            <a:ahLst/>
            <a:rect l="l" t="t" r="r" b="b"/>
            <a:pathLst>
              <a:path w="117" h="141">
                <a:moveTo>
                  <a:pt x="13" y="88"/>
                </a:moveTo>
                <a:cubicBezTo>
                  <a:pt x="59" y="58"/>
                  <a:pt x="20" y="48"/>
                  <a:pt x="69" y="32"/>
                </a:cubicBezTo>
                <a:cubicBezTo>
                  <a:pt x="95" y="110"/>
                  <a:pt x="53" y="0"/>
                  <a:pt x="101" y="72"/>
                </a:cubicBezTo>
                <a:cubicBezTo>
                  <a:pt x="112" y="88"/>
                  <a:pt x="111" y="110"/>
                  <a:pt x="117" y="128"/>
                </a:cubicBezTo>
                <a:cubicBezTo>
                  <a:pt x="78" y="141"/>
                  <a:pt x="79" y="125"/>
                  <a:pt x="45" y="112"/>
                </a:cubicBezTo>
                <a:cubicBezTo>
                  <a:pt x="32" y="107"/>
                  <a:pt x="16" y="112"/>
                  <a:pt x="5" y="104"/>
                </a:cubicBezTo>
                <a:cubicBezTo>
                  <a:pt x="0" y="100"/>
                  <a:pt x="10" y="93"/>
                  <a:pt x="13" y="88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2214720"/>
            <a:ext cx="106200" cy="83880"/>
          </a:xfrm>
          <a:custGeom>
            <a:avLst/>
            <a:gdLst/>
            <a:ahLst/>
            <a:rect l="l" t="t" r="r" b="b"/>
            <a:pathLst>
              <a:path w="67" h="53">
                <a:moveTo>
                  <a:pt x="18" y="13"/>
                </a:moveTo>
                <a:cubicBezTo>
                  <a:pt x="29" y="16"/>
                  <a:pt x="43" y="12"/>
                  <a:pt x="50" y="21"/>
                </a:cubicBezTo>
                <a:cubicBezTo>
                  <a:pt x="67" y="44"/>
                  <a:pt x="22" y="52"/>
                  <a:pt x="18" y="53"/>
                </a:cubicBezTo>
                <a:cubicBezTo>
                  <a:pt x="13" y="45"/>
                  <a:pt x="0" y="38"/>
                  <a:pt x="2" y="29"/>
                </a:cubicBezTo>
                <a:cubicBezTo>
                  <a:pt x="9" y="0"/>
                  <a:pt x="41" y="36"/>
                  <a:pt x="18" y="13"/>
                </a:cubicBezTo>
                <a:close/>
              </a:path>
            </a:pathLst>
          </a:custGeom>
          <a:solidFill>
            <a:srgbClr val="b7b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99000" y="2473200"/>
            <a:ext cx="42840" cy="90720"/>
          </a:xfrm>
          <a:custGeom>
            <a:avLst/>
            <a:gdLst/>
            <a:ahLst/>
            <a:rect l="l" t="t" r="r" b="b"/>
            <a:pathLst>
              <a:path w="27" h="57">
                <a:moveTo>
                  <a:pt x="24" y="2"/>
                </a:moveTo>
                <a:cubicBezTo>
                  <a:pt x="21" y="18"/>
                  <a:pt x="27" y="39"/>
                  <a:pt x="16" y="50"/>
                </a:cubicBezTo>
                <a:cubicBezTo>
                  <a:pt x="9" y="57"/>
                  <a:pt x="0" y="36"/>
                  <a:pt x="0" y="26"/>
                </a:cubicBezTo>
                <a:cubicBezTo>
                  <a:pt x="0" y="0"/>
                  <a:pt x="11" y="2"/>
                  <a:pt x="24" y="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8160" y="205740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os Nog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53040" y="2438280"/>
            <a:ext cx="889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2743200"/>
            <a:ext cx="77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190760" y="2286000"/>
            <a:ext cx="228960" cy="76320"/>
            <a:chOff x="4190760" y="2286000"/>
            <a:chExt cx="228960" cy="76320"/>
          </a:xfrm>
        </p:grpSpPr>
        <p:sp>
          <p:nvSpPr>
            <p:cNvPr id="282" name=""/>
            <p:cNvSpPr/>
            <p:nvPr/>
          </p:nvSpPr>
          <p:spPr>
            <a:xfrm flipH="1">
              <a:off x="4305240" y="23623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190760" y="228600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14440" y="2590920"/>
            <a:ext cx="305280" cy="151920"/>
            <a:chOff x="4114440" y="2590920"/>
            <a:chExt cx="305280" cy="151920"/>
          </a:xfrm>
        </p:grpSpPr>
        <p:sp>
          <p:nvSpPr>
            <p:cNvPr id="285" name=""/>
            <p:cNvSpPr/>
            <p:nvPr/>
          </p:nvSpPr>
          <p:spPr>
            <a:xfrm flipH="1">
              <a:off x="4267080" y="2742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114440" y="259092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38120" y="2895480"/>
            <a:ext cx="228960" cy="76320"/>
            <a:chOff x="4038120" y="2895480"/>
            <a:chExt cx="228960" cy="76320"/>
          </a:xfrm>
        </p:grpSpPr>
        <p:sp>
          <p:nvSpPr>
            <p:cNvPr id="288" name=""/>
            <p:cNvSpPr/>
            <p:nvPr/>
          </p:nvSpPr>
          <p:spPr>
            <a:xfrm flipH="1">
              <a:off x="4152600" y="297180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38120" y="2895480"/>
              <a:ext cx="114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saneamiento de aguas ser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6381720"/>
            <a:ext cx="331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Arial"/>
              </a:rPr>
              <a:t>Fuente: Aguas Andinas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6560" y="1557360"/>
            <a:ext cx="4249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ización de des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4920" y="2287440"/>
            <a:ext cx="187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234936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237400" y="288360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2852640"/>
            <a:ext cx="446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lo industrias con descarga  a aguas superficiales (SISS, CNR) (lis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4920" y="4027320"/>
            <a:ext cx="410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minación dif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4089240"/>
            <a:ext cx="504720" cy="414360"/>
          </a:xfrm>
          <a:prstGeom prst="rightArrow">
            <a:avLst>
              <a:gd name="adj1" fmla="val 50000"/>
              <a:gd name="adj2" fmla="val 304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237400" y="4623480"/>
            <a:ext cx="708120" cy="503280"/>
          </a:xfrm>
          <a:custGeom>
            <a:avLst/>
            <a:gdLst>
              <a:gd name="textAreaLeft" fmla="*/ 236160 w 708120"/>
              <a:gd name="textAreaRight" fmla="*/ 606600 w 70812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4778280"/>
            <a:ext cx="475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sticidas (carbofurano y clorotalo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6560" y="1557360"/>
            <a:ext cx="76345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de Calidad (Fuentes de in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2200" y="242568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itoreo de calidad de aguas de la DGA(1984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2487600"/>
            <a:ext cx="360360" cy="343080"/>
          </a:xfrm>
          <a:prstGeom prst="rightArrow">
            <a:avLst>
              <a:gd name="adj1" fmla="val 50000"/>
              <a:gd name="adj2" fmla="val 262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465300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Aguas And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471492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2200" y="3289320"/>
            <a:ext cx="68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Tratamiento de aguas servidas del Gran Santiago, Julio 1995 (Informe Final “Modelo hidrológico y calidad de aguas”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3512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3640" y="5307120"/>
            <a:ext cx="68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 de muestreo CADE-ID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536904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971800"/>
            <a:ext cx="6629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1. Análisis por es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viden las subcuen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indican áreas y alt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de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2565360"/>
            <a:ext cx="720720" cy="341280"/>
          </a:xfrm>
          <a:prstGeom prst="rightArrow">
            <a:avLst>
              <a:gd name="adj1" fmla="val 50000"/>
              <a:gd name="adj2" fmla="val 527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276640"/>
            <a:ext cx="13683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.G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213372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16000">
            <a:off x="2837160" y="339120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ENEFIC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450864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ios Públicos, Agricultores en general, Minería, CONAMA y Partic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527200">
            <a:off x="5585400" y="3391560"/>
            <a:ext cx="1911240" cy="921600"/>
          </a:xfrm>
          <a:custGeom>
            <a:avLst/>
            <a:gdLst>
              <a:gd name="textAreaLeft" fmla="*/ 0 w 1911240"/>
              <a:gd name="textAreaRight" fmla="*/ 1911600 w 1911240"/>
              <a:gd name="textAreaTop" fmla="*/ 219240 h 921600"/>
              <a:gd name="textAreaBottom" fmla="*/ 702360 h 921600"/>
            </a:gdLst>
            <a:ahLst/>
            <a:rect l="textAreaLeft" t="textAreaTop" r="textAreaRight" b="textAreaBottom"/>
            <a:pathLst>
              <a:path w="21600" h="21600">
                <a:moveTo>
                  <a:pt x="0" y="5139"/>
                </a:moveTo>
                <a:lnTo>
                  <a:pt x="0" y="16461"/>
                </a:lnTo>
                <a:lnTo>
                  <a:pt x="7577" y="16461"/>
                </a:lnTo>
                <a:lnTo>
                  <a:pt x="7577" y="18406"/>
                </a:lnTo>
                <a:lnTo>
                  <a:pt x="5367" y="18406"/>
                </a:lnTo>
                <a:lnTo>
                  <a:pt x="10800" y="21600"/>
                </a:lnTo>
                <a:lnTo>
                  <a:pt x="16233" y="18406"/>
                </a:lnTo>
                <a:lnTo>
                  <a:pt x="14023" y="18406"/>
                </a:lnTo>
                <a:lnTo>
                  <a:pt x="14023" y="16461"/>
                </a:lnTo>
                <a:lnTo>
                  <a:pt x="21600" y="16461"/>
                </a:lnTo>
                <a:lnTo>
                  <a:pt x="21600" y="5139"/>
                </a:lnTo>
                <a:lnTo>
                  <a:pt x="14023" y="5139"/>
                </a:lnTo>
                <a:lnTo>
                  <a:pt x="14023" y="3194"/>
                </a:lnTo>
                <a:lnTo>
                  <a:pt x="16233" y="3194"/>
                </a:lnTo>
                <a:lnTo>
                  <a:pt x="10800" y="0"/>
                </a:lnTo>
                <a:lnTo>
                  <a:pt x="5367" y="3194"/>
                </a:lnTo>
                <a:lnTo>
                  <a:pt x="7577" y="3194"/>
                </a:lnTo>
                <a:lnTo>
                  <a:pt x="7577" y="513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4508640"/>
            <a:ext cx="3168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ificar las aguas Continentales del país según objetivos de calidad para la aplicación de normas de calidad ambiental del recurso híd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69339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7840" y="1905120"/>
            <a:ext cx="1279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133720"/>
            <a:ext cx="609480" cy="333360"/>
          </a:xfrm>
          <a:prstGeom prst="rightArrow">
            <a:avLst>
              <a:gd name="adj1" fmla="val 50000"/>
              <a:gd name="adj2" fmla="val 45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905120"/>
            <a:ext cx="3657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ción las Hua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90392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971800"/>
            <a:ext cx="6629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2 Conclu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medi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alt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cuenca baja del Mapo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3048120"/>
            <a:ext cx="2286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í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st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5943600" cy="169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3276720" y="3276000"/>
            <a:ext cx="609480" cy="685800"/>
          </a:xfrm>
          <a:custGeom>
            <a:avLst/>
            <a:gdLst>
              <a:gd name="textAreaLeft" fmla="*/ 203040 w 609480"/>
              <a:gd name="textAreaRight" fmla="*/ 522000 w 6094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981080"/>
            <a:ext cx="6781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1. Análisis información fluviomét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990800"/>
            <a:ext cx="5943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Análisi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2895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2.1. Selec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pH, DB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E,OD, SS y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. 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AS, Nitrito,Cloruro, Sulfato, Cu, Cr total, Arsénico, Plomo,Al, Mn, Mo, Zinc, Coliformes totales y hi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3451" r="0" b="0"/>
          <a:stretch/>
        </p:blipFill>
        <p:spPr>
          <a:xfrm>
            <a:off x="1066680" y="2057400"/>
            <a:ext cx="6782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Selección de parámet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a 4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de datos integ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43828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DGA:Nivel 1, 2, 3 para los perío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iónales de invierno, verano, primavera y oto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 de Muestreo Puntual CADE-IDEPE: Niv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ación estimada por el Consultor: Ni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rograma de tratamiento de las aguas servidas del Gran Santiago, 1995 (MOP-C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Información Aguas Andinas. Información ni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908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 de datos por período es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6390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2060640"/>
            <a:ext cx="34560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3357720"/>
            <a:ext cx="1440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4292640"/>
            <a:ext cx="64803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 Secundaria de Calidad Ambi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5734080"/>
            <a:ext cx="49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Fuente: Mesenia Atenas, Jefa del departamento de Conservación de la D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Análisis y procesamiento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que inciden en la calidad de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5438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Espacio Temporal en Cauce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523880" y="2209680"/>
            <a:ext cx="678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2 cauces principales: Maipo y Mapoc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de los Parámetros de Calidad a nivel de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676520" y="2438280"/>
            <a:ext cx="6019560" cy="4214880"/>
            <a:chOff x="1676520" y="2438280"/>
            <a:chExt cx="6019560" cy="42148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rcRect l="0" t="0" r="31374" b="0"/>
            <a:stretch/>
          </p:blipFill>
          <p:spPr>
            <a:xfrm>
              <a:off x="1676520" y="2438280"/>
              <a:ext cx="60195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828800" y="6454440"/>
              <a:ext cx="56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17892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lases de Calidad Actual a Nivel de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2514600"/>
            <a:ext cx="6933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dificación del agua meteórica por 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mosfé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eorización de las formaciones rocosas por intemperización, lo que lleva a un aumento de la superficie específica y por tanto mayor intensidad de la reacción de lixiv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xiviación superficial de rocas meteorizadas por escorrentí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rretimiento de nieve á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lubilización de compuestos presentes en los su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ntración de solutos por evaporación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astre de sólidos por escorrentías y pérdida de cobertura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lidad actual y natural de los cursos 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789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dad Natural y Factores In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3720"/>
            <a:ext cx="5105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ámetros que exceden la clase de ex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2895480"/>
            <a:ext cx="28954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 Cob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2 Alum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3 Hie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4 Cr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5 Molibde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6 Mangan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7 Conductividad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95680" y="2895480"/>
            <a:ext cx="289584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8 Relación de absorción de sodio (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9 Sulfa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0 Z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1Ars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2 Clorur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4.13 Pl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60020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ecimiento de t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57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514600"/>
            <a:ext cx="47246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actual más caracter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de uso a preser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ciones en el tr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ámetros seleccionados que requieren más 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2668680"/>
            <a:ext cx="251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uencas que se encuentran desarrollando estud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2327400"/>
            <a:ext cx="29512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q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nc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chap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ío B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997360"/>
            <a:ext cx="976320" cy="100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445000"/>
            <a:ext cx="2663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ño 2002 Licitó 33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imientos de Calidad según Usos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754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roposición de las clase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Cumplimiento de la Calidad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514600"/>
            <a:ext cx="6553080" cy="31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bre de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estacional del par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asignada estaci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o en el que se ubica la estación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l parámetro según el Instructivo para la Clase Objetivo del T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1865160"/>
            <a:ext cx="784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103560"/>
            <a:ext cx="3352680" cy="28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u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B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igeno Di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ólidos Susp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liformes Fe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2916360"/>
            <a:ext cx="21337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or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ul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rom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gan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ibd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umi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rsé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liformes To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514600"/>
            <a:ext cx="2895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2514600"/>
            <a:ext cx="2895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 de Calidad de Agua Superficial (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19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472280" cy="4280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433760" y="2819520"/>
            <a:ext cx="4710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2438280"/>
            <a:ext cx="59436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blig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Prin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con Límite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Sin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ámetros Orgánico Plagu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620640"/>
            <a:ext cx="85327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tros 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1865160"/>
            <a:ext cx="762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 Monitore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800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533520"/>
            <a:ext cx="85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entarios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1828800"/>
            <a:ext cx="79246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icultad de aplicabilidad del AP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ción de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ciencias de análisis de descargas industriales y activ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708280"/>
            <a:ext cx="2952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estudiar la cue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Maipo – Mapoch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708280"/>
            <a:ext cx="503280" cy="1009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2349360"/>
            <a:ext cx="3446280" cy="429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Recursos Lim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38800" y="3002040"/>
            <a:ext cx="380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3399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Actividad Antrópica Fue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(6 millones de hab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362480" y="392760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14972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Dda. (Doméstica, Industrial y Agríc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62480" y="4791240"/>
            <a:ext cx="852480" cy="576000"/>
          </a:xfrm>
          <a:custGeom>
            <a:avLst/>
            <a:gdLst>
              <a:gd name="textAreaLeft" fmla="*/ 158400 w 852480"/>
              <a:gd name="textAreaRight" fmla="*/ 743040 w 852480"/>
              <a:gd name="textAreaTop" fmla="*/ 365760 h 576000"/>
              <a:gd name="textAreaBottom" fmla="*/ 5022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3716" y="16492"/>
                </a:lnTo>
                <a:lnTo>
                  <a:pt x="13716" y="4020"/>
                </a:lnTo>
                <a:lnTo>
                  <a:pt x="10940" y="4020"/>
                </a:lnTo>
                <a:lnTo>
                  <a:pt x="16270" y="0"/>
                </a:lnTo>
                <a:lnTo>
                  <a:pt x="21600" y="4020"/>
                </a:lnTo>
                <a:lnTo>
                  <a:pt x="18824" y="4020"/>
                </a:lnTo>
                <a:lnTo>
                  <a:pt x="18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3360"/>
            <a:ext cx="39243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 producción de 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37000"/>
            <a:ext cx="3095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gnostico y Clasificación de Cursos y Cuerpos de Aguas según objetivos de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enc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MAIPO MAPO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284640"/>
            <a:ext cx="43200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916280"/>
            <a:ext cx="396108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2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916280"/>
            <a:ext cx="69138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lección de la cuenca y definición de ca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pilación de información y caracterización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lecimiento de la base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y procesamiento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dad actual y natural de los cursos superf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sición de las clase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s aspect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341360"/>
            <a:ext cx="756144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620640"/>
            <a:ext cx="7777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ción de la cuenca y definición d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4920" y="2205000"/>
            <a:ext cx="4969080" cy="35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68360" y="3357720"/>
            <a:ext cx="1800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351936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1:38:26Z</dcterms:created>
  <dc:creator>Néstor</dc:creator>
  <dc:description/>
  <dc:language>en-US</dc:language>
  <cp:lastModifiedBy>nrojas</cp:lastModifiedBy>
  <dcterms:modified xsi:type="dcterms:W3CDTF">2004-10-27T18:58:01Z</dcterms:modified>
  <cp:revision>44</cp:revision>
  <dc:subject/>
  <dc:title>Diapositiva 1</dc:title>
</cp:coreProperties>
</file>