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6E9-AAE5-44AF-8D6B-45F93F7C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B8E-867C-42E1-B707-E23C696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786-99D3-4EFE-A83B-CDA5615A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FA3-F9F7-46CC-B748-41D7ECF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786-0D99-41D9-B9EE-D09FE71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2A-88D2-4D16-B6C9-A79FDA8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7AC-3711-41CE-A34A-B65D27A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67A-44A3-407C-9ABD-7DF5721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B3F-D10A-4CFF-BEFF-2BCC60F8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9EC-5F7A-4DED-8E3B-078006C7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140-5419-4B92-B1C3-8935161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BAE-34D5-4707-9DDC-F9E929C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D987-4443-4651-AF9D-AC7C4585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88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89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89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90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90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91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91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975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980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986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987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1014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1015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1034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1037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1041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1044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1047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1052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1056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1062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1067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1093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1099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165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170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176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201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22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26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s Esfé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08600" y="5840280"/>
            <a:ext cx="99720" cy="150840"/>
            <a:chOff x="4908600" y="5840280"/>
            <a:chExt cx="99720" cy="150840"/>
          </a:xfrm>
        </p:grpSpPr>
        <p:sp>
          <p:nvSpPr>
            <p:cNvPr id="45" name=""/>
            <p:cNvSpPr/>
            <p:nvPr/>
          </p:nvSpPr>
          <p:spPr>
            <a:xfrm>
              <a:off x="4908600" y="5840280"/>
              <a:ext cx="99720" cy="150840"/>
            </a:xfrm>
            <a:custGeom>
              <a:avLst/>
              <a:gdLst/>
              <a:ahLst/>
              <a:rect l="l" t="t" r="r" b="b"/>
              <a:pathLst>
                <a:path w="251" h="377">
                  <a:moveTo>
                    <a:pt x="0" y="377"/>
                  </a:moveTo>
                  <a:lnTo>
                    <a:pt x="0" y="0"/>
                  </a:lnTo>
                  <a:lnTo>
                    <a:pt x="2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08600" y="5916600"/>
              <a:ext cx="50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27560" y="2089080"/>
            <a:ext cx="854280" cy="3959280"/>
          </a:xfrm>
          <a:custGeom>
            <a:avLst/>
            <a:gdLst/>
            <a:ahLst/>
            <a:rect l="l" t="t" r="r" b="b"/>
            <a:pathLst>
              <a:path w="2156" h="9974">
                <a:moveTo>
                  <a:pt x="0" y="9974"/>
                </a:moveTo>
                <a:lnTo>
                  <a:pt x="650" y="9128"/>
                </a:lnTo>
                <a:lnTo>
                  <a:pt x="1191" y="8209"/>
                </a:lnTo>
                <a:lnTo>
                  <a:pt x="1619" y="7231"/>
                </a:lnTo>
                <a:lnTo>
                  <a:pt x="1924" y="6210"/>
                </a:lnTo>
                <a:lnTo>
                  <a:pt x="2104" y="5158"/>
                </a:lnTo>
                <a:lnTo>
                  <a:pt x="2156" y="4093"/>
                </a:lnTo>
                <a:lnTo>
                  <a:pt x="2079" y="3029"/>
                </a:lnTo>
                <a:lnTo>
                  <a:pt x="1874" y="1982"/>
                </a:lnTo>
                <a:lnTo>
                  <a:pt x="1544" y="967"/>
                </a:lnTo>
                <a:lnTo>
                  <a:pt x="10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22880"/>
            <a:ext cx="655560" cy="82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5680" y="5222880"/>
            <a:ext cx="6634080" cy="841320"/>
          </a:xfrm>
          <a:custGeom>
            <a:avLst/>
            <a:gdLst/>
            <a:ahLst/>
            <a:rect l="l" t="t" r="r" b="b"/>
            <a:pathLst>
              <a:path w="16718" h="2123">
                <a:moveTo>
                  <a:pt x="0" y="0"/>
                </a:moveTo>
                <a:lnTo>
                  <a:pt x="72" y="278"/>
                </a:lnTo>
                <a:lnTo>
                  <a:pt x="286" y="549"/>
                </a:lnTo>
                <a:lnTo>
                  <a:pt x="637" y="813"/>
                </a:lnTo>
                <a:lnTo>
                  <a:pt x="1121" y="1062"/>
                </a:lnTo>
                <a:lnTo>
                  <a:pt x="1728" y="1293"/>
                </a:lnTo>
                <a:lnTo>
                  <a:pt x="2449" y="1501"/>
                </a:lnTo>
                <a:lnTo>
                  <a:pt x="3271" y="1685"/>
                </a:lnTo>
                <a:lnTo>
                  <a:pt x="4180" y="1838"/>
                </a:lnTo>
                <a:lnTo>
                  <a:pt x="5160" y="1961"/>
                </a:lnTo>
                <a:lnTo>
                  <a:pt x="6196" y="2050"/>
                </a:lnTo>
                <a:lnTo>
                  <a:pt x="7268" y="2104"/>
                </a:lnTo>
                <a:lnTo>
                  <a:pt x="8360" y="2123"/>
                </a:lnTo>
                <a:lnTo>
                  <a:pt x="9450" y="2104"/>
                </a:lnTo>
                <a:lnTo>
                  <a:pt x="10523" y="2050"/>
                </a:lnTo>
                <a:lnTo>
                  <a:pt x="11558" y="1961"/>
                </a:lnTo>
                <a:lnTo>
                  <a:pt x="12538" y="1838"/>
                </a:lnTo>
                <a:lnTo>
                  <a:pt x="13447" y="1685"/>
                </a:lnTo>
                <a:lnTo>
                  <a:pt x="14270" y="1501"/>
                </a:lnTo>
                <a:lnTo>
                  <a:pt x="14991" y="1293"/>
                </a:lnTo>
                <a:lnTo>
                  <a:pt x="15599" y="1062"/>
                </a:lnTo>
                <a:lnTo>
                  <a:pt x="16081" y="813"/>
                </a:lnTo>
                <a:lnTo>
                  <a:pt x="16433" y="549"/>
                </a:lnTo>
                <a:lnTo>
                  <a:pt x="16646" y="278"/>
                </a:lnTo>
                <a:lnTo>
                  <a:pt x="1671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299200" y="6121440"/>
            <a:ext cx="99720" cy="149040"/>
            <a:chOff x="5299200" y="6121440"/>
            <a:chExt cx="99720" cy="149040"/>
          </a:xfrm>
        </p:grpSpPr>
        <p:sp>
          <p:nvSpPr>
            <p:cNvPr id="51" name=""/>
            <p:cNvSpPr/>
            <p:nvPr/>
          </p:nvSpPr>
          <p:spPr>
            <a:xfrm>
              <a:off x="5299200" y="6195960"/>
              <a:ext cx="99720" cy="74520"/>
            </a:xfrm>
            <a:custGeom>
              <a:avLst/>
              <a:gdLst/>
              <a:ahLst/>
              <a:rect l="l" t="t" r="r" b="b"/>
              <a:pathLst>
                <a:path w="251" h="188">
                  <a:moveTo>
                    <a:pt x="0" y="188"/>
                  </a:moveTo>
                  <a:lnTo>
                    <a:pt x="189" y="188"/>
                  </a:lnTo>
                  <a:lnTo>
                    <a:pt x="251" y="125"/>
                  </a:lnTo>
                  <a:lnTo>
                    <a:pt x="251" y="62"/>
                  </a:lnTo>
                  <a:lnTo>
                    <a:pt x="189" y="0"/>
                  </a:lnTo>
                  <a:lnTo>
                    <a:pt x="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99200" y="6121440"/>
              <a:ext cx="99720" cy="74520"/>
            </a:xfrm>
            <a:custGeom>
              <a:avLst/>
              <a:gdLst/>
              <a:ahLst/>
              <a:rect l="l" t="t" r="r" b="b"/>
              <a:pathLst>
                <a:path w="251" h="190">
                  <a:moveTo>
                    <a:pt x="189" y="190"/>
                  </a:moveTo>
                  <a:lnTo>
                    <a:pt x="251" y="126"/>
                  </a:lnTo>
                  <a:lnTo>
                    <a:pt x="251" y="64"/>
                  </a:lnTo>
                  <a:lnTo>
                    <a:pt x="18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24400" y="6121440"/>
              <a:ext cx="10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42040" y="6014880"/>
            <a:ext cx="100080" cy="100080"/>
            <a:chOff x="6242040" y="6014880"/>
            <a:chExt cx="100080" cy="100080"/>
          </a:xfrm>
        </p:grpSpPr>
        <p:sp>
          <p:nvSpPr>
            <p:cNvPr id="55" name=""/>
            <p:cNvSpPr/>
            <p:nvPr/>
          </p:nvSpPr>
          <p:spPr>
            <a:xfrm>
              <a:off x="6242040" y="6014880"/>
              <a:ext cx="74520" cy="100080"/>
            </a:xfrm>
            <a:custGeom>
              <a:avLst/>
              <a:gdLst/>
              <a:ahLst/>
              <a:rect l="l" t="t" r="r" b="b"/>
              <a:pathLst>
                <a:path w="188" h="252">
                  <a:moveTo>
                    <a:pt x="126" y="252"/>
                  </a:moveTo>
                  <a:lnTo>
                    <a:pt x="62" y="252"/>
                  </a:lnTo>
                  <a:lnTo>
                    <a:pt x="0" y="190"/>
                  </a:lnTo>
                  <a:lnTo>
                    <a:pt x="0" y="64"/>
                  </a:lnTo>
                  <a:lnTo>
                    <a:pt x="62" y="0"/>
                  </a:lnTo>
                  <a:lnTo>
                    <a:pt x="126" y="0"/>
                  </a:lnTo>
                  <a:lnTo>
                    <a:pt x="188" y="64"/>
                  </a:lnTo>
                  <a:lnTo>
                    <a:pt x="188" y="190"/>
                  </a:lnTo>
                  <a:lnTo>
                    <a:pt x="126" y="2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6560" y="6089760"/>
              <a:ext cx="2556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 flipV="1">
            <a:off x="6365880" y="5460480"/>
            <a:ext cx="2232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337080" y="5267160"/>
            <a:ext cx="19080" cy="12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308280" y="507204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278040" y="487836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249600" y="4684320"/>
            <a:ext cx="1908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221160" y="4489200"/>
            <a:ext cx="190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190920" y="4295520"/>
            <a:ext cx="1908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162840" y="4101840"/>
            <a:ext cx="1872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133680" y="390672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105240" y="371304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073560" y="3506400"/>
            <a:ext cx="2052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073920" y="5709960"/>
            <a:ext cx="12852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59680" y="5601960"/>
            <a:ext cx="12852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8080" y="2462040"/>
            <a:ext cx="4582800" cy="3295800"/>
          </a:xfrm>
          <a:custGeom>
            <a:avLst/>
            <a:gdLst/>
            <a:ahLst/>
            <a:rect l="l" t="t" r="r" b="b"/>
            <a:pathLst>
              <a:path w="11549" h="8304">
                <a:moveTo>
                  <a:pt x="11549" y="8304"/>
                </a:moveTo>
                <a:lnTo>
                  <a:pt x="11393" y="7248"/>
                </a:lnTo>
                <a:lnTo>
                  <a:pt x="11115" y="6219"/>
                </a:lnTo>
                <a:lnTo>
                  <a:pt x="10718" y="5228"/>
                </a:lnTo>
                <a:lnTo>
                  <a:pt x="10209" y="4291"/>
                </a:lnTo>
                <a:lnTo>
                  <a:pt x="9592" y="3419"/>
                </a:lnTo>
                <a:lnTo>
                  <a:pt x="8879" y="2626"/>
                </a:lnTo>
                <a:lnTo>
                  <a:pt x="8077" y="1921"/>
                </a:lnTo>
                <a:lnTo>
                  <a:pt x="7199" y="1315"/>
                </a:lnTo>
                <a:lnTo>
                  <a:pt x="6257" y="816"/>
                </a:lnTo>
                <a:lnTo>
                  <a:pt x="5262" y="430"/>
                </a:lnTo>
                <a:lnTo>
                  <a:pt x="4228" y="164"/>
                </a:lnTo>
                <a:lnTo>
                  <a:pt x="3171" y="18"/>
                </a:lnTo>
                <a:lnTo>
                  <a:pt x="2105" y="0"/>
                </a:lnTo>
                <a:lnTo>
                  <a:pt x="1042" y="104"/>
                </a:lnTo>
                <a:lnTo>
                  <a:pt x="0" y="33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222880"/>
            <a:ext cx="2558880" cy="53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4950000"/>
            <a:ext cx="185760" cy="272880"/>
          </a:xfrm>
          <a:custGeom>
            <a:avLst/>
            <a:gdLst/>
            <a:ahLst/>
            <a:rect l="l" t="t" r="r" b="b"/>
            <a:pathLst>
              <a:path w="471" h="688">
                <a:moveTo>
                  <a:pt x="0" y="688"/>
                </a:moveTo>
                <a:lnTo>
                  <a:pt x="72" y="412"/>
                </a:lnTo>
                <a:lnTo>
                  <a:pt x="286" y="139"/>
                </a:lnTo>
                <a:lnTo>
                  <a:pt x="4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8520" y="4748040"/>
            <a:ext cx="272880" cy="120960"/>
          </a:xfrm>
          <a:custGeom>
            <a:avLst/>
            <a:gdLst/>
            <a:ahLst/>
            <a:rect l="l" t="t" r="r" b="b"/>
            <a:pathLst>
              <a:path w="688" h="307">
                <a:moveTo>
                  <a:pt x="0" y="307"/>
                </a:moveTo>
                <a:lnTo>
                  <a:pt x="332" y="135"/>
                </a:lnTo>
                <a:lnTo>
                  <a:pt x="6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616280"/>
            <a:ext cx="289080" cy="81000"/>
          </a:xfrm>
          <a:custGeom>
            <a:avLst/>
            <a:gdLst/>
            <a:ahLst/>
            <a:rect l="l" t="t" r="r" b="b"/>
            <a:pathLst>
              <a:path w="727" h="202">
                <a:moveTo>
                  <a:pt x="0" y="202"/>
                </a:moveTo>
                <a:lnTo>
                  <a:pt x="618" y="24"/>
                </a:lnTo>
                <a:lnTo>
                  <a:pt x="72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6320" y="4527720"/>
            <a:ext cx="293400" cy="56880"/>
          </a:xfrm>
          <a:custGeom>
            <a:avLst/>
            <a:gdLst/>
            <a:ahLst/>
            <a:rect l="l" t="t" r="r" b="b"/>
            <a:pathLst>
              <a:path w="741" h="144">
                <a:moveTo>
                  <a:pt x="0" y="144"/>
                </a:moveTo>
                <a:lnTo>
                  <a:pt x="345" y="67"/>
                </a:lnTo>
                <a:lnTo>
                  <a:pt x="7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57680" y="4462560"/>
            <a:ext cx="296640" cy="39600"/>
          </a:xfrm>
          <a:custGeom>
            <a:avLst/>
            <a:gdLst/>
            <a:ahLst/>
            <a:rect l="l" t="t" r="r" b="b"/>
            <a:pathLst>
              <a:path w="747" h="101">
                <a:moveTo>
                  <a:pt x="0" y="101"/>
                </a:moveTo>
                <a:lnTo>
                  <a:pt x="142" y="75"/>
                </a:lnTo>
                <a:lnTo>
                  <a:pt x="7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01920" y="4417920"/>
            <a:ext cx="298440" cy="27000"/>
          </a:xfrm>
          <a:custGeom>
            <a:avLst/>
            <a:gdLst/>
            <a:ahLst/>
            <a:rect l="l" t="t" r="r" b="b"/>
            <a:pathLst>
              <a:path w="752" h="65">
                <a:moveTo>
                  <a:pt x="0" y="65"/>
                </a:moveTo>
                <a:lnTo>
                  <a:pt x="1" y="65"/>
                </a:lnTo>
                <a:lnTo>
                  <a:pt x="7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49760" y="4392360"/>
            <a:ext cx="29988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99040" y="4381200"/>
            <a:ext cx="298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6520" y="4381560"/>
            <a:ext cx="300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95800" y="4392720"/>
            <a:ext cx="29844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43640" y="4417920"/>
            <a:ext cx="298440" cy="27000"/>
          </a:xfrm>
          <a:custGeom>
            <a:avLst/>
            <a:gdLst/>
            <a:ahLst/>
            <a:rect l="l" t="t" r="r" b="b"/>
            <a:pathLst>
              <a:path w="752" h="65">
                <a:moveTo>
                  <a:pt x="0" y="0"/>
                </a:moveTo>
                <a:lnTo>
                  <a:pt x="751" y="65"/>
                </a:lnTo>
                <a:lnTo>
                  <a:pt x="752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4462560"/>
            <a:ext cx="297000" cy="39600"/>
          </a:xfrm>
          <a:custGeom>
            <a:avLst/>
            <a:gdLst/>
            <a:ahLst/>
            <a:rect l="l" t="t" r="r" b="b"/>
            <a:pathLst>
              <a:path w="748" h="101">
                <a:moveTo>
                  <a:pt x="0" y="0"/>
                </a:moveTo>
                <a:lnTo>
                  <a:pt x="605" y="75"/>
                </a:lnTo>
                <a:lnTo>
                  <a:pt x="748" y="10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4527720"/>
            <a:ext cx="293760" cy="56880"/>
          </a:xfrm>
          <a:custGeom>
            <a:avLst/>
            <a:gdLst/>
            <a:ahLst/>
            <a:rect l="l" t="t" r="r" b="b"/>
            <a:pathLst>
              <a:path w="739" h="144">
                <a:moveTo>
                  <a:pt x="0" y="0"/>
                </a:moveTo>
                <a:lnTo>
                  <a:pt x="394" y="67"/>
                </a:lnTo>
                <a:lnTo>
                  <a:pt x="739" y="1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4616280"/>
            <a:ext cx="287280" cy="81000"/>
          </a:xfrm>
          <a:custGeom>
            <a:avLst/>
            <a:gdLst/>
            <a:ahLst/>
            <a:rect l="l" t="t" r="r" b="b"/>
            <a:pathLst>
              <a:path w="727" h="202">
                <a:moveTo>
                  <a:pt x="0" y="0"/>
                </a:moveTo>
                <a:lnTo>
                  <a:pt x="110" y="24"/>
                </a:lnTo>
                <a:lnTo>
                  <a:pt x="727" y="2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4040" y="4748040"/>
            <a:ext cx="273240" cy="120960"/>
          </a:xfrm>
          <a:custGeom>
            <a:avLst/>
            <a:gdLst/>
            <a:ahLst/>
            <a:rect l="l" t="t" r="r" b="b"/>
            <a:pathLst>
              <a:path w="688" h="307">
                <a:moveTo>
                  <a:pt x="0" y="0"/>
                </a:moveTo>
                <a:lnTo>
                  <a:pt x="356" y="135"/>
                </a:lnTo>
                <a:lnTo>
                  <a:pt x="688" y="3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5680" y="1905120"/>
            <a:ext cx="6634080" cy="3317760"/>
          </a:xfrm>
          <a:custGeom>
            <a:avLst/>
            <a:gdLst/>
            <a:ahLst/>
            <a:rect l="l" t="t" r="r" b="b"/>
            <a:pathLst>
              <a:path w="16718" h="8357">
                <a:moveTo>
                  <a:pt x="16247" y="7669"/>
                </a:moveTo>
                <a:lnTo>
                  <a:pt x="16433" y="7808"/>
                </a:lnTo>
                <a:lnTo>
                  <a:pt x="16646" y="8081"/>
                </a:lnTo>
                <a:lnTo>
                  <a:pt x="16718" y="8357"/>
                </a:lnTo>
                <a:lnTo>
                  <a:pt x="16657" y="7350"/>
                </a:lnTo>
                <a:lnTo>
                  <a:pt x="16474" y="6358"/>
                </a:lnTo>
                <a:lnTo>
                  <a:pt x="16175" y="5393"/>
                </a:lnTo>
                <a:lnTo>
                  <a:pt x="15760" y="4474"/>
                </a:lnTo>
                <a:lnTo>
                  <a:pt x="15239" y="3610"/>
                </a:lnTo>
                <a:lnTo>
                  <a:pt x="14615" y="2816"/>
                </a:lnTo>
                <a:lnTo>
                  <a:pt x="13902" y="2101"/>
                </a:lnTo>
                <a:lnTo>
                  <a:pt x="13107" y="1479"/>
                </a:lnTo>
                <a:lnTo>
                  <a:pt x="12243" y="956"/>
                </a:lnTo>
                <a:lnTo>
                  <a:pt x="11324" y="542"/>
                </a:lnTo>
                <a:lnTo>
                  <a:pt x="10360" y="242"/>
                </a:lnTo>
                <a:lnTo>
                  <a:pt x="9367" y="61"/>
                </a:lnTo>
                <a:lnTo>
                  <a:pt x="8360" y="0"/>
                </a:lnTo>
                <a:lnTo>
                  <a:pt x="7351" y="61"/>
                </a:lnTo>
                <a:lnTo>
                  <a:pt x="6359" y="242"/>
                </a:lnTo>
                <a:lnTo>
                  <a:pt x="5396" y="542"/>
                </a:lnTo>
                <a:lnTo>
                  <a:pt x="4475" y="956"/>
                </a:lnTo>
                <a:lnTo>
                  <a:pt x="3611" y="1479"/>
                </a:lnTo>
                <a:lnTo>
                  <a:pt x="2816" y="2101"/>
                </a:lnTo>
                <a:lnTo>
                  <a:pt x="2103" y="2816"/>
                </a:lnTo>
                <a:lnTo>
                  <a:pt x="1481" y="3610"/>
                </a:lnTo>
                <a:lnTo>
                  <a:pt x="958" y="4474"/>
                </a:lnTo>
                <a:lnTo>
                  <a:pt x="544" y="5393"/>
                </a:lnTo>
                <a:lnTo>
                  <a:pt x="244" y="6358"/>
                </a:lnTo>
                <a:lnTo>
                  <a:pt x="61" y="7350"/>
                </a:lnTo>
                <a:lnTo>
                  <a:pt x="0" y="8357"/>
                </a:lnTo>
                <a:lnTo>
                  <a:pt x="16718" y="83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00480" y="5818320"/>
            <a:ext cx="28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53040" y="563688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27560" y="5454360"/>
            <a:ext cx="49320" cy="12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02080" y="527328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76960" y="5091120"/>
            <a:ext cx="4896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50040" y="490968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524560" y="472716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599080" y="4546440"/>
            <a:ext cx="50760" cy="12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73600" y="436356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48480" y="4182840"/>
            <a:ext cx="489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823000" y="400032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897520" y="3817800"/>
            <a:ext cx="4932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970600" y="363672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5120" y="3506760"/>
            <a:ext cx="28800" cy="2276640"/>
          </a:xfrm>
          <a:custGeom>
            <a:avLst/>
            <a:gdLst/>
            <a:ahLst/>
            <a:rect l="l" t="t" r="r" b="b"/>
            <a:pathLst>
              <a:path w="72" h="5736">
                <a:moveTo>
                  <a:pt x="0" y="174"/>
                </a:moveTo>
                <a:lnTo>
                  <a:pt x="72" y="0"/>
                </a:lnTo>
                <a:lnTo>
                  <a:pt x="72" y="57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3506400"/>
            <a:ext cx="1501920" cy="17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0" y="1905120"/>
            <a:ext cx="1440" cy="331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80200" y="5466960"/>
            <a:ext cx="101160" cy="149760"/>
            <a:chOff x="5380200" y="5466960"/>
            <a:chExt cx="101160" cy="149760"/>
          </a:xfrm>
        </p:grpSpPr>
        <p:sp>
          <p:nvSpPr>
            <p:cNvPr id="105" name=""/>
            <p:cNvSpPr/>
            <p:nvPr/>
          </p:nvSpPr>
          <p:spPr>
            <a:xfrm flipV="1">
              <a:off x="5380200" y="546696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80200" y="5541840"/>
              <a:ext cx="9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79920" y="546732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5913360" y="5783400"/>
            <a:ext cx="16056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17880" y="5808600"/>
            <a:ext cx="12996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21320" y="5829480"/>
            <a:ext cx="13176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5840" y="5850000"/>
            <a:ext cx="12996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0480" y="5848200"/>
            <a:ext cx="160560" cy="39960"/>
          </a:xfrm>
          <a:custGeom>
            <a:avLst/>
            <a:gdLst/>
            <a:ahLst/>
            <a:rect l="l" t="t" r="r" b="b"/>
            <a:pathLst>
              <a:path w="407" h="100">
                <a:moveTo>
                  <a:pt x="407" y="57"/>
                </a:moveTo>
                <a:lnTo>
                  <a:pt x="0" y="100"/>
                </a:lnTo>
                <a:lnTo>
                  <a:pt x="1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26120" y="5749560"/>
            <a:ext cx="11268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96040" y="5651640"/>
            <a:ext cx="1126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5600" y="5552640"/>
            <a:ext cx="1130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735520" y="5479560"/>
            <a:ext cx="684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1080" y="5661000"/>
            <a:ext cx="6660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2840" y="5689440"/>
            <a:ext cx="127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5080" y="5729400"/>
            <a:ext cx="127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6960" y="5770440"/>
            <a:ext cx="669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1440" y="5284800"/>
            <a:ext cx="100080" cy="14904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189" y="189"/>
                </a:moveTo>
                <a:lnTo>
                  <a:pt x="251" y="189"/>
                </a:lnTo>
                <a:lnTo>
                  <a:pt x="251" y="377"/>
                </a:lnTo>
                <a:lnTo>
                  <a:pt x="63" y="377"/>
                </a:lnTo>
                <a:lnTo>
                  <a:pt x="0" y="315"/>
                </a:lnTo>
                <a:lnTo>
                  <a:pt x="0" y="63"/>
                </a:lnTo>
                <a:lnTo>
                  <a:pt x="63" y="0"/>
                </a:lnTo>
                <a:lnTo>
                  <a:pt x="2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30840" y="4795920"/>
            <a:ext cx="100080" cy="100080"/>
          </a:xfrm>
          <a:custGeom>
            <a:avLst/>
            <a:gdLst/>
            <a:ahLst/>
            <a:rect l="l" t="t" r="r" b="b"/>
            <a:pathLst>
              <a:path w="252" h="251">
                <a:moveTo>
                  <a:pt x="252" y="0"/>
                </a:moveTo>
                <a:lnTo>
                  <a:pt x="62" y="0"/>
                </a:lnTo>
                <a:lnTo>
                  <a:pt x="0" y="62"/>
                </a:lnTo>
                <a:lnTo>
                  <a:pt x="0" y="188"/>
                </a:lnTo>
                <a:lnTo>
                  <a:pt x="62" y="251"/>
                </a:lnTo>
                <a:lnTo>
                  <a:pt x="252" y="2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70640" y="5403960"/>
            <a:ext cx="100080" cy="150840"/>
            <a:chOff x="6470640" y="5403960"/>
            <a:chExt cx="100080" cy="150840"/>
          </a:xfrm>
        </p:grpSpPr>
        <p:sp>
          <p:nvSpPr>
            <p:cNvPr id="124" name=""/>
            <p:cNvSpPr/>
            <p:nvPr/>
          </p:nvSpPr>
          <p:spPr>
            <a:xfrm>
              <a:off x="6470640" y="5403960"/>
              <a:ext cx="100080" cy="149040"/>
            </a:xfrm>
            <a:custGeom>
              <a:avLst/>
              <a:gdLst/>
              <a:ahLst/>
              <a:rect l="l" t="t" r="r" b="b"/>
              <a:pathLst>
                <a:path w="251" h="377">
                  <a:moveTo>
                    <a:pt x="0" y="377"/>
                  </a:moveTo>
                  <a:lnTo>
                    <a:pt x="0" y="0"/>
                  </a:lnTo>
                  <a:lnTo>
                    <a:pt x="2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70640" y="5478480"/>
              <a:ext cx="50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0640" y="5553000"/>
              <a:ext cx="100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5440" y="5772240"/>
            <a:ext cx="98280" cy="149040"/>
            <a:chOff x="6175440" y="5772240"/>
            <a:chExt cx="98280" cy="149040"/>
          </a:xfrm>
        </p:grpSpPr>
        <p:sp>
          <p:nvSpPr>
            <p:cNvPr id="128" name=""/>
            <p:cNvSpPr/>
            <p:nvPr/>
          </p:nvSpPr>
          <p:spPr>
            <a:xfrm>
              <a:off x="6175440" y="5772240"/>
              <a:ext cx="98280" cy="149040"/>
            </a:xfrm>
            <a:custGeom>
              <a:avLst/>
              <a:gdLst/>
              <a:ahLst/>
              <a:rect l="l" t="t" r="r" b="b"/>
              <a:pathLst>
                <a:path w="251" h="378">
                  <a:moveTo>
                    <a:pt x="0" y="378"/>
                  </a:moveTo>
                  <a:lnTo>
                    <a:pt x="187" y="378"/>
                  </a:lnTo>
                  <a:lnTo>
                    <a:pt x="251" y="315"/>
                  </a:lnTo>
                  <a:lnTo>
                    <a:pt x="251" y="64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9200" y="5772240"/>
              <a:ext cx="144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211880" y="5819760"/>
            <a:ext cx="98640" cy="149400"/>
          </a:xfrm>
          <a:custGeom>
            <a:avLst/>
            <a:gdLst/>
            <a:ahLst/>
            <a:rect l="l" t="t" r="r" b="b"/>
            <a:pathLst>
              <a:path w="252" h="377">
                <a:moveTo>
                  <a:pt x="252" y="314"/>
                </a:moveTo>
                <a:lnTo>
                  <a:pt x="188" y="377"/>
                </a:lnTo>
                <a:lnTo>
                  <a:pt x="63" y="377"/>
                </a:lnTo>
                <a:lnTo>
                  <a:pt x="0" y="314"/>
                </a:lnTo>
                <a:lnTo>
                  <a:pt x="0" y="62"/>
                </a:lnTo>
                <a:lnTo>
                  <a:pt x="63" y="0"/>
                </a:lnTo>
                <a:lnTo>
                  <a:pt x="188" y="0"/>
                </a:lnTo>
                <a:lnTo>
                  <a:pt x="252" y="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88240" y="4347720"/>
            <a:ext cx="99720" cy="149760"/>
            <a:chOff x="6888240" y="4347720"/>
            <a:chExt cx="99720" cy="149760"/>
          </a:xfrm>
        </p:grpSpPr>
        <p:sp>
          <p:nvSpPr>
            <p:cNvPr id="132" name=""/>
            <p:cNvSpPr/>
            <p:nvPr/>
          </p:nvSpPr>
          <p:spPr>
            <a:xfrm flipV="1">
              <a:off x="6888240" y="434772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88240" y="4398840"/>
              <a:ext cx="99720" cy="9864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0" y="124"/>
                  </a:moveTo>
                  <a:lnTo>
                    <a:pt x="125" y="0"/>
                  </a:lnTo>
                  <a:lnTo>
                    <a:pt x="188" y="0"/>
                  </a:lnTo>
                  <a:lnTo>
                    <a:pt x="251" y="62"/>
                  </a:lnTo>
                  <a:lnTo>
                    <a:pt x="251" y="187"/>
                  </a:lnTo>
                  <a:lnTo>
                    <a:pt x="188" y="250"/>
                  </a:lnTo>
                  <a:lnTo>
                    <a:pt x="125" y="250"/>
                  </a:lnTo>
                  <a:lnTo>
                    <a:pt x="0" y="1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61040" y="3360600"/>
            <a:ext cx="100080" cy="149400"/>
            <a:chOff x="6161040" y="3360600"/>
            <a:chExt cx="100080" cy="149400"/>
          </a:xfrm>
        </p:grpSpPr>
        <p:sp>
          <p:nvSpPr>
            <p:cNvPr id="135" name=""/>
            <p:cNvSpPr/>
            <p:nvPr/>
          </p:nvSpPr>
          <p:spPr>
            <a:xfrm>
              <a:off x="6161040" y="3360600"/>
              <a:ext cx="100080" cy="149400"/>
            </a:xfrm>
            <a:custGeom>
              <a:avLst/>
              <a:gdLst/>
              <a:ahLst/>
              <a:rect l="l" t="t" r="r" b="b"/>
              <a:pathLst>
                <a:path w="252" h="376">
                  <a:moveTo>
                    <a:pt x="0" y="376"/>
                  </a:moveTo>
                  <a:lnTo>
                    <a:pt x="0" y="250"/>
                  </a:lnTo>
                  <a:lnTo>
                    <a:pt x="126" y="0"/>
                  </a:lnTo>
                  <a:lnTo>
                    <a:pt x="252" y="250"/>
                  </a:lnTo>
                  <a:lnTo>
                    <a:pt x="252" y="3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1040" y="3460680"/>
              <a:ext cx="100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188960" y="4905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240" y="135720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co esférico de radio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53080" y="167652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3600" y="632448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905120" y="5867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0880" y="19051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9560" y="22096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3960" y="388620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71800" y="25146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155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163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174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205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226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230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235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238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241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246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250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255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261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266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271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336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350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352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39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40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43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45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46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47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47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47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48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48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49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529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539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548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556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563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568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574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578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687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692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696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699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702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713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734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738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741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748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753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757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760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8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8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8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8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86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86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Eduardo Alvarez Ramírez</cp:lastModifiedBy>
  <dcterms:modified xsi:type="dcterms:W3CDTF">1999-09-07T15:06:00Z</dcterms:modified>
  <cp:revision>283</cp:revision>
  <dc:subject/>
  <dc:title>Sin título de diapositiva</dc:title>
</cp:coreProperties>
</file>