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C18-6CC5-4066-8447-1D2F8659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12F-1EF7-4AA0-A416-A9D2E2F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E2B-D24D-41EF-91C2-377B6014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D02-69B1-45F9-BC4A-7DA22A27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B13-6065-4EEE-98A4-976F080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CE2-B7BC-4575-B68D-1B99737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D53-BD53-4C9B-8F13-8255E3B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95B-8CCE-4125-91B1-D757EBB8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B20-8A16-428F-B210-FD834C9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D10-E910-4E82-8002-B6BBF16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5C-372E-4D6F-B0EC-63F8032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192-9A07-4A9D-A9C4-E39AEDA9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A44-C6FE-40E0-93C4-5C47D96FB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umini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43564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r: Gustavo Gómez y Antonio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51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95640" y="40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sos 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2736720" cy="2421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85112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1636560" cy="218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236000" y="3429000"/>
            <a:ext cx="149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ctualidad: Alumy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ueños: Alumysa Joint Venture y NORANDA Holding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versión: US $ 2.750 millones, para una vida útil de 50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siste en reducir Aluminio a partir de alúmina para luego transformarlo en lingotes de Alu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el proceso de reducción se utilizarán 1.100.000 toneladas de insumos al año (alúmina, coque calcinado, alquitrán, criolita, sales fluoradas, fuel oil Nº2 y otros), provenientes del extranj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a producción alcanzaría 440.000 toneladas de lingotes de aluminio al año, orientada principalmente al mercado ext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bicación: Bahía Chacabuco, en la XI Región de Ays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bicación del proyecto Alum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692600" cy="4386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79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ciones a realiz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s centrales hidroeléctricas y sus Embalses, con una potencia total de: 750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9,2 Kilómetros de líneas de transmisión de 220 KV con torres de 40 metro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5 Kilómetros de caminos de acceso a las centrales y planta reduc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relleno industrial y otro domé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erto en costa suroeste de la Bahía Chacabuco que permita el atraque simultaneo de naves de 45.000 y de 20.000 tone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arcadero y muelle flotante al oeste de la desembocadura del río Cu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ta reductora de aluminio ubicada entre Bahía Chacabuco y Cande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r aproximadamente 846.000 toneladas de alúmina, 146.000 toneladas de coque calcinado y 43.500 toneladas de alquitrán. Otras materias primas serán el fluoruro de aluminio, diesel y gas li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pleo: 15.000 personas directa e indi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tractores y ra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Impacto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ración: 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: 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US$ 2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tuación actual de Alumysa: 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DE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Askeland, Donald R. “La Ciencia e Ingeniería de los Materiales”. Grupo Editorial Latinoamericana.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auling, Linus. “Química General”. Aguilar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áginas de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enciclopedia.us.es/wiki.phtml?title=Aluminio#Características_princip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enntech.com/espanol/tabla-peiodica/A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prodigyweb.net.mx/degcorp/Quimica/Aluminio.htm#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casa.com.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dalum.c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me.co.uk/aluminium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utechnik.com.ar/shop/otraspaginas.asp?pagina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ti.gov.ar/reciclado/mater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meb.com.mx/mecanica/0000009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conama.cl/portal/1255/article-2850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gratisweb.com/alumys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sonami.cl/boletin/bol1149/art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2728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Derivados o Aleaciones o materiales relacion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Us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800520" cy="2206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557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ros Co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3225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5838840" cy="33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620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tructuras montables y desmontables de grandes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0560" cy="518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63640" y="62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structuras como ventanales y t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45:23Z</dcterms:created>
  <dc:creator>GGK</dc:creator>
  <dc:description/>
  <dc:language>en-US</dc:language>
  <cp:lastModifiedBy>GGK</cp:lastModifiedBy>
  <dcterms:modified xsi:type="dcterms:W3CDTF">2004-04-16T04:51:32Z</dcterms:modified>
  <cp:revision>25</cp:revision>
  <dc:subject/>
  <dc:title>“Aluminio”</dc:title>
</cp:coreProperties>
</file>