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1F64-653B-4354-905D-5B6C67291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3C4D-BCF0-491D-9C51-9BD9AA7E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D239-5808-43B9-A859-9F2A3C9D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2859-9B92-41FE-8FFA-511645C5E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7011-D50B-424E-BB4A-E2576B49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D910-FA99-4109-A80B-664AA90A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095A-C1DB-4060-9374-4836DE8C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C1DD-5706-4DAD-A693-37AF1AF6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E06B-C190-4902-A054-F72FDEF7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C65D-116B-4581-BC67-B567F256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C119-75B9-4E0B-9616-4A1C34F7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97AA-2FD8-4065-8FB7-98735275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1F42-5BB1-48ED-83FF-1736DBEA2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lumini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08000" y="4869000"/>
            <a:ext cx="5435640" cy="15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or: Gustavo Gómez y Antonio Sepúlv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5516640"/>
            <a:ext cx="34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2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9200"/>
                            </p:stCondLst>
                            <p:childTnLst>
                              <p:par>
                                <p:cTn id="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195640" y="40464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Usos v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39640" y="907920"/>
            <a:ext cx="4248360" cy="3187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508720" y="404640"/>
            <a:ext cx="2736720" cy="2421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932360" y="3429000"/>
            <a:ext cx="1851120" cy="2619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835280" y="4221000"/>
            <a:ext cx="1636560" cy="2187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7236000" y="3429000"/>
            <a:ext cx="14950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5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75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9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Arial"/>
              </a:rPr>
              <a:t>Actualidad: Alumy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Dueños: Alumysa Joint Venture y NORANDA Holding Lim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Inversión: US $ 2.750 millones, para una vida útil de 50 añ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Consiste en reducir Aluminio a partir de alúmina para luego transformarlo en lingotes de Alumi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En el proceso de reducción se utilizarán 1.100.000 toneladas de insumos al año (alúmina, coque calcinado, alquitrán, criolita, sales fluoradas, fuel oil Nº2 y otros), provenientes del extranjer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La producción alcanzaría 440.000 toneladas de lingotes de aluminio al año, orientada principalmente al mercado exter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Ubicación: Bahía Chacabuco, en la XI Región de Aysé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446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Ubicación del proyecto Alumy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4692600" cy="4386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932360" y="1052640"/>
            <a:ext cx="397980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496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nstrucciones a realiz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res centrales hidroeléctricas y sus Embalses, con una potencia total de: 750 M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79,2 Kilómetros de líneas de transmisión de 220 KV con torres de 40 metros de a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95 Kilómetros de caminos de acceso a las centrales y planta reduc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n relleno industrial y otro domés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uerto en costa suroeste de la Bahía Chacabuco que permita el atraque simultaneo de naves de 45.000 y de 20.000 tonel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mbarcadero y muelle flotante al oeste de la desembocadura del río Cuer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lanta reductora de aluminio ubicada entre Bahía Chacabuco y Candel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mportar aproximadamente 846.000 toneladas de alúmina, 146.000 toneladas de coque calcinado y 43.500 toneladas de alquitrán. Otras materias primas serán el fluoruro de aluminio, diesel y gas licu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mpleo: 15.000 personas directa e indirect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Detractores y raz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Estudio de Impacto Ambient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Duración: 2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Costo: </a:t>
            </a:r>
            <a:r>
              <a:rPr b="0" lang="es-ES_tradnl" sz="2000" spc="-1" strike="noStrike">
                <a:solidFill>
                  <a:srgbClr val="000066"/>
                </a:solidFill>
                <a:latin typeface="Arial"/>
              </a:rPr>
              <a:t>US$ 2.0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Situación actual de Alumysa: </a:t>
            </a:r>
            <a:r>
              <a:rPr b="0" lang="es-ES" sz="2000" spc="-1" strike="noStrike">
                <a:solidFill>
                  <a:srgbClr val="cc3300"/>
                </a:solidFill>
                <a:latin typeface="Arial"/>
              </a:rPr>
              <a:t>DETEN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Fut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1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Arial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40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99"/>
                </a:solidFill>
                <a:latin typeface="Arial"/>
              </a:rPr>
              <a:t>Askeland, Donald R. “La Ciencia e Ingeniería de los Materiales”. Grupo Editorial Latinoamericana. 198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99"/>
                </a:solidFill>
                <a:latin typeface="Arial"/>
              </a:rPr>
              <a:t>Pauling, Linus. “Química General”. Aguilar. 19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99"/>
                </a:solidFill>
                <a:latin typeface="Arial"/>
              </a:rPr>
              <a:t>Páginas de Intern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enciclopedia.us.es/wiki.phtml?title=Aluminio#Características_principa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lenntech.com/espanol/tabla-peiodica/Al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prodigyweb.net.mx/degcorp/Quimica/Aluminio.htm#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alcasa.com.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indalum.cl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lme.co.uk/aluminium.a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alutechnik.com.ar/shop/otraspaginas.asp?pagina=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inti.gov.ar/reciclado/materias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meb.com.mx/mecanica/00000092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conama.cl/portal/1255/article-28505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gratisweb.com/alumysa/index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sonami.cl/boletin/bol1149/art8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75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80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85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90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9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15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25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627280" y="249228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Arial"/>
              </a:rPr>
              <a:t>His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Arial"/>
              </a:rPr>
              <a:t>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Arial"/>
              </a:rPr>
              <a:t>Aspectos Económ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Arial"/>
              </a:rPr>
              <a:t>Propie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Arial"/>
              </a:rPr>
              <a:t>Derivados o Aleaciones o materiales relacion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Arial"/>
              </a:rPr>
              <a:t>Usos Princip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11280" y="2565360"/>
            <a:ext cx="3800520" cy="2206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92360" y="155736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Muros Cor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788000" y="2565360"/>
            <a:ext cx="322560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476360" y="1413000"/>
            <a:ext cx="5838840" cy="332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16000" y="620640"/>
            <a:ext cx="66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Estructuras montables y desmontables de grandes dimens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116000" y="1125360"/>
            <a:ext cx="6910560" cy="5183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763640" y="62064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Estructuras como ventanales y tech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01:45:23Z</dcterms:created>
  <dc:creator>GGK</dc:creator>
  <dc:description/>
  <dc:language>en-US</dc:language>
  <cp:lastModifiedBy>GGK</cp:lastModifiedBy>
  <dcterms:modified xsi:type="dcterms:W3CDTF">2004-04-16T04:51:32Z</dcterms:modified>
  <cp:revision>25</cp:revision>
  <dc:subject/>
  <dc:title>“Aluminio”</dc:title>
</cp:coreProperties>
</file>