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856-5670-454B-B976-1F138DEA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5BE-03AF-45FA-9FE3-3D6FC76E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8D2-8451-4449-82DA-F36E9029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A21-6D1A-4FE7-AFB6-FECB41B9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EED-0E44-4497-A9FC-7EDE8F1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841-2B48-4BFB-8762-69D06E5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0A4-AC5C-42DB-9090-8165039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C57-7E7B-43AA-A7F3-31836D2B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74-23AF-45B2-A508-A5C07314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981-F69D-48EA-A10C-E40D5D9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6B2-60CE-4D25-868E-C30F2B9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3F4-930C-48C4-AEA0-1E2425A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22C2-71D5-463A-8502-F83F795B23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1_003" descr=""/>
          <p:cNvPicPr/>
          <p:nvPr/>
        </p:nvPicPr>
        <p:blipFill>
          <a:blip r:embed="rId1"/>
          <a:stretch/>
        </p:blipFill>
        <p:spPr>
          <a:xfrm>
            <a:off x="-457200" y="0"/>
            <a:ext cx="10287000" cy="838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Hierro         </a:t>
            </a:r>
            <a:br>
              <a:rPr sz="9000"/>
            </a:b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“El Rey de los Metales”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0" spc="-1" strike="noStrike">
                <a:solidFill>
                  <a:srgbClr val="000000"/>
                </a:solidFill>
                <a:latin typeface="Monotype Corsiva"/>
              </a:rPr>
              <a:t>Historia del Acer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Hierr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bruj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Metal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sider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storia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f5f5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400" spc="-1" strike="noStrike">
                <a:solidFill>
                  <a:srgbClr val="000000"/>
                </a:solidFill>
                <a:latin typeface="Monotype Corsiva"/>
              </a:rPr>
              <a:t>El nuevo Metal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rbon1" descr=""/>
          <p:cNvPicPr/>
          <p:nvPr/>
        </p:nvPicPr>
        <p:blipFill>
          <a:blip r:embed="rId1"/>
          <a:stretch/>
        </p:blipFill>
        <p:spPr>
          <a:xfrm>
            <a:off x="-228600" y="-157320"/>
            <a:ext cx="9677520" cy="724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86400" y="10663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Bro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Hier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er042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525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que1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ffffcc"/>
                </a:solidFill>
                <a:latin typeface="Monotype Corsiva"/>
              </a:rPr>
              <a:t>Masificación de su us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Fin de la edad medi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Revolución Industria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400" spc="-1" strike="noStrike">
                <a:solidFill>
                  <a:srgbClr val="000000"/>
                </a:solidFill>
                <a:latin typeface="Monotype Corsiva"/>
              </a:rPr>
              <a:t>Producción del Acero</a:t>
            </a: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En la antigüe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Bessem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Producción en alto horn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Inicios de la siderurgi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rrabio2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200" spc="-1" strike="noStrike">
                <a:solidFill>
                  <a:srgbClr val="000000"/>
                </a:solidFill>
                <a:latin typeface="Monotype Corsiva"/>
              </a:rPr>
              <a:t>Variación de la producción</a:t>
            </a:r>
            <a:r>
              <a:rPr b="0" lang="es-ES_tradnl" sz="62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1905120"/>
          <a:ext cx="5867280" cy="375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86728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400" spc="-1" strike="noStrike">
                <a:solidFill>
                  <a:srgbClr val="000000"/>
                </a:solidFill>
                <a:latin typeface="Monotype Corsiva"/>
              </a:rPr>
              <a:t>Producción actua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cer051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103_017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581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800" spc="-1" strike="noStrike">
                <a:solidFill>
                  <a:srgbClr val="000000"/>
                </a:solidFill>
                <a:latin typeface="Monotype Corsiva"/>
              </a:rPr>
              <a:t>Principales usos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rodcsh01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51460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prodcsh06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590560" cy="2073240"/>
          </a:xfrm>
          <a:prstGeom prst="rect">
            <a:avLst/>
          </a:prstGeom>
          <a:ln w="0">
            <a:noFill/>
          </a:ln>
        </p:spPr>
      </p:pic>
      <p:pic>
        <p:nvPicPr>
          <p:cNvPr id="65" name="prodcsh03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666880" cy="2135160"/>
          </a:xfrm>
          <a:prstGeom prst="rect">
            <a:avLst/>
          </a:prstGeom>
          <a:ln w="0">
            <a:noFill/>
          </a:ln>
        </p:spPr>
      </p:pic>
      <p:pic>
        <p:nvPicPr>
          <p:cNvPr id="66" name="tubos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18:08Z</dcterms:created>
  <dc:creator>Angélica   Jelves Baez</dc:creator>
  <dc:description/>
  <dc:language>en-US</dc:language>
  <cp:lastModifiedBy>Angélica   Jelves Baez</cp:lastModifiedBy>
  <dcterms:modified xsi:type="dcterms:W3CDTF">2004-04-16T03:27:36Z</dcterms:modified>
  <cp:revision>1</cp:revision>
  <dc:subject/>
  <dc:title>Hierro          “El Rey de los Metales”</dc:title>
</cp:coreProperties>
</file>