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628-18BC-4216-AC37-4FDB0C64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E5C-0557-4076-85A7-8326593E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C62-839F-4AF0-B9AD-26CFB84E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AD3-183E-4220-99BB-3771E631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472-B407-4572-8354-CD1D217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AAC-FE63-415A-886A-372B1C3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4B1-005F-4464-A747-15DBF890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E38-A29C-4F7C-BB1E-00B27D7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3D9-7B15-4A8A-8ACD-39A050C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E18-1980-4C4F-8B7B-1C7DE23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889-F3BD-4AC2-8292-F2E7FD0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0AC-79B9-4B1A-A398-2F67A9C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508-E5D8-4448-8751-EF5DE40A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umini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43564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r: Gustavo Gómez y Antonio Sepúlv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51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5838840" cy="33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16000" y="62064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tructuras montables y desmontables de grandes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0560" cy="518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63640" y="62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structuras como ventanales y t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404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sos v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2736720" cy="242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851120" cy="261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1636560" cy="2187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236000" y="3429000"/>
            <a:ext cx="149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ctualidad: Alumy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ueños: Alumysa Joint Venture y NORANDA Holding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versión: US $ 2.750 millones, para una vida útil de 50 añ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nsiste en reducir Aluminio a partir de alúmina para luego transformarlo en lingotes de Alu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el proceso de reducción se utilizarán 1.100.000 toneladas de insumos al año (alúmina, coque calcinado, alquitrán, criolita, sales fluoradas, fuel oil Nº2 y otros), provenientes del extranj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La producción alcanzaría 440.000 toneladas de lingotes de aluminio al año, orientada principalmente al mercado ext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Ubicación: Bahía Chacabuco, en la XI Región de Ays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bicación del proyecto Alumy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692600" cy="4386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39798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ciones a realiz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s centrales hidroeléctricas y sus Embalses, con una potencia total de: 750 M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9,2 Kilómetros de líneas de transmisión de 220 KV con torres de 40 metros de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5 Kilómetros de caminos de acceso a las centrales y planta reduc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relleno industrial y otro domé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erto en costa suroeste de la Bahía Chacabuco que permita el atraque simultaneo de naves de 45.000 y de 20.000 tone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barcadero y muelle flotante al oeste de la desembocadura del río Cuer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nta reductora de aluminio ubicada entre Bahía Chacabuco y Cande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r aproximadamente 846.000 toneladas de alúmina, 146.000 toneladas de coque calcinado y 43.500 toneladas de alquitrán. Otras materias primas serán el fluoruro de aluminio, diesel y gas li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pleo: 15.000 personas directa e indi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tractores y ra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udio de Impacto Ambien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ración: 2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: 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US$ 2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tuación actual de Alumysa: </a:t>
            </a:r>
            <a:r>
              <a:rPr b="0" lang="es-ES" sz="2000" spc="-1" strike="noStrike">
                <a:solidFill>
                  <a:srgbClr val="cc3300"/>
                </a:solidFill>
                <a:latin typeface="Arial"/>
              </a:rPr>
              <a:t>DE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Askeland, Donald R. “La Ciencia e Ingeniería de los Materiales”. Grupo Editorial Latinoamericana. 198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auling, Linus. “Química General”. Aguilar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Páginas de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enciclopedia.us.es/wiki.phtml?title=Aluminio#Características_princip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enntech.com/espanol/tabla-peiodica/A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prodigyweb.net.mx/degcorp/Quimica/Aluminio.htm#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casa.com.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dalum.cl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lme.co.uk/aluminium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alutechnik.com.ar/shop/otraspaginas.asp?pagina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inti.gov.ar/reciclado/mater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meb.com.mx/mecanica/0000009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conama.cl/portal/1255/article-2850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gratisweb.com/alumys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http://www.sonami.cl/boletin/bol1149/art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27280" y="2492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conoce de su utilización en Grecia y R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ersted aisló el aluminio por primera vez en 182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 1886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l-Héroult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bren que la alúmina se disuelve en Criolita fund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rimaryAlu" descr=""/>
          <p:cNvPicPr/>
          <p:nvPr/>
        </p:nvPicPr>
        <p:blipFill>
          <a:blip r:embed="rId2"/>
          <a:stretch/>
        </p:blipFill>
        <p:spPr>
          <a:xfrm>
            <a:off x="1849320" y="396072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49320" y="3914640"/>
            <a:ext cx="21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17720" y="1506600"/>
            <a:ext cx="5378400" cy="3844800"/>
            <a:chOff x="1917720" y="1506600"/>
            <a:chExt cx="5378400" cy="3844800"/>
          </a:xfrm>
        </p:grpSpPr>
        <p:sp>
          <p:nvSpPr>
            <p:cNvPr id="50" name=""/>
            <p:cNvSpPr/>
            <p:nvPr/>
          </p:nvSpPr>
          <p:spPr>
            <a:xfrm>
              <a:off x="1917720" y="1506600"/>
              <a:ext cx="5378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oducción mundial de Aluminio prim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17720" y="2055960"/>
              <a:ext cx="182376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741480" y="2055960"/>
              <a:ext cx="3495600" cy="3295440"/>
              <a:chOff x="3741480" y="2055960"/>
              <a:chExt cx="3495600" cy="3295440"/>
            </a:xfrm>
          </p:grpSpPr>
          <p:sp>
            <p:nvSpPr>
              <p:cNvPr id="53" name=""/>
              <p:cNvSpPr/>
              <p:nvPr/>
            </p:nvSpPr>
            <p:spPr>
              <a:xfrm>
                <a:off x="3741480" y="2055960"/>
                <a:ext cx="34956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741480" y="2055960"/>
                <a:ext cx="3494160" cy="3295440"/>
                <a:chOff x="3741480" y="2055960"/>
                <a:chExt cx="3494160" cy="32954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741480" y="2055960"/>
                  <a:ext cx="2290680" cy="549000"/>
                  <a:chOff x="3741480" y="2055960"/>
                  <a:chExt cx="2290680" cy="549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gi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741480" y="205596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6032160" y="2055960"/>
                  <a:ext cx="1203480" cy="549000"/>
                  <a:chOff x="6032160" y="2055960"/>
                  <a:chExt cx="1203480" cy="549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032160" y="205596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3741480" y="2604960"/>
                  <a:ext cx="2290680" cy="549360"/>
                  <a:chOff x="3741480" y="2604960"/>
                  <a:chExt cx="2290680" cy="54936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66cc"/>
                        </a:solidFill>
                        <a:latin typeface="Times New Roman"/>
                        <a:ea typeface="Times New Roman"/>
                      </a:rPr>
                      <a:t>Amé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41480" y="260496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6032160" y="2604960"/>
                  <a:ext cx="1203480" cy="549360"/>
                  <a:chOff x="6032160" y="2604960"/>
                  <a:chExt cx="1203480" cy="54936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6032160" y="260496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3741480" y="3154320"/>
                  <a:ext cx="2290680" cy="549360"/>
                  <a:chOff x="3741480" y="3154320"/>
                  <a:chExt cx="2290680" cy="5493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339966"/>
                        </a:solidFill>
                        <a:latin typeface="Times New Roman"/>
                        <a:ea typeface="Times New Roman"/>
                      </a:rPr>
                      <a:t>Asi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41480" y="315432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6032160" y="3154320"/>
                  <a:ext cx="1203480" cy="549360"/>
                  <a:chOff x="6032160" y="3154320"/>
                  <a:chExt cx="1203480" cy="5493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032160" y="315432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3741480" y="3703680"/>
                  <a:ext cx="2290680" cy="549360"/>
                  <a:chOff x="3741480" y="3703680"/>
                  <a:chExt cx="2290680" cy="54936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  <a:ea typeface="Times New Roman"/>
                      </a:rPr>
                      <a:t>Europ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741480" y="370368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6032160" y="3703680"/>
                  <a:ext cx="1203480" cy="549360"/>
                  <a:chOff x="6032160" y="3703680"/>
                  <a:chExt cx="1203480" cy="54936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032160" y="370368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3741480" y="4253040"/>
                  <a:ext cx="2290680" cy="549000"/>
                  <a:chOff x="3741480" y="4253040"/>
                  <a:chExt cx="2290680" cy="549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cc99"/>
                        </a:solidFill>
                        <a:latin typeface="Times New Roman"/>
                        <a:ea typeface="Times New Roman"/>
                      </a:rPr>
                      <a:t>Oceaní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741480" y="4253040"/>
                    <a:ext cx="22906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032160" y="4253040"/>
                  <a:ext cx="1203480" cy="549000"/>
                  <a:chOff x="6032160" y="4253040"/>
                  <a:chExt cx="1203480" cy="54900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032160" y="4253040"/>
                    <a:ext cx="1203480" cy="54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3741480" y="4802040"/>
                  <a:ext cx="2290680" cy="549360"/>
                  <a:chOff x="3741480" y="4802040"/>
                  <a:chExt cx="2290680" cy="54936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200" spc="-1" strike="noStrike">
                        <a:solidFill>
                          <a:srgbClr val="ccccff"/>
                        </a:solidFill>
                        <a:latin typeface="Times New Roman"/>
                        <a:ea typeface="Times New Roman"/>
                      </a:rPr>
                      <a:t>Afric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741480" y="4802040"/>
                    <a:ext cx="22906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6032160" y="4802040"/>
                  <a:ext cx="1203480" cy="549360"/>
                  <a:chOff x="6032160" y="4802040"/>
                  <a:chExt cx="1203480" cy="54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032160" y="4802040"/>
                    <a:ext cx="1203480" cy="54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cios Oficiales, Bolsa de Metales de Londres (14 de Abril de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2819520"/>
          <a:ext cx="6095880" cy="36795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$/Tonel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rador en Efec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7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dor en efectivo y acuer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8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Aspectos Econó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01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2Mth_AL_mt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14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iv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 a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ó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or eléctrico y del c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pariencia agra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c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Derivados o Aleaciones o materiales relacion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7560" y="639936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2680" y="639936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39936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7560" y="61246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61246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1246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97560" y="58500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58500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8500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97560" y="55753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2680" y="55753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5753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013360"/>
            <a:ext cx="3200400" cy="5745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gunas son endurecible por envejec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5013360"/>
            <a:ext cx="277488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-Cu o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013360"/>
            <a:ext cx="2254320" cy="56196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97560" y="46990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2680" y="46990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6990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97560" y="44244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2680" y="44244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. comercialmente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4244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eaciones fu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74328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1520" y="374328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74328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46860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11520" y="346860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46860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19392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1520" y="319392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9392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637000"/>
            <a:ext cx="3200400" cy="5569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 si hay magnesio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11520" y="2736720"/>
            <a:ext cx="277488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Si y Al-Mg-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736720"/>
            <a:ext cx="2254320" cy="45720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462040"/>
            <a:ext cx="320040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11520" y="2462040"/>
            <a:ext cx="277488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62040"/>
            <a:ext cx="2254320" cy="27468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187720"/>
            <a:ext cx="320040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durecible por envej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11520" y="2187720"/>
            <a:ext cx="277488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-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87720"/>
            <a:ext cx="2254320" cy="274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1874880"/>
            <a:ext cx="320040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 Envej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11520" y="1874880"/>
            <a:ext cx="277488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um, comercialmente pu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874880"/>
            <a:ext cx="2254320" cy="31284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x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90320"/>
          </a:xfrm>
          <a:prstGeom prst="rect">
            <a:avLst/>
          </a:prstGeom>
          <a:noFill/>
          <a:ln cap="rnd" w="3240">
            <a:solidFill>
              <a:srgbClr val="33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eaciones para fo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Uso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549756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ductores de Corriente (AT, MT, BT), Anillos Paraefluvios,  Tableros, Shelters,  Transformadores,  Ductos de ba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549756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Energé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4673520"/>
            <a:ext cx="54212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rrajes, Carcazas, Menaje, Electrodomésticos,  Antenas, Radares, Equipos para lisiados, deportivos, Tubos de Riego, Accesorios, cañerías, Auto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4673520"/>
            <a:ext cx="3095640" cy="824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tículos de Consumo Maquinas y Equ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4094280"/>
            <a:ext cx="54212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llets, Contenedores, Plataformas, Packaging, Estructuras, Bandejas, Carros, Estante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94280"/>
            <a:ext cx="3095640" cy="5792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boratorios Farmacéu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351468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enedores, Pallets, Pisos especiales, Estanterías, Bandejas, Carros, Envases, L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51468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de la Al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840040"/>
            <a:ext cx="54212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anques, Recipientes, Intercambiadores, Reactores, Silos de Almacenaje de Polvos, Membranas Internas Flo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2840040"/>
            <a:ext cx="3095640" cy="6746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troquímica y Petrol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505240"/>
            <a:ext cx="54212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isternas, Chasis, Carrocerías,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505240"/>
            <a:ext cx="3095640" cy="3348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 del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9256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Parasoles, Marquesinas, Techos, Cubiertas, Barandas, Anda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9256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quitectura y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1346040"/>
            <a:ext cx="54212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ructuras, Tanques de Combustible, Plataformas, Cascos, Cubiertas, Mástiles, Acc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346040"/>
            <a:ext cx="3095640" cy="579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dustrias Aeronáutica - Náu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981000"/>
            <a:ext cx="5421240" cy="36504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981000"/>
            <a:ext cx="3095640" cy="363600"/>
          </a:xfrm>
          <a:prstGeom prst="rect">
            <a:avLst/>
          </a:prstGeom>
          <a:noFill/>
          <a:ln cap="rnd" w="324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Ru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981000"/>
            <a:ext cx="0" cy="5340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24800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32000" y="47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ros Co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730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01:45:23Z</dcterms:created>
  <dc:creator>GGK</dc:creator>
  <dc:description/>
  <dc:language>en-US</dc:language>
  <cp:lastModifiedBy>Antonio</cp:lastModifiedBy>
  <dcterms:modified xsi:type="dcterms:W3CDTF">2004-04-16T12:27:02Z</dcterms:modified>
  <cp:revision>34</cp:revision>
  <dc:subject/>
  <dc:title>“Aluminio”</dc:title>
</cp:coreProperties>
</file>