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54946-CACA-4B46-9FE5-54DE6A256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6BFA2-5467-4941-82B7-5AABFD26A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DAA92-12CA-40E1-BF1E-2C2FC44FD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22DA5-52C1-4EE7-ADE4-BA16FBA62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BE391-F002-49E4-ABBF-8B93EAA8C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5BCAA-D018-4FDC-965A-BEDAB9A33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EC12C-49A8-475F-943E-BA408408B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22B61-5B67-4A65-AC69-458AC79DC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C4A71-DDD3-4AE5-AEF7-23B8C05DA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382BF-9BD8-4E61-A3EF-F22B05E74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F6598-0ABB-4B9A-94E6-82E9040DC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83F0B-CF17-4271-BC7B-CBACB2663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99B1B-1B0F-4735-AB7B-3EFAF892F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09E45-0B94-4AD2-B9D6-C9637740F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D244B-CFA9-4879-BCC6-7CA79B29E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C4E6D-FD8F-4FD7-AD7E-2F6A38317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E8245-9EAD-4871-8D13-E8CBE2AD9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E1015-F59B-43EF-81EB-D9240AA6D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E07A3-A736-4941-A073-B084D6066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D63D5-AE85-4C09-B94A-81AF3E1F4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CA44B-73A7-4241-8B54-2EB7A0058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D075F-DC30-40D2-973B-9A54BE72D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11251-3849-4603-8163-4C6609F47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3A36-D19B-4E06-B0F9-423BE32E6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00FC-875E-4A89-8958-5B357D8DB44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E7A3-83A5-4115-8FD7-F34C9B0C6C3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El Acero</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opiedades del acer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Aspectos económicos</a:t>
            </a:r>
            <a:endParaRPr b="0" lang="en-US" sz="2800" spc="-1" strike="noStrike">
              <a:solidFill>
                <a:srgbClr val="000000"/>
              </a:solidFill>
              <a:latin typeface="Tahoma"/>
            </a:endParaRPr>
          </a:p>
        </p:txBody>
      </p:sp>
      <p:grpSp>
        <p:nvGrpSpPr>
          <p:cNvPr id="100" name=""/>
          <p:cNvGrpSpPr/>
          <p:nvPr/>
        </p:nvGrpSpPr>
        <p:grpSpPr>
          <a:xfrm>
            <a:off x="169920" y="2303640"/>
            <a:ext cx="5439240" cy="360"/>
            <a:chOff x="169920" y="2303640"/>
            <a:chExt cx="5439240" cy="360"/>
          </a:xfrm>
        </p:grpSpPr>
        <p:sp>
          <p:nvSpPr>
            <p:cNvPr id="101" name=""/>
            <p:cNvSpPr/>
            <p:nvPr/>
          </p:nvSpPr>
          <p:spPr>
            <a:xfrm>
              <a:off x="169920" y="2303640"/>
              <a:ext cx="5438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5608800" y="23036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pic>
        <p:nvPicPr>
          <p:cNvPr id="103" name="arrabio2" descr=""/>
          <p:cNvPicPr/>
          <p:nvPr/>
        </p:nvPicPr>
        <p:blipFill>
          <a:blip r:embed="rId1"/>
          <a:stretch/>
        </p:blipFill>
        <p:spPr>
          <a:xfrm>
            <a:off x="5145120" y="2343240"/>
            <a:ext cx="3809880" cy="34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80"/>
                </a:solidFill>
                <a:latin typeface="Verdana"/>
                <a:ea typeface="Times New Roman"/>
              </a:rPr>
              <a:t>ACEROS INOXIDABLES</a:t>
            </a:r>
            <a:r>
              <a:rPr b="0" lang="en-US" sz="2800" spc="-1" strike="noStrike">
                <a:solidFill>
                  <a:srgbClr val="333399"/>
                </a:solidFill>
                <a:latin typeface="Tahoma"/>
              </a:rPr>
              <a:t> </a:t>
            </a:r>
            <a:endParaRPr b="0" lang="en-US" sz="28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Los aceros inoxidables contienen cromo, níquel y otros elementos de aleación, que los mantienen brillantes y resistentes a la herrumbre y oxidación a pesar de la acción de la humedad o de ácidos y gases corrosivos. Algunos aceros inoxidables son muy duros; otros son muy resistentes y mantienen esa resistencia durante largos periodos a temperaturas extrema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80"/>
                </a:solidFill>
                <a:latin typeface="Verdana"/>
                <a:ea typeface="Times New Roman"/>
              </a:rPr>
              <a:t>En resumen, los efectos de los elementos de aleación son:</a:t>
            </a:r>
            <a:r>
              <a:rPr b="1" lang="es-CL" sz="4400" spc="-1" strike="noStrike">
                <a:solidFill>
                  <a:srgbClr val="333399"/>
                </a:solidFill>
                <a:latin typeface="Tahoma"/>
                <a:ea typeface="Times New Roman"/>
              </a:rPr>
              <a:t> </a:t>
            </a:r>
            <a:br>
              <a:rPr sz="4400"/>
            </a:b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Mayor resistencia a los impactos</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Aumento de la resistencia al desgaste</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Aumento de la resistencia a la corrosión</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Mayor resistencia y dureza</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Mejoramiento de maquinabilidad</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Symbol"/>
                <a:ea typeface="Symbol"/>
              </a:rPr>
              <a:t></a:t>
            </a:r>
            <a:r>
              <a:rPr b="0" lang="es-CL" sz="2800" spc="-1" strike="noStrike">
                <a:solidFill>
                  <a:srgbClr val="000000"/>
                </a:solidFill>
                <a:latin typeface="Tahoma"/>
                <a:ea typeface="Times New Roman"/>
              </a:rPr>
              <a:t>         </a:t>
            </a:r>
            <a:r>
              <a:rPr b="0" lang="es-CL" sz="2800" spc="-1" strike="noStrike">
                <a:solidFill>
                  <a:srgbClr val="000000"/>
                </a:solidFill>
                <a:latin typeface="Verdana"/>
                <a:ea typeface="Times New Roman"/>
              </a:rPr>
              <a:t>Dureza al rojo (altas temperaturas)</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00"/>
                </a:solidFill>
                <a:latin typeface="Arial"/>
                <a:ea typeface="Arial"/>
              </a:rPr>
              <a:t>PROPIEDADES MECANICAS DEL ACER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Resistencia al desgaste</a:t>
            </a:r>
            <a:r>
              <a:rPr b="1"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resistencia que ofrece un material a dejarse erosionar cuando esta en contacto de fricción con otro material.</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Tenacidad</a:t>
            </a:r>
            <a:r>
              <a:rPr b="1" lang="es-ES_tradnl" sz="2000" spc="-1" strike="noStrike">
                <a:solidFill>
                  <a:srgbClr val="800000"/>
                </a:solidFill>
                <a:latin typeface="Arial"/>
                <a:ea typeface="Arial"/>
              </a:rPr>
              <a:t>.</a:t>
            </a:r>
            <a:r>
              <a:rPr b="1"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capacidad que tiene un material de absorber energía sin producir Fisuras  (resistencia al impacto).</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Maquinabilidad</a:t>
            </a:r>
            <a:r>
              <a:rPr b="1" lang="es-ES_tradnl" sz="2000" spc="-1" strike="noStrike">
                <a:solidFill>
                  <a:srgbClr val="800000"/>
                </a:solidFill>
                <a:latin typeface="Arial"/>
                <a:ea typeface="Arial"/>
              </a:rPr>
              <a:t>.</a:t>
            </a:r>
            <a:r>
              <a:rPr b="0"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facilidad que posee un material de permitir el proceso de mecanizado por arranque de viruta.</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Times New Roman"/>
              </a:rPr>
              <a:t>         </a:t>
            </a:r>
            <a:r>
              <a:rPr b="1" i="1" lang="es-ES_tradnl" sz="2000" spc="-1" strike="noStrike">
                <a:solidFill>
                  <a:srgbClr val="800000"/>
                </a:solidFill>
                <a:latin typeface="Arial"/>
                <a:ea typeface="Arial"/>
              </a:rPr>
              <a:t>Dureza</a:t>
            </a:r>
            <a:r>
              <a:rPr b="1" lang="es-ES_tradnl" sz="2000" spc="-1" strike="noStrike">
                <a:solidFill>
                  <a:srgbClr val="800000"/>
                </a:solidFill>
                <a:latin typeface="Arial"/>
                <a:ea typeface="Arial"/>
              </a:rPr>
              <a:t>.</a:t>
            </a:r>
            <a:r>
              <a:rPr b="0" lang="es-ES_tradnl" sz="2000" spc="-1" strike="noStrike">
                <a:solidFill>
                  <a:srgbClr val="000000"/>
                </a:solidFill>
                <a:latin typeface="Arial"/>
                <a:ea typeface="Arial"/>
              </a:rPr>
              <a:t> </a:t>
            </a:r>
            <a:r>
              <a:rPr b="0" lang="es-ES_tradnl" sz="2000" spc="-1" strike="noStrike">
                <a:solidFill>
                  <a:srgbClr val="000080"/>
                </a:solidFill>
                <a:latin typeface="Arial"/>
                <a:ea typeface="Arial"/>
              </a:rPr>
              <a:t>Es la resistencia que ofrece un acero para dejarse penetrar. Se mide en unidades BRINELL (HB) ó unidades ROCKWEL C (HRC), mediante test del mismo nombre.</a:t>
            </a:r>
            <a:r>
              <a:rPr b="0" lang="es-ES_tradnl"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00"/>
                </a:solidFill>
                <a:latin typeface="Arial"/>
                <a:ea typeface="Arial"/>
              </a:rPr>
              <a:t>TRATAMIENTOS TERMICOS DEL ACER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      </a:t>
            </a:r>
            <a:r>
              <a:rPr b="0" lang="es-ES_tradnl" sz="3200" spc="-1" strike="noStrike">
                <a:solidFill>
                  <a:srgbClr val="000080"/>
                </a:solidFill>
                <a:latin typeface="Arial"/>
                <a:ea typeface="Arial"/>
              </a:rPr>
              <a:t> </a:t>
            </a:r>
            <a:r>
              <a:rPr b="0" lang="es-ES_tradnl" sz="3200" spc="-1" strike="noStrike">
                <a:solidFill>
                  <a:srgbClr val="000080"/>
                </a:solidFill>
                <a:latin typeface="Arial"/>
                <a:ea typeface="Arial"/>
              </a:rPr>
              <a:t>El </a:t>
            </a:r>
            <a:r>
              <a:rPr b="1" lang="es-ES_tradnl" sz="3200" spc="-1" strike="noStrike">
                <a:solidFill>
                  <a:srgbClr val="000080"/>
                </a:solidFill>
                <a:latin typeface="Arial"/>
                <a:ea typeface="Arial"/>
              </a:rPr>
              <a:t>tratamiento térmico</a:t>
            </a:r>
            <a:r>
              <a:rPr b="0" lang="es-ES_tradnl" sz="3200" spc="-1" strike="noStrike">
                <a:solidFill>
                  <a:srgbClr val="000080"/>
                </a:solidFill>
                <a:latin typeface="Arial"/>
                <a:ea typeface="Arial"/>
              </a:rPr>
              <a:t> en el material es uno de los pasos fundamentales para que pueda alcanzar las propiedades mecánicas para las cuales esta cread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Templ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80"/>
                </a:solidFill>
                <a:latin typeface="Arial"/>
                <a:ea typeface="Arial"/>
              </a:rPr>
              <a:t>El temple</a:t>
            </a:r>
            <a:r>
              <a:rPr b="0" lang="es-ES_tradnl" sz="3200" spc="-1" strike="noStrike">
                <a:solidFill>
                  <a:srgbClr val="000080"/>
                </a:solidFill>
                <a:latin typeface="Arial"/>
                <a:ea typeface="Arial"/>
              </a:rPr>
              <a:t> tiene por objeto endurecer y aumentar la resistencia de los aceros. Para ello, se calienta el acero a una temperatura ligeramente más elevada que la crítica superior Ac (entre 900-950ºC) y se enfría luego más o menos rápidamente (según características de la pieza) en un medio como agua, aceite, etc.</a:t>
            </a:r>
            <a:r>
              <a:rPr b="0" lang="es-ES_tradnl"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Revenid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80"/>
                </a:solidFill>
                <a:latin typeface="Arial"/>
                <a:ea typeface="Arial"/>
              </a:rPr>
              <a:t>Es un tratamiento habitual a las piezas que han sido previamente templadas. </a:t>
            </a:r>
            <a:r>
              <a:rPr b="1" lang="es-ES_tradnl" sz="2400" spc="-1" strike="noStrike">
                <a:solidFill>
                  <a:srgbClr val="000080"/>
                </a:solidFill>
                <a:latin typeface="Arial"/>
                <a:ea typeface="Arial"/>
              </a:rPr>
              <a:t>El revenido</a:t>
            </a:r>
            <a:r>
              <a:rPr b="0" lang="es-ES_tradnl" sz="2400" spc="-1" strike="noStrike">
                <a:solidFill>
                  <a:srgbClr val="000080"/>
                </a:solidFill>
                <a:latin typeface="Arial"/>
                <a:ea typeface="Arial"/>
              </a:rPr>
              <a:t> consigue disminuir la dureza y resistencia de los aceros templados, se eliminan las tensiones creadas en el temple y se mejora la tenacidad, dejando al acero con la dureza o resistencia deseada. Se distingue básicamente del temple en cuanto a temperatura máxima y velocidad de enfriamiento.</a:t>
            </a:r>
            <a:r>
              <a:rPr b="0" lang="es-ES_tradnl"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Recocid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80"/>
                </a:solidFill>
                <a:latin typeface="Arial"/>
                <a:ea typeface="Arial"/>
              </a:rPr>
              <a:t>Consiste básicamente en un calentamiento hasta temperatura de austenización (800-925ºC) seguido de un enfriamiento lento. Con este tratamiento se logra aumentar la elasticidad, mientras que disminuye la dureza. También facilita el mecanizado de las piezas al homogeneizar la estructura, afinar el grano y ablandar el material, eliminando la acritud que produce el trabajo en frío y las tensiones internas</a:t>
            </a:r>
            <a:r>
              <a:rPr b="0" lang="es-ES_tradnl" sz="2800" spc="-1" strike="noStrike">
                <a:solidFill>
                  <a:srgbClr val="000080"/>
                </a:solidFill>
                <a:latin typeface="Arial"/>
                <a:ea typeface="Arial"/>
              </a:rPr>
              <a:t>.</a:t>
            </a:r>
            <a:r>
              <a:rPr b="0" lang="es-ES_tradnl"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00"/>
                </a:solidFill>
                <a:latin typeface="Arial"/>
                <a:ea typeface="Arial"/>
              </a:rPr>
              <a:t>TRATAMIENTOS TERMO QUIMICOS DEL ACERO</a:t>
            </a:r>
            <a:r>
              <a:rPr b="0" lang="es-ES_tradnl" sz="4400" spc="-1" strike="noStrike">
                <a:solidFill>
                  <a:srgbClr val="333399"/>
                </a:solidFill>
                <a:latin typeface="Tahoma"/>
                <a:ea typeface="Times New Roman"/>
              </a:rPr>
              <a:t>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80"/>
                </a:solidFill>
                <a:latin typeface="Arial"/>
                <a:ea typeface="Arial"/>
              </a:rPr>
              <a:t>En el caso de los tratamientos térmicos, no solo se producen cambios en la Estructura del Acero, sino también en su</a:t>
            </a:r>
            <a:r>
              <a:rPr b="1" lang="es-ES_tradnl" sz="2800" spc="-1" strike="noStrike">
                <a:solidFill>
                  <a:srgbClr val="000080"/>
                </a:solidFill>
                <a:latin typeface="Arial"/>
                <a:ea typeface="Arial"/>
              </a:rPr>
              <a:t> COMPOSICION QUIMICA</a:t>
            </a:r>
            <a:r>
              <a:rPr b="0" lang="es-ES_tradnl" sz="2800" spc="-1" strike="noStrike">
                <a:solidFill>
                  <a:srgbClr val="000080"/>
                </a:solidFill>
                <a:latin typeface="Arial"/>
                <a:ea typeface="Arial"/>
              </a:rPr>
              <a:t>, añadiendo diferentes productos químicos durante el proceso del tratamiento. Estos tratamientos tienen efecto solo superficial en las piezas tratada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Cementació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80"/>
                </a:solidFill>
                <a:latin typeface="Arial"/>
                <a:ea typeface="Arial"/>
              </a:rPr>
              <a:t>Mediante este tratamiento se producen cambios,  en la composición química del acero.  Se consigue teniendo en cuenta el medio o atmósfera que envuelve el metal durante el calentamiento y enfriamiento. Lo que se busca es aumentar </a:t>
            </a:r>
            <a:r>
              <a:rPr b="1" lang="es-ES_tradnl" sz="2400" spc="-1" strike="noStrike">
                <a:solidFill>
                  <a:srgbClr val="000080"/>
                </a:solidFill>
                <a:latin typeface="Arial"/>
                <a:ea typeface="Arial"/>
              </a:rPr>
              <a:t>el contenido de carbono</a:t>
            </a:r>
            <a:r>
              <a:rPr b="0" lang="es-ES_tradnl" sz="2400" spc="-1" strike="noStrike">
                <a:solidFill>
                  <a:srgbClr val="000080"/>
                </a:solidFill>
                <a:latin typeface="Arial"/>
                <a:ea typeface="Arial"/>
              </a:rPr>
              <a:t> de la zona periférica, obteniéndose después, por medio de temples y revenidos, una gran dureza superficial, resistencia al desgaste y buena tenacidad en el núcleo.</a:t>
            </a:r>
            <a:r>
              <a:rPr b="0" lang="es-ES_tradnl"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800000"/>
                </a:solidFill>
                <a:latin typeface="Arial"/>
                <a:ea typeface="Arial"/>
              </a:rPr>
              <a:t>Nitruració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80"/>
                </a:solidFill>
                <a:latin typeface="Arial"/>
                <a:ea typeface="Arial"/>
              </a:rPr>
              <a:t>Este </a:t>
            </a:r>
            <a:r>
              <a:rPr b="1" lang="es-ES_tradnl" sz="3200" spc="-1" strike="noStrike">
                <a:solidFill>
                  <a:srgbClr val="000080"/>
                </a:solidFill>
                <a:latin typeface="Arial"/>
                <a:ea typeface="Arial"/>
              </a:rPr>
              <a:t>tratamiento TermoQuímico</a:t>
            </a:r>
            <a:r>
              <a:rPr b="0" lang="es-ES_tradnl" sz="3200" spc="-1" strike="noStrike">
                <a:solidFill>
                  <a:srgbClr val="000080"/>
                </a:solidFill>
                <a:latin typeface="Arial"/>
                <a:ea typeface="Arial"/>
              </a:rPr>
              <a:t> busca endurecer superficialmente un acero con nitrógeno, calentándolo a temperaturas comprendidas entre 400-525ºC, dentro de una corriente de gas amoníaco, más nitrógeno</a:t>
            </a:r>
            <a:r>
              <a:rPr b="0" lang="es-ES_tradnl" sz="3200" spc="-1" strike="noStrike">
                <a:solidFill>
                  <a:srgbClr val="00008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os metales y las aleaciones empleados en la industria y en la construcción pueden dividirse en dos grupos principales: Materiales </a:t>
            </a:r>
            <a:r>
              <a:rPr b="1" lang="es-CL" sz="2000" spc="-1" strike="noStrike">
                <a:solidFill>
                  <a:srgbClr val="000000"/>
                </a:solidFill>
                <a:latin typeface="Verdana"/>
                <a:ea typeface="Times New Roman"/>
              </a:rPr>
              <a:t>FERROSOS y NO FERROSOS</a:t>
            </a:r>
            <a:r>
              <a:rPr b="0" lang="es-CL" sz="2000" spc="-1" strike="noStrike">
                <a:solidFill>
                  <a:srgbClr val="000000"/>
                </a:solidFill>
                <a:latin typeface="Verdana"/>
                <a:ea typeface="Times New Roman"/>
              </a:rPr>
              <a:t>. Los materiales </a:t>
            </a:r>
            <a:r>
              <a:rPr b="1" lang="es-CL" sz="2000" spc="-1" strike="noStrike">
                <a:solidFill>
                  <a:srgbClr val="000000"/>
                </a:solidFill>
                <a:latin typeface="Verdana"/>
                <a:ea typeface="Times New Roman"/>
              </a:rPr>
              <a:t>Ferrosos</a:t>
            </a:r>
            <a:r>
              <a:rPr b="0" lang="es-CL" sz="2000" spc="-1" strike="noStrike">
                <a:solidFill>
                  <a:srgbClr val="000000"/>
                </a:solidFill>
                <a:latin typeface="Verdana"/>
                <a:ea typeface="Times New Roman"/>
              </a:rPr>
              <a:t> son aquellos que contienen hierro como su ingrediente principal; es decir, las numerosas calidades del hierro y el acero.</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os materiales </a:t>
            </a:r>
            <a:r>
              <a:rPr b="1" lang="es-CL" sz="2000" spc="-1" strike="noStrike">
                <a:solidFill>
                  <a:srgbClr val="000000"/>
                </a:solidFill>
                <a:latin typeface="Verdana"/>
                <a:ea typeface="Times New Roman"/>
              </a:rPr>
              <a:t>No Ferrosos</a:t>
            </a:r>
            <a:r>
              <a:rPr b="0" lang="es-CL" sz="2000" spc="-1" strike="noStrike">
                <a:solidFill>
                  <a:srgbClr val="000000"/>
                </a:solidFill>
                <a:latin typeface="Verdana"/>
                <a:ea typeface="Times New Roman"/>
              </a:rPr>
              <a:t> no contienen hierro. Estos incluyen el aluminio, magnesio, zinc, cobre, plomo y otros elementos metálicos.</a:t>
            </a:r>
            <a:endParaRPr b="0" lang="en-US" sz="2000" spc="-1" strike="noStrike">
              <a:solidFill>
                <a:srgbClr val="000000"/>
              </a:solidFill>
              <a:latin typeface="Tahoma"/>
            </a:endParaRPr>
          </a:p>
        </p:txBody>
      </p:sp>
      <p:sp>
        <p:nvSpPr>
          <p:cNvPr id="106" name=""/>
          <p:cNvSpPr/>
          <p:nvPr/>
        </p:nvSpPr>
        <p:spPr>
          <a:xfrm>
            <a:off x="0" y="314640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Economía</a:t>
            </a:r>
            <a:endParaRPr b="0" lang="en-US" sz="4400" spc="-1" strike="noStrike">
              <a:solidFill>
                <a:srgbClr val="333399"/>
              </a:solidFill>
              <a:latin typeface="Tahoma"/>
            </a:endParaRPr>
          </a:p>
        </p:txBody>
      </p:sp>
      <p:sp>
        <p:nvSpPr>
          <p:cNvPr id="142"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Historia Mundi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imeras Empresas</a:t>
            </a:r>
            <a:endParaRPr b="0" lang="en-US" sz="2800" spc="-1" strike="noStrike">
              <a:solidFill>
                <a:srgbClr val="000000"/>
              </a:solidFill>
              <a:latin typeface="Tahoma"/>
            </a:endParaRPr>
          </a:p>
        </p:txBody>
      </p:sp>
      <p:grpSp>
        <p:nvGrpSpPr>
          <p:cNvPr id="143" name=""/>
          <p:cNvGrpSpPr/>
          <p:nvPr/>
        </p:nvGrpSpPr>
        <p:grpSpPr>
          <a:xfrm>
            <a:off x="236520" y="2411280"/>
            <a:ext cx="5439240" cy="360"/>
            <a:chOff x="236520" y="2411280"/>
            <a:chExt cx="5439240" cy="360"/>
          </a:xfrm>
        </p:grpSpPr>
        <p:sp>
          <p:nvSpPr>
            <p:cNvPr id="144" name=""/>
            <p:cNvSpPr/>
            <p:nvPr/>
          </p:nvSpPr>
          <p:spPr>
            <a:xfrm>
              <a:off x="236520" y="2411280"/>
              <a:ext cx="5438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5675400" y="24112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pic>
        <p:nvPicPr>
          <p:cNvPr id="146" name="convox1" descr=""/>
          <p:cNvPicPr/>
          <p:nvPr/>
        </p:nvPicPr>
        <p:blipFill>
          <a:blip r:embed="rId1"/>
          <a:stretch/>
        </p:blipFill>
        <p:spPr>
          <a:xfrm>
            <a:off x="228600" y="2209680"/>
            <a:ext cx="4267080" cy="3657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Historia</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acero, producto derivado de uno de los sectores fundamentales del desarrollo económico, la industria siderúrgica constituye una de las bases sobre las que se asienta toda la economía industrial</a:t>
            </a: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u importancia se refleja en el aumento experimentado en el volumen de su producción en menos de cien años, aumento de un 91.000; frente al total mundial de 508.000 tm de 1870</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e alcanzó en 1966 la cifra de 474 millones de tm, y el número de países productores ( 30 en 1938 ) se ha elevado a 75 en la actualidad</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ste proceso de desarrollo es debido a la política actual de industrialización, que en líneas generales coincide en considerar la implantación de una industria pesada como una de las condiciones de la independencia económica</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Historia</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lo ha conducido en ciertos países a una capacidad de producción que excede las necesidades interiores, al no haberse desarrollado al mismo ritmo las industrias derivadas. Así, en 1966 el excedente total de la producción se evaluó en 100 millones de tm, de las que cerca de un 50% corresponden a los EE.UU</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localización de la industria siderúrgica, tradicionalmente afincada en naciones con recursos de hulla coquificable y de mineral de hierro, va cambiando de siglo debido a la rapidez y baratura de los transportes, que posibilita la creación de acerías en países desprovistos de recursos mineros, tendencia que viene incrementada por la fabricación de acero a partir de chatarra en zonas carentes de carbón</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Historia</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comercio exterior se encuentra afectado duramente por la sobreproducción, que convierte en más áspera la competencia entre los grandes exportadores; se asiste a una deterioración de los precios internacionales en que se vende a precios inferiores a los de costo. En la industria del acero se evidencia un elevado grado de concentración, en particular entre los grandes países productores</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n 1966 en EE.UU. las tres primeras empresas, U.S.Steel, Bethelem y Republic Steel, que son a su vez las tres primeras empresas mundiales, produjeron 58.118.000 tm; las ocho mayores empresas estadounidenses fabricaron 91.790.000 tm. Japón posee un grado de concentración parecido: las cinco primeras empresas, de las que Yawata y Fuji son las mayores, produjeron 32.827.000 tm. En Australia una sola empresa, la Brokin Hill, produce casi la totalidad del acero ( 5.865.000 tm sobre 5.892.000 tm ).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71560" y="15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4" name=""/>
          <p:cNvGraphicFramePr/>
          <p:nvPr/>
        </p:nvGraphicFramePr>
        <p:xfrm>
          <a:off x="457200" y="304920"/>
          <a:ext cx="8305920" cy="6553080"/>
        </p:xfrm>
        <a:graphic>
          <a:graphicData uri="http://schemas.openxmlformats.org/presentationml/2006/ole">
            <p:oleObj progId="PowerPoint.Show.12" r:id="rId1" spid="">
              <p:embed/>
              <p:pic>
                <p:nvPicPr>
                  <p:cNvPr id="155" name="" descr=""/>
                  <p:cNvPicPr/>
                  <p:nvPr/>
                </p:nvPicPr>
                <p:blipFill>
                  <a:blip r:embed="rId2"/>
                  <a:stretch/>
                </p:blipFill>
                <p:spPr>
                  <a:xfrm>
                    <a:off x="457200" y="304920"/>
                    <a:ext cx="830592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Uno de los materiales de fabricación y construcción más versátil, más adaptable y más ampliamente usado es el </a:t>
            </a:r>
            <a:r>
              <a:rPr b="1" lang="es-CL" sz="2400" spc="-1" strike="noStrike">
                <a:solidFill>
                  <a:srgbClr val="000000"/>
                </a:solidFill>
                <a:latin typeface="Verdana"/>
                <a:ea typeface="Times New Roman"/>
              </a:rPr>
              <a:t>ACERO</a:t>
            </a:r>
            <a:r>
              <a:rPr b="0" lang="es-CL" sz="2400" spc="-1" strike="noStrike">
                <a:solidFill>
                  <a:srgbClr val="000000"/>
                </a:solidFill>
                <a:latin typeface="Verdana"/>
                <a:ea typeface="Times New Roman"/>
              </a:rPr>
              <a:t>. A un precio relativamente bajo, el acero combina la resistencia y la posibilidad de ser trabajado, lo que se presta para fabricaciones mediante muchos métodos. Además, sus propiedades pueden ser manejadas de acuerdo a las necesidades especificas mediante tratamientos con calor, trabajo mecánico, o mediante aleacione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Qué es el Acero?</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Acero es básicamente una aleación o combinación de hierro y carbono (alrededor de 0,05% hasta menos de un 2%). aptas para ser deformadas en frío y en caliente. Generalmente, el porcentaje de carbono no excede del 1,76%.</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l hierro puro es uno de los elementos del acero, por lo tanto consiste solamente de un tipo de átomos.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s propiedades físicas de los aceros y su comportamiento a distintas temperaturas dependen sobre todo de la cantidad de carbono y de su distribución en el hierro</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ntes del tratamiento térmico, la mayor parte de los aceros son una mezcla de tres sustancias: ferrita, perlita y cementita. </a:t>
            </a:r>
            <a:endParaRPr b="0" lang="en-US" sz="20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La resistencia y dureza de un acero que no ha sido tratado térmicamente depende de las proporciones de estos tres ingrediente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Clasificación del Acero</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Los diferentes tipos de acero se agrupan en cuatro clases principales: aceros al carbono, aceros aleados, aceros de baja aleación ultrarresistentes y aceros inoxidab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Aceros al Carbó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Más del 90% de todos los aceros son aceros al carbono. Estos aceros contienen diversas cantidades de carbono y menos del 1,65% de manganeso, el 0,60% de silicio y el 0,60% de cobre. Entre los productos fabricados con aceros al carbono figuran máquinas, carrocerías de automóvil, la mayor parte de las estructuras de construcción de acero, cascos de buques, somieres y horquilla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Tahoma"/>
              </a:rPr>
              <a:t>Aceros Aleado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Estos aceros contienen un proporción determinada de vanadio, molibdeno y otros elementos, además de cantidades mayores de manganeso, silicio y cobre que los aceros al carbono normales. Estos aceros de aleación se pueden subclasificar en :</a:t>
            </a:r>
            <a:r>
              <a:rPr b="0" lang="es-CL"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Tahoma"/>
            </a:endParaRPr>
          </a:p>
        </p:txBody>
      </p:sp>
      <p:sp>
        <p:nvSpPr>
          <p:cNvPr id="118"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80"/>
                </a:solidFill>
                <a:latin typeface="Verdana"/>
                <a:ea typeface="Times New Roman"/>
              </a:rPr>
              <a:t>Estructurale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r>
              <a:rPr b="0" lang="es-CL" sz="2000" spc="-1" strike="noStrike">
                <a:solidFill>
                  <a:srgbClr val="000000"/>
                </a:solidFill>
                <a:latin typeface="Verdana"/>
                <a:ea typeface="Times New Roman"/>
              </a:rPr>
              <a:t>Son aquellos aceros que se emplean para diversas partes de máquinas, tales como engranajes, ejes y palancas. Además se utilizan en las estructuras de edificios, construcción de chasis de automóviles, puentes, barcos y semejantes. El contenido de la aleación varía desde 0,25% a un 6%.</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80"/>
                </a:solidFill>
                <a:latin typeface="Verdana"/>
                <a:ea typeface="Times New Roman"/>
              </a:rPr>
              <a:t>Para Herramienta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r>
              <a:rPr b="0" lang="es-CL" sz="2000" spc="-1" strike="noStrike">
                <a:solidFill>
                  <a:srgbClr val="000000"/>
                </a:solidFill>
                <a:latin typeface="Verdana"/>
                <a:ea typeface="Times New Roman"/>
              </a:rPr>
              <a:t>Aceros de alta calidad que se emplean en herramientas para cortar y modelar metales y no-metales. Por lo tanto, son materiales empleados para cortar y construir herramientas tales como taladros, escariadores, fresas, terrajas y machos de roscar.</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80"/>
                </a:solidFill>
                <a:latin typeface="Verdana"/>
                <a:ea typeface="Times New Roman"/>
              </a:rPr>
              <a:t>Especiales</a:t>
            </a:r>
            <a:endParaRPr b="0" lang="en-US" sz="20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r>
              <a:rPr b="0" lang="es-CL" sz="2000" spc="-1" strike="noStrike">
                <a:solidFill>
                  <a:srgbClr val="000000"/>
                </a:solidFill>
                <a:latin typeface="Verdana"/>
                <a:ea typeface="Times New Roman"/>
              </a:rPr>
              <a:t>Los Aceros de Aleación especiales son los aceros inoxidables y aquellos con un contenido de cromo generalmente superior al 12%. Estos aceros de gran dureza y alta resistencia a las altas temperaturas y a la corrosión, se emplean en turbinas de vapor, engranajes, ejes y rodamientos.</a:t>
            </a:r>
            <a:r>
              <a:rPr b="0" lang="en-US" sz="1800" spc="-1" strike="noStrike">
                <a:solidFill>
                  <a:srgbClr val="000000"/>
                </a:solidFill>
                <a:latin typeface="Verdana"/>
                <a:ea typeface="Times New Roman"/>
              </a:rPr>
              <a:t>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80"/>
                </a:solidFill>
                <a:latin typeface="Verdana"/>
                <a:ea typeface="Times New Roman"/>
              </a:rPr>
              <a:t>ACEROS DE BAJA ALEACION ULTRARRESISTENTE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Esta familia es la más reciente de las cuatro grandes clases de acero. Los aceros de baja aleación son más baratos que los aceros aleados convencionales ya que contienen cantidades menores de los costosos elementos de aleación. Sin embargo, reciben un tratamiento especial que les da una resistencia mucho mayor que la del acero al carbon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18:13:34Z</dcterms:created>
  <dc:creator>Nicolás Schilling</dc:creator>
  <dc:description/>
  <dc:language>en-US</dc:language>
  <cp:lastModifiedBy>Nicolás Schilling</cp:lastModifiedBy>
  <dcterms:modified xsi:type="dcterms:W3CDTF">2004-04-15T18:53:36Z</dcterms:modified>
  <cp:revision>2</cp:revision>
  <dc:subject/>
  <dc:title>El Acero</dc:title>
</cp:coreProperties>
</file>