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0C1-1AB1-4366-831D-5C077E65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AD5-4B98-427C-AF3C-505AAC64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59A-471E-44C2-8D52-18075022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6F4-F0A5-49F7-8994-76039F79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61C5-9233-4BFC-87C1-2F855097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1F65-EAA2-4EE9-A82F-CE8DB4FC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F870-406B-4C05-95D4-92A32294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2098-B0AE-4276-9DDF-2D06EF2D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73D7-7052-45F6-9B86-D335D78D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0C2E-986D-476A-8C67-3105F583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4D3B-4D7B-40D1-B793-DD73CE3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58F-ECC9-415C-BA1B-A0C3627A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7E75-F1DB-4E54-9EE8-AD5797B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62B1-ABD3-4787-939E-7316C860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4309-6EC2-4A80-AFF3-ADA4E025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E056-FB07-4213-B547-BF2C7A8D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4774-7646-4966-A7D2-E2621CCE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B58-C1A7-4304-B067-A9E23392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FFD-E9A8-43D3-929F-4C0B3303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63C-BA9D-4AF3-8516-B06F4F76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12F-93FB-4DC3-A1F3-F80C02C0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F72-73D0-429E-9408-63F2D0D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684-E808-44E5-AEEA-EACDEB2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FF9-C254-4E2A-B23F-8BEBBD5A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E246-8113-4964-9D66-B21487874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CB23-9D1B-400C-8FBB-71E39D71E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Principales Componentes Y Aleaciones Del Acero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l acero es una aleación de hierro y carbono principalm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da elemento le otorga distintas propiedades al acero en una ale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as propiedades mas importantes s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sistencia al desga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le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nac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e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umini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Desoxida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zufr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Imp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ejora la maleabilidad.(máx. de S, 0.25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rbon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El más efic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ajo cos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sponsable de la dureza y resis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or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Logra aumentar la dureza si el hacer acero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sta totalmente desoxidado.(0.001%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mación de carb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balt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oco habi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isminuye la d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Útil para revestimientos a altas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temperaturas.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br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umenta la resistencia a la corro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rom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umenta la Dure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umenta la resistencia a las altas temperatu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vita la corrosión. (Acero Inoxida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ósfor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erjudic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duce la ductilidad y la resistencia al impa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nganes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resente en casi todas las aleaciones de ac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anganeso combinado con Azufre previene la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formación de sulfuro de hierro.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olibden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Es el mejor para aumentar la resistencia a bajas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temperaturas.(resistencia por templad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íque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rincipal formador de austenita, responsable de la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tenacidad y resistencia al impacto del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lom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Insoluble en Hierro(aumento de la maleabilid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ngsten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Gran resistencia a alta tempera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ma carb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ran resistencia al desgaste.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Tratamientos del Acer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ratamientos Térmicos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e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veni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coc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ratamiento Termoquím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em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itru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Productos Y Derivado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ductos del Hier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el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n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ranz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Derivados%20Fierro" descr="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ductos del Ac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ar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ra Hormig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ara  Molien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ambr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l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laminados en frí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laminados en ca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lanchas Grues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bula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bos soldados por arco sumerg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ub-Produc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li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erivados%20Acero" descr=""/>
          <p:cNvPicPr/>
          <p:nvPr/>
        </p:nvPicPr>
        <p:blipFill>
          <a:blip r:embed="rId1"/>
          <a:stretch/>
        </p:blipFill>
        <p:spPr>
          <a:xfrm>
            <a:off x="4775040" y="380880"/>
            <a:ext cx="3554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rebuchet MS"/>
              </a:rPr>
              <a:t>Usos De Los Producto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ellet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Usado en el proceso de aglome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no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Usado en el proceso de sinter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Granza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Producción de arra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ambró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Fabricación de alambres, clavos y mallas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en calient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Tubos y perfiles. Cañerí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ollos y Planchas en frí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Carrocerías, y estructuras livianas. El enlozado vítreo para línea blanca, embutidos. Sin recocer se usa para piezas de alta rigide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ubos soldados por arco sumergid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Conducción de líqu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liza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Diversos usos industriales: fabricación cemento, industria de la celulo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4:36:17Z</dcterms:created>
  <dc:creator>Familia Leal Zavala</dc:creator>
  <dc:description/>
  <dc:language>en-US</dc:language>
  <cp:lastModifiedBy>Familia Leal Zavala</cp:lastModifiedBy>
  <dcterms:modified xsi:type="dcterms:W3CDTF">2004-04-16T08:24:22Z</dcterms:modified>
  <cp:revision>5</cp:revision>
  <dc:subject/>
  <dc:title>Principales Componentes Y Aleaciones Del Acero </dc:title>
</cp:coreProperties>
</file>