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E09-CF66-439D-A5B5-855A5D38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0AC-AD53-4BDE-A473-7AF7C53F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1AB-77F2-44CD-A406-F769DF85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D89-6990-4BE3-A376-C4EC9AEB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569E-DA34-4204-873A-270FCF06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D5BF-F39F-4AA6-A88A-05FC2368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8423-D7D1-4163-8BF2-20951D85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C39F-7B08-429A-8E64-CC862EAB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78A3-B12D-45D4-B277-C0B05774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9949-CCEB-412B-A0B1-FB874CEB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67BC-3E86-4182-AD3D-3478B1F9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F80-86EC-41EE-AA78-AFE1D36D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87BE-3291-468D-9495-61C6CE0C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30B6-4043-430E-ADFD-6C173550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A803-1D92-4389-968E-0F3A5142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B554-68BD-42DE-A026-7225D32F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3AC9-7320-4D9D-8A97-D3F49AFE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AFC-A9D1-425D-ABE9-6F0C9521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91E-377B-4EE2-B175-4F186AEE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B1B-A5D3-4207-8EB4-AE390F92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4AD-0005-4081-B3DC-738D6104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0DA-7F5F-4DA0-A72A-6402C14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FBF-7E61-41CE-9B13-98970309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F4C-743C-4355-B7F0-E90F672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9415-6A17-4AC3-B99A-EF9BCA312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4E90-D9B9-4F5B-8437-78AB2E0B9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Principales Componentes Y Aleaciones Del Acero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l acero es una aleación de hierro y carbono principalm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da elemento le otorga distintas propiedades al acero en una ale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as propiedades mas importantes s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sistencia al desga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le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nac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e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umini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Desoxid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zufr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Imp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ejora la maleabilidad.(máx. de S, 0.25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rbon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El más efic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ajo cos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sponsable de la dureza y re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or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Logra aumentar la dureza si el hacer acero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sta totalmente desoxidado.(0.001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mación de carb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balt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oco habi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isminuye la d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Útil para revestimientos a altas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temperaturas.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br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umenta la resistencia a la corro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rom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umenta la D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umenta la resistencia a las altas temperatu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vita la corrosión. (Acero Inoxid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ósfor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erjudi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duce la ductilidad y la resistencia al impa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nganes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resente en casi todas las aleaciones de ac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nganeso combinado con Azufre previene la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formación de sulfuro de hierro.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libden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Es el mejor para aumentar la resistencia a bajas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temperaturas.(resistencia por templa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íque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rincipal formador de austenita, responsable de la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tenacidad y resistencia al impacto del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lom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Insoluble en Hierro(aumento de la maleabilid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ngsten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Gran resistencia a alta tempera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ma carb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ran resistencia al desgaste.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Tratamientos del Acer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ratamientos Térmicos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v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coc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ratamiento Termoquím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itru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Productos Y Derivado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ductos del Hier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el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n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ranz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Derivados%20Fierro" descr="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ductos del Ac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ar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ra Hormig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ra  Molien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ambr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l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laminados en frí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laminados en ca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lanchas Grues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bula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bos soldados por arco sumerg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ub-Produc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li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erivados%20Acero" descr=""/>
          <p:cNvPicPr/>
          <p:nvPr/>
        </p:nvPicPr>
        <p:blipFill>
          <a:blip r:embed="rId1"/>
          <a:stretch/>
        </p:blipFill>
        <p:spPr>
          <a:xfrm>
            <a:off x="4775040" y="380880"/>
            <a:ext cx="355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Usos De Los Producto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elle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Usado en el proceso de aglom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no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Usado en el proceso de sinter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ranza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roducción de arra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ambró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Fabricación de alambres, clavos y mallas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en calient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Tubos y perfiles. Cañerí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en frí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Carrocerías, y estructuras livianas. El enlozado vítreo para línea blanca, embutidos. Sin recocer se usa para piezas de alta rigide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bos soldados por arco sumergid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Conducción de líqu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liza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Diversos usos industriales: fabricación cemento, industria de la celul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4:36:17Z</dcterms:created>
  <dc:creator>Familia Leal Zavala</dc:creator>
  <dc:description/>
  <dc:language>en-US</dc:language>
  <cp:lastModifiedBy>Familia Leal Zavala</cp:lastModifiedBy>
  <dcterms:modified xsi:type="dcterms:W3CDTF">2004-04-16T08:24:22Z</dcterms:modified>
  <cp:revision>5</cp:revision>
  <dc:subject/>
  <dc:title>Principales Componentes Y Aleaciones Del Acero </dc:title>
</cp:coreProperties>
</file>