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7EDF-E91D-464C-A042-42E6A103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689A-B4DA-41AE-B7E5-CCEF59BC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72F4-7A50-4BB3-94DC-DF72A6AF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FC3-4C1A-4E54-8309-97E1D249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4298-79AB-49D1-AA5A-11C61394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B2BD-8EBF-407F-9E74-D0BE8B6A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4696-0EF8-4F3F-AA7E-C5B97F98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BE2-3587-4243-BF83-F574B87A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24F-7E80-43BE-BBC0-A6AD11AA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35F-C8A3-4B1F-9E1B-095B6079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F344-C3D4-433C-A16E-7743C9BB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357-B4E2-4451-894F-2DABF312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464A-53EA-4A78-BA3E-60B862CD2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umini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08000" y="4869000"/>
            <a:ext cx="543564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r: Gustavo Gómez y Antonio Sepúlv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551664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2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2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5838840" cy="3324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116000" y="620640"/>
            <a:ext cx="66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Estructuras montables y desmontables de grandes dim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6910560" cy="5183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763640" y="6206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structuras como ventanales y tec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195640" y="40464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Usos v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4248360" cy="3187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508720" y="404640"/>
            <a:ext cx="2736720" cy="2421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932360" y="3429000"/>
            <a:ext cx="1851120" cy="2619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1835280" y="4221000"/>
            <a:ext cx="1636560" cy="2187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7236000" y="3429000"/>
            <a:ext cx="1495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Actualidad: Alumy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ueños: Alumysa Joint Venture y NORANDA Holding Lim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Inversión: US $ 2.750 millones, para una vida útil de 50 añ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onsiste en reducir Aluminio a partir de alúmina para luego transformarlo en lingotes de Alumi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n el proceso de reducción se utilizarán 1.100.000 toneladas de insumos al año (alúmina, coque calcinado, alquitrán, criolita, sales fluoradas, fuel oil Nº2 y otros), provenientes del extranje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La producción alcanzaría 440.000 toneladas de lingotes de aluminio al año, orientada principalmente al mercado exter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Ubicación: Bahía Chacabuco, en la XI Región de Aysé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Ubicación del proyecto Alumy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692600" cy="4386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932360" y="1052640"/>
            <a:ext cx="397980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strucciones a realiz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es centrales hidroeléctricas y sus Embalses, con una potencia total de: 750 M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79,2 Kilómetros de líneas de transmisión de 220 KV con torres de 40 metros de a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95 Kilómetros de caminos de acceso a las centrales y planta reduc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n relleno industrial y otro domé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uerto en costa suroeste de la Bahía Chacabuco que permita el atraque simultaneo de naves de 45.000 y de 20.000 tonel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mbarcadero y muelle flotante al oeste de la desembocadura del río Cuer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anta reductora de aluminio ubicada entre Bahía Chacabuco y Cande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mportar aproximadamente 846.000 toneladas de alúmina, 146.000 toneladas de coque calcinado y 43.500 toneladas de alquitrán. Otras materias primas serán el fluoruro de aluminio, diesel y gas licu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mpleo: 15.000 personas directa e indirec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etractores y ra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studio de Impacto Ambient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Duración: 2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osto: </a:t>
            </a: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US$ 2.0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Situación actual de Alumysa: </a:t>
            </a:r>
            <a:r>
              <a:rPr b="0" lang="es-ES" sz="2000" spc="-1" strike="noStrike">
                <a:solidFill>
                  <a:srgbClr val="cc3300"/>
                </a:solidFill>
                <a:latin typeface="Arial"/>
              </a:rPr>
              <a:t>DE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Fut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40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Askeland, Donald R. “La Ciencia e Ingeniería de los Materiales”. Grupo Editorial Latinoamericana. 198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Pauling, Linus. “Química General”. Aguilar. 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Páginas de Intern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enciclopedia.us.es/wiki.phtml?title=Aluminio#Características_princip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lenntech.com/espanol/tabla-peiodica/Al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prodigyweb.net.mx/degcorp/Quimica/Aluminio.htm#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alcasa.com.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indalum.cl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lme.co.uk/aluminium.a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alutechnik.com.ar/shop/otraspaginas.asp?pagina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inti.gov.ar/reciclado/materia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meb.com.mx/mecanica/00000092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conama.cl/portal/1255/article-28505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gratisweb.com/alumysa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sonami.cl/boletin/bol1149/art8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5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7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8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9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95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627280" y="249228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 conoce de su utilización en Grecia y R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ersted aisló el aluminio por primera vez en 1825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 1886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ll-Héroult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cubren que la alúmina se disuelve en Criolita fund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rimaryAlu" descr=""/>
          <p:cNvPicPr/>
          <p:nvPr/>
        </p:nvPicPr>
        <p:blipFill>
          <a:blip r:embed="rId2"/>
          <a:stretch/>
        </p:blipFill>
        <p:spPr>
          <a:xfrm>
            <a:off x="1849320" y="3960720"/>
            <a:ext cx="1352520" cy="1352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849320" y="3914640"/>
            <a:ext cx="212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917720" y="1506600"/>
            <a:ext cx="5378400" cy="3844800"/>
            <a:chOff x="1917720" y="1506600"/>
            <a:chExt cx="5378400" cy="3844800"/>
          </a:xfrm>
        </p:grpSpPr>
        <p:sp>
          <p:nvSpPr>
            <p:cNvPr id="50" name=""/>
            <p:cNvSpPr/>
            <p:nvPr/>
          </p:nvSpPr>
          <p:spPr>
            <a:xfrm>
              <a:off x="1917720" y="1506600"/>
              <a:ext cx="53784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Producción mundial de Aluminio prima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17720" y="2055960"/>
              <a:ext cx="1823760" cy="32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3741480" y="2055960"/>
              <a:ext cx="3495600" cy="3295440"/>
              <a:chOff x="3741480" y="2055960"/>
              <a:chExt cx="3495600" cy="3295440"/>
            </a:xfrm>
          </p:grpSpPr>
          <p:sp>
            <p:nvSpPr>
              <p:cNvPr id="53" name=""/>
              <p:cNvSpPr/>
              <p:nvPr/>
            </p:nvSpPr>
            <p:spPr>
              <a:xfrm>
                <a:off x="3741480" y="2055960"/>
                <a:ext cx="34956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3741480" y="2055960"/>
                <a:ext cx="3494160" cy="3295440"/>
                <a:chOff x="3741480" y="2055960"/>
                <a:chExt cx="3494160" cy="329544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3741480" y="2055960"/>
                  <a:ext cx="2290680" cy="549000"/>
                  <a:chOff x="3741480" y="2055960"/>
                  <a:chExt cx="2290680" cy="5490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3741480" y="2055960"/>
                    <a:ext cx="229068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gió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3741480" y="2055960"/>
                    <a:ext cx="2290680" cy="54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" name=""/>
                <p:cNvGrpSpPr/>
                <p:nvPr/>
              </p:nvGrpSpPr>
              <p:grpSpPr>
                <a:xfrm>
                  <a:off x="6032160" y="2055960"/>
                  <a:ext cx="1203480" cy="549000"/>
                  <a:chOff x="6032160" y="2055960"/>
                  <a:chExt cx="1203480" cy="54900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6032160" y="2055960"/>
                    <a:ext cx="120348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6032160" y="2055960"/>
                    <a:ext cx="1203480" cy="54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" name=""/>
                <p:cNvGrpSpPr/>
                <p:nvPr/>
              </p:nvGrpSpPr>
              <p:grpSpPr>
                <a:xfrm>
                  <a:off x="3741480" y="2604960"/>
                  <a:ext cx="2290680" cy="549360"/>
                  <a:chOff x="3741480" y="2604960"/>
                  <a:chExt cx="2290680" cy="54936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3741480" y="2604960"/>
                    <a:ext cx="22906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66cc"/>
                        </a:solidFill>
                        <a:latin typeface="Times New Roman"/>
                        <a:ea typeface="Times New Roman"/>
                      </a:rPr>
                      <a:t>Améric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3741480" y="2604960"/>
                    <a:ext cx="22906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" name=""/>
                <p:cNvGrpSpPr/>
                <p:nvPr/>
              </p:nvGrpSpPr>
              <p:grpSpPr>
                <a:xfrm>
                  <a:off x="6032160" y="2604960"/>
                  <a:ext cx="1203480" cy="549360"/>
                  <a:chOff x="6032160" y="2604960"/>
                  <a:chExt cx="1203480" cy="549360"/>
                </a:xfrm>
              </p:grpSpPr>
              <p:sp>
                <p:nvSpPr>
                  <p:cNvPr id="65" name=""/>
                  <p:cNvSpPr/>
                  <p:nvPr/>
                </p:nvSpPr>
                <p:spPr>
                  <a:xfrm>
                    <a:off x="6032160" y="2604960"/>
                    <a:ext cx="1203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9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6032160" y="2604960"/>
                    <a:ext cx="12034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3741480" y="3154320"/>
                  <a:ext cx="2290680" cy="549360"/>
                  <a:chOff x="3741480" y="3154320"/>
                  <a:chExt cx="2290680" cy="54936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3741480" y="3154320"/>
                    <a:ext cx="22906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339966"/>
                        </a:solidFill>
                        <a:latin typeface="Times New Roman"/>
                        <a:ea typeface="Times New Roman"/>
                      </a:rPr>
                      <a:t>Asi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3741480" y="3154320"/>
                    <a:ext cx="22906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"/>
                <p:cNvGrpSpPr/>
                <p:nvPr/>
              </p:nvGrpSpPr>
              <p:grpSpPr>
                <a:xfrm>
                  <a:off x="6032160" y="3154320"/>
                  <a:ext cx="1203480" cy="549360"/>
                  <a:chOff x="6032160" y="3154320"/>
                  <a:chExt cx="1203480" cy="54936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6032160" y="3154320"/>
                    <a:ext cx="1203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6032160" y="3154320"/>
                    <a:ext cx="12034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"/>
                <p:cNvGrpSpPr/>
                <p:nvPr/>
              </p:nvGrpSpPr>
              <p:grpSpPr>
                <a:xfrm>
                  <a:off x="3741480" y="3703680"/>
                  <a:ext cx="2290680" cy="549360"/>
                  <a:chOff x="3741480" y="3703680"/>
                  <a:chExt cx="2290680" cy="54936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3741480" y="3703680"/>
                    <a:ext cx="22906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  <a:ea typeface="Times New Roman"/>
                      </a:rPr>
                      <a:t>Europ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3741480" y="3703680"/>
                    <a:ext cx="22906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6032160" y="3703680"/>
                  <a:ext cx="1203480" cy="549360"/>
                  <a:chOff x="6032160" y="3703680"/>
                  <a:chExt cx="1203480" cy="54936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6032160" y="3703680"/>
                    <a:ext cx="1203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6032160" y="3703680"/>
                    <a:ext cx="12034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" name=""/>
                <p:cNvGrpSpPr/>
                <p:nvPr/>
              </p:nvGrpSpPr>
              <p:grpSpPr>
                <a:xfrm>
                  <a:off x="3741480" y="4253040"/>
                  <a:ext cx="2290680" cy="549000"/>
                  <a:chOff x="3741480" y="4253040"/>
                  <a:chExt cx="2290680" cy="549000"/>
                </a:xfrm>
              </p:grpSpPr>
              <p:sp>
                <p:nvSpPr>
                  <p:cNvPr id="80" name=""/>
                  <p:cNvSpPr/>
                  <p:nvPr/>
                </p:nvSpPr>
                <p:spPr>
                  <a:xfrm>
                    <a:off x="3741480" y="4253040"/>
                    <a:ext cx="229068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cc99"/>
                        </a:solidFill>
                        <a:latin typeface="Times New Roman"/>
                        <a:ea typeface="Times New Roman"/>
                      </a:rPr>
                      <a:t>Oceaní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3741480" y="4253040"/>
                    <a:ext cx="2290680" cy="54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"/>
                <p:cNvGrpSpPr/>
                <p:nvPr/>
              </p:nvGrpSpPr>
              <p:grpSpPr>
                <a:xfrm>
                  <a:off x="6032160" y="4253040"/>
                  <a:ext cx="1203480" cy="549000"/>
                  <a:chOff x="6032160" y="4253040"/>
                  <a:chExt cx="1203480" cy="54900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6032160" y="4253040"/>
                    <a:ext cx="120348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9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6032160" y="4253040"/>
                    <a:ext cx="1203480" cy="54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3741480" y="4802040"/>
                  <a:ext cx="2290680" cy="549360"/>
                  <a:chOff x="3741480" y="4802040"/>
                  <a:chExt cx="2290680" cy="54936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3741480" y="4802040"/>
                    <a:ext cx="22906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200" spc="-1" strike="noStrike">
                        <a:solidFill>
                          <a:srgbClr val="ccccff"/>
                        </a:solidFill>
                        <a:latin typeface="Times New Roman"/>
                        <a:ea typeface="Times New Roman"/>
                      </a:rPr>
                      <a:t>Afric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3741480" y="4802040"/>
                    <a:ext cx="22906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6032160" y="4802040"/>
                  <a:ext cx="1203480" cy="549360"/>
                  <a:chOff x="6032160" y="4802040"/>
                  <a:chExt cx="1203480" cy="5493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6032160" y="4802040"/>
                    <a:ext cx="1203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6032160" y="4802040"/>
                    <a:ext cx="12034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Aspectos Económ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cios Oficiales, Bolsa de Metales de Londres (14 de Abril de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14400" y="2819520"/>
          <a:ext cx="6095880" cy="36795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oci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$/Tonel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ador en Efec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47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dedor en efectivo y acuer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48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Aspectos Económ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001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12Mth_AL_mt" descr=""/>
          <p:cNvPicPr/>
          <p:nvPr/>
        </p:nvPicPr>
        <p:blipFill>
          <a:blip r:embed="rId2"/>
          <a:stretch/>
        </p:blipFill>
        <p:spPr>
          <a:xfrm>
            <a:off x="2000160" y="2143080"/>
            <a:ext cx="5143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livi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e a la corro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tó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or eléctrico y del c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ag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pariencia agra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c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Arial"/>
              </a:rPr>
              <a:t>Derivados o Aleaciones o materiales relacion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7560" y="6399360"/>
            <a:ext cx="3200400" cy="2743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durecible por envej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22680" y="6399360"/>
            <a:ext cx="2774880" cy="2743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6399360"/>
            <a:ext cx="2254320" cy="2743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97560" y="612468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durecible por envej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22680" y="612468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Mg-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612468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7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97560" y="585000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 Envej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22680" y="585000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585000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97560" y="557532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 Envej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22680" y="557532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57532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013360"/>
            <a:ext cx="3200400" cy="57456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gunas son endurecible por envejec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22680" y="5013360"/>
            <a:ext cx="2774880" cy="56196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Si-Cu o Al-Mg-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5013360"/>
            <a:ext cx="2254320" cy="56196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97560" y="469908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durecible por envej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22680" y="469908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469908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97560" y="442440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 Envej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22680" y="442440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um. comercialmente p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442440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x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149720"/>
            <a:ext cx="82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eaciones fund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374328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durecible por envej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11520" y="374328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Mg-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74328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7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346860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durecible por envej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11520" y="346860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Mg-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346860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319392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 Envej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11520" y="319392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19392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2637000"/>
            <a:ext cx="3200400" cy="5569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durecible por envejecimiento si hay magnesio pres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11520" y="2736720"/>
            <a:ext cx="2774880" cy="45720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Si y Al-Mg-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736720"/>
            <a:ext cx="2254320" cy="45720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246204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 Envej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11520" y="246204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46204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2187720"/>
            <a:ext cx="3200400" cy="2743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durecible por envej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11520" y="2187720"/>
            <a:ext cx="2774880" cy="2743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187720"/>
            <a:ext cx="2254320" cy="2743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1874880"/>
            <a:ext cx="3200400" cy="31284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 Envej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11520" y="1874880"/>
            <a:ext cx="2774880" cy="31284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um, comercialmente pu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874880"/>
            <a:ext cx="2254320" cy="31284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x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413000"/>
            <a:ext cx="8229600" cy="4903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eaciones para for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Usos Princip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5497560"/>
            <a:ext cx="5421240" cy="8240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ductores de Corriente (AT, MT, BT), Anillos Paraefluvios,  Tableros, Shelters,  Transformadores,  Ductos de bar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5497560"/>
            <a:ext cx="3095640" cy="8240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dustria Energé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19640" y="4673520"/>
            <a:ext cx="5421240" cy="8240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errajes, Carcazas, Menaje, Electrodomésticos,  Antenas, Radares, Equipos para lisiados, deportivos, Tubos de Riego, Accesorios, cañerías, Autopar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4673520"/>
            <a:ext cx="3095640" cy="8240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rtículos de Consumo Maquinas y Equi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4094280"/>
            <a:ext cx="5421240" cy="5792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allets, Contenedores, Plataformas, Packaging, Estructuras, Bandejas, Carros, Estante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94280"/>
            <a:ext cx="3095640" cy="5792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aboratorios Farmacéu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3514680"/>
            <a:ext cx="5421240" cy="5796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tenedores, Pallets, Pisos especiales, Estanterías, Bandejas, Carros, Envases, La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3514680"/>
            <a:ext cx="3095640" cy="5796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dustrias de la Ali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2840040"/>
            <a:ext cx="5421240" cy="6746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anques, Recipientes, Intercambiadores, Reactores, Silos de Almacenaje de Polvos, Membranas Internas Flot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2840040"/>
            <a:ext cx="3095640" cy="6746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etroquímica y Petrol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2505240"/>
            <a:ext cx="5421240" cy="3348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isternas, Chasis, Carrocerías, Par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2505240"/>
            <a:ext cx="3095640" cy="3348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dustria del 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19640" y="1925640"/>
            <a:ext cx="5421240" cy="5796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structuras, Parasoles, Marquesinas, Techos, Cubiertas, Barandas, Andam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1925640"/>
            <a:ext cx="3095640" cy="5796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rquitectura y Constr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1346040"/>
            <a:ext cx="5421240" cy="5796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structuras, Tanques de Combustible, Plataformas, Cascos, Cubiertas, Mástiles, Acceso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346040"/>
            <a:ext cx="3095640" cy="5796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dustrias Aeronáutica - Náu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981000"/>
            <a:ext cx="5421240" cy="3650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U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981000"/>
            <a:ext cx="3095640" cy="3636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Rub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981000"/>
            <a:ext cx="0" cy="5340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3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25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4248000" cy="2467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132000" y="47628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Muros Cor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003640" y="3860640"/>
            <a:ext cx="3730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01:45:23Z</dcterms:created>
  <dc:creator>GGK</dc:creator>
  <dc:description/>
  <dc:language>en-US</dc:language>
  <cp:lastModifiedBy>Antonio</cp:lastModifiedBy>
  <dcterms:modified xsi:type="dcterms:W3CDTF">2004-04-16T12:27:02Z</dcterms:modified>
  <cp:revision>34</cp:revision>
  <dc:subject/>
  <dc:title>“Aluminio”</dc:title>
</cp:coreProperties>
</file>