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D07-451E-40BA-A3F2-CAF88914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1A2-AC14-4DB2-826F-52F76716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F88-A234-4D5A-87F3-1F1FFD18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6C1-89E6-405A-8FF6-26195B3E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47E5-44A1-469F-ADA2-32D5D929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9FA-09ED-49F7-A0DC-7692511D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656-F01D-45C2-8221-97126D2C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104B-AB27-4AC1-A5F5-2042DCDB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AFBD-A3E7-4A0E-A831-C8DF1E45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0353-879C-4476-B186-2F10ABE7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625E-2A66-471C-A128-2F35C375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AD7-3A6E-4403-B15E-519F949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10DA-BFCD-4C75-A319-24DDB1E4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3522-FE7B-440F-A18E-21B6076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6365-40E2-4F7A-A11B-F7ECEE86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7F5F-B81D-4E8B-93DB-611DFD7C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966E-6CDB-414C-9A13-193AF5A6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7E7-73DE-4606-A16A-08B857C8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DE1-5555-4C82-8A81-658591C3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A95-D3BB-46F0-90A4-30DF6940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B1E-EE0E-4886-AAC8-91311D4F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F9C-1344-4AEF-88A1-B95CDD9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90B-7D2F-4913-843C-72E57EA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208-1EEE-41AF-82E3-7ABB281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58F1-A39B-4CFD-88EC-1F68B8AF41EA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7072-7C9E-4170-9D5A-8621CD96E444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Lucida Sans Unicode"/>
              </a:rPr>
              <a:t>Planificación en </a:t>
            </a:r>
            <a:br>
              <a:rPr sz="3600"/>
            </a:br>
            <a:r>
              <a:rPr b="1" i="1" lang="es-ES" sz="3600" spc="-1" strike="noStrike">
                <a:solidFill>
                  <a:srgbClr val="000000"/>
                </a:solidFill>
                <a:latin typeface="Lucida Sans Unicode"/>
              </a:rPr>
              <a:t>eXtreme Programm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ustín Villena 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lanning Game</a:t>
            </a:r>
            <a:br>
              <a:rPr sz="2800"/>
            </a:b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Fase de Ajuste (cont.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ovidas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Nueva historia: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Si Cliente necesita una nueva historia, Desarrollo estima su costo, y el Cliente reemplaza historias de costo equival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Reestimar: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 Desarrollo siente que el plan no representa el desarrollo, reestima historias pendientes y fija nueva velo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 Unicode"/>
              </a:rPr>
              <a:t>Estrategias XP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Lucida Sans Unicode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s actividades XP se parecen a la programación d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l desarrollo XP es simple, pero duro de segu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Bajo presión, se vuelve a los viejos háb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Se basa 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lanificación de it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tegración Contin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ropiedad Colectiva del Códi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rogramación de a p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Planificación de Iteracion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5162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á se utiliza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tarjetas de t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Jugadores: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da uno de los program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fases son similares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 Planning G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62720" y="1557360"/>
            <a:ext cx="350496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lanificación de Iteraciones</a:t>
            </a:r>
            <a:br>
              <a:rPr sz="2800"/>
            </a:b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Fase de Explor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67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Movi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scribir una tare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: que se pueda implementar en un par de d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Combinar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descomponer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ar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 una tarea dura muchos días, se descomp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 varias tareas duran sólo horas, se combi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lanificación de Iteraciones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Lucida Sans Unicode"/>
              </a:rPr>
              <a:t>Fase de Compromi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ov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Un programador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ceptar una t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Estimar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una tarea en tiempo ideal de ingenie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ado por quien conozca más el asunto de la t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binar o descomponer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y que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gnorar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se está programando de a p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ijar un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factor de carga: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% del tiempo que dedicará a progra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Balanceo: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 estima una carga total de trabajo para cada programador (suma ponderada de estimaciones y factores de carga) y se reasigna si hay des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lanificación de Iteraciones</a:t>
            </a:r>
            <a:br>
              <a:rPr sz="2400"/>
            </a:br>
            <a:r>
              <a:rPr b="0" lang="es-CL" sz="3200" spc="-1" strike="noStrike">
                <a:solidFill>
                  <a:srgbClr val="000000"/>
                </a:solidFill>
                <a:latin typeface="Lucida Sans Unicode"/>
              </a:rPr>
              <a:t>Fase de Ajus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ov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mplementar una tarea: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Un programad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cuentra un socio para desarroll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be los casos de prueba de la t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ce que todo func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tegra y despacha el nuevo códi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Registrar el progr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da 2 o 3 días, alguien consulta a cada programador cuanto se ha gastado en la tarea, y cuanto tiempo le que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lanificación de Iteraciones</a:t>
            </a:r>
            <a:br>
              <a:rPr sz="2400"/>
            </a:br>
            <a:r>
              <a:rPr b="0" lang="es-CL" sz="3200" spc="-1" strike="noStrike">
                <a:solidFill>
                  <a:srgbClr val="000000"/>
                </a:solidFill>
                <a:latin typeface="Lucida Sans Unicode"/>
              </a:rPr>
              <a:t>Fase de Ajus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ovidas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Recuperación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gramadores sobrecargados buscan ay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duciendo el alcance de algunas  t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sultando al cliente si puede reducir el alcance de alguna his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iminando tareas no-esen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teniendo más y mejor ayu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sultando al Cliente si se difieren historias para la siguiente it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erificar la historia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uando los test funcionales estén listos, se corren para verificar si la historia funci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Lucida Sans Unicode"/>
              </a:rPr>
              <a:t>Planificación XP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nir al equipo en torno a la tarea comú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cidir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lcance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rior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imar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costo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calendarización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de t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ar a todos la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confianz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de que el sistema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puede hac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r una base para realizar la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lanificación XP </a:t>
            </a:r>
            <a:br>
              <a:rPr sz="3200"/>
            </a:b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Principio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sumir Simplicidad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: Sólo planificar en detalle hasta el próximo horizo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Responsabilidad aceptad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: No hay asignación de tareas, sino auto compromiso con el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ersona responsable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s la que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gnorar la dependencia entre las partes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itar diálogos c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¿Cuánto vale el vaso de café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$300, pero puede rellenarlo grat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Entonces déme una rellenada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lanificar para las prioridades del cliente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, antes que para la facilidad del desar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planificación del desarrollo requiere mucha más información para ser valiosa, que las prioridades del cl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Lucida Sans Unicode"/>
              </a:rPr>
              <a:t>Planning Gam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ugado por dos partes: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clientes y desarroll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bjetivo: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aximizar el valor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del software producido por el equi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nvertir lo menos posible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p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ner la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funcionalidad más valios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n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ntes po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...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junto con las estrategias de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esarrollo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ueb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lanning Game</a:t>
            </a:r>
            <a:br>
              <a:rPr sz="2800"/>
            </a:b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Elemento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iezas: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arjetas de histo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Jug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lien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suarios reales del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Vende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sarroll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xploración :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llar las nuevas cosas que el sistema podría ha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mpromiso: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cidir qué subconjunto de los requerimientos se trabajará a contin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justar: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desarrollo a medida que la realidad moldea el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23080" y="684360"/>
            <a:ext cx="318924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lanning Game</a:t>
            </a:r>
            <a:br>
              <a:rPr sz="2800"/>
            </a:b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Fase de Explor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: dar a los jugadores una apreciación de lo que el sistema (eventualmente) har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ov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El cliente escribe una historia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una tarjeta sobre algo que el sistema necesita ha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esarrollo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ima una historia en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tiempo ideal de ingenierí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(considera dedicación total, sin interrupciones ni acciden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Descomponer una historia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 no se puede estimar la historia compl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lanning Game</a:t>
            </a:r>
            <a:br>
              <a:rPr sz="2800"/>
            </a:b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Fase de Compromis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5060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a el cliente: escoger el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lcance y fecha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de la siguiente entre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a el desarrollador: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mprometerse responsablement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a entregar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ov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liente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ordena las historias según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alor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tres pi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dispensable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a el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Menos esenciales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, pero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valio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teresan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lanning Game</a:t>
            </a:r>
            <a:br>
              <a:rPr sz="2800"/>
            </a:b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Fase de Compromiso (cont.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ovida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esarroll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orden las historias según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iesg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3 pil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que se pueden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imar con preci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que se pueden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imar razonablemente bi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que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no se pueden estim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e fija la velocidad: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le dice al Cliente cuan rápido se trabajar en Tiempo Ideal de Ingeniería por Mes calend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e fija el alcanc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liente escoge el conjunto de tarjetas en la entreg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ando la fecha y escogiendo las tarje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vicever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lanning Game</a:t>
            </a:r>
            <a:br>
              <a:rPr sz="2800"/>
            </a:br>
            <a:r>
              <a:rPr b="0" lang="es-CL" sz="3600" spc="-1" strike="noStrike">
                <a:solidFill>
                  <a:srgbClr val="000000"/>
                </a:solidFill>
                <a:latin typeface="Lucida Sans Unicode"/>
              </a:rPr>
              <a:t>Fase de Ajus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Objetivo: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tualizar el plan basado en lo aprendido por el Cliente y Desarrol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ov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teración: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da 3 semanas, el cliente escoge las historias más valiosas, que resulten en un sistema representativo del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Recuperación: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 Desarrollo sobreestima su velocidad, Cliente determina las historias esenciales para el desar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ustín Villena M. avillena@acm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16:03Z</dcterms:created>
  <dc:creator>Administrador</dc:creator>
  <dc:description/>
  <dc:language>en-US</dc:language>
  <cp:lastModifiedBy>cucho</cp:lastModifiedBy>
  <dcterms:modified xsi:type="dcterms:W3CDTF">2004-03-11T23:05:09Z</dcterms:modified>
  <cp:revision>43</cp:revision>
  <dc:subject/>
  <dc:title>Taller de Metodologías Ágiles de Desarrollo de Software</dc:title>
</cp:coreProperties>
</file>