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30.png" ContentType="image/png"/>
  <Override PartName="/ppt/media/image13.wmf" ContentType="image/x-wmf"/>
  <Override PartName="/ppt/media/image26.png" ContentType="image/png"/>
  <Override PartName="/ppt/media/image11.wmf" ContentType="image/x-wmf"/>
  <Override PartName="/ppt/media/image3.png" ContentType="image/png"/>
  <Override PartName="/ppt/media/image7.wmf" ContentType="image/x-wmf"/>
  <Override PartName="/ppt/media/image12.png" ContentType="image/png"/>
  <Override PartName="/ppt/media/image31.wmf" ContentType="image/x-wmf"/>
  <Override PartName="/ppt/media/image8.wmf" ContentType="image/x-wmf"/>
  <Override PartName="/ppt/media/image6.png" ContentType="image/png"/>
  <Override PartName="/ppt/media/image29.png" ContentType="image/png"/>
  <Override PartName="/ppt/media/image4.png" ContentType="image/png"/>
  <Override PartName="/ppt/media/image2.png" ContentType="image/png"/>
  <Override PartName="/ppt/media/image1.png" ContentType="image/png"/>
  <Override PartName="/ppt/media/image15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BD3A-56C5-46A1-89C1-A52A4E80F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1707-3C59-40CB-A324-8E8CC7E6B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5807-B0C4-4F4D-8E6E-A2D24B030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8AE2-1FBC-48ED-92C3-6DA0C5297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CE4-07F1-4689-BF08-6AB7DB0356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E64-F73B-470F-BBE0-9EC1AE21E3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25C-5961-4DFD-9583-1C175CF0B1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4C9-F350-46B7-BE24-CA4031A22D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72E-C975-4395-A8F5-DC41EBE47E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7BE7-77B3-4D4E-9219-A2E58F7AB6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F33-65A1-482C-BD87-B6A9DF3C5B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E59E-E10B-4060-9C41-20CAEEB2D7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6C4E-F8E8-4A34-A87A-029A41898A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FBE-39A4-4B37-9894-76AB09B5BE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956-AD66-4B52-AC7B-BF43164C5B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8BB-5B06-4235-B58E-E452F908E0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55D-A4AE-43A6-BD07-0432254DBA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BF7F-690B-4CA3-A8D0-328CE4C21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DA77-BB79-4970-93E6-E4CF381A9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F566-B347-4242-96AB-A4FCE1BCE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474B-32C2-4148-BB91-A81373F9E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9770-E762-4180-8DFE-524BB0027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2CDD-6362-41B4-A1B1-B87E2F6265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A812-698C-4987-B7BA-6757CD0C0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DA49-2826-4908-803E-86D260B61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26E9-1938-4CED-B983-506D5377B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2951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76920" y="5715000"/>
                <a:ext cx="20541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152280" y="1676520"/>
            <a:ext cx="4419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alt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pequeña” en paralelo con impedancia de inductancia “alt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recuencias “bajas”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edancia de condensador “alta” en paralelo con impedancia de inductancia “baja “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mpedancia LC “baj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divisor de tensión con R entrega salida pequeñ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xiste Ate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be existir frecuencia “entre medio”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onde la atenuación es menor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enemos un Filtro pasaba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0" y="4419720"/>
                <a:ext cx="252720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162920" y="4670280"/>
            <a:ext cx="1904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Gran Atenuación fuera de la “banda de paso”: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40dB/déc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0623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81480" y="2940120"/>
            <a:ext cx="304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Notable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en Frecuenci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167652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Ganancia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129200"/>
            <a:ext cx="3048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Desfase: º sexagesim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705720" y="2209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781320" y="3657600"/>
            <a:ext cx="228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32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23880" y="5029200"/>
                <a:ext cx="20545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5035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990720" y="3048120"/>
                <a:ext cx="30715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uls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L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LC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28600" y="3886200"/>
                <a:ext cx="45846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ulso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e>
                        </m:d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C</m:t>
                                        </m:r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rad>
                              </m:e>
                            </m:d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80880" y="190512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cia de elementos Resistivos provoca pérdidas en e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6386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ar que la constante de tiempo de amortiguación es proporcional a RC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selección cuidadosa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4550040" cy="375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1676520"/>
            <a:ext cx="37339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¿Qué pasa si aplicamos un pulso a la entrad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ulso contiene un espectro completo de frecuencias (Análisis de Fourier), por lo que si es representado como una serie de Fourier es fácil entender qué se va a obtener a la salida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sólo aquellas componentes de Fourier con frecuencias cercanas a la frecuencia de corte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Una “buena” sinusoide con frecuencia aproximada a la frecuencia de c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1762200"/>
            <a:ext cx="853452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) FFT Sali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778040"/>
            <a:ext cx="8610480" cy="4775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71800" y="251460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toria Frecuencia central y algunas componentes “alrededor”: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buena sinusoi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Respuesta a Pulso (VI) Amortigu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320" y="1731960"/>
            <a:ext cx="7696080" cy="4205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7150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un esquema retroalimentado podría mantenerse la oscilación en forma permanente siempre y cuando el tiempo de “atenuación” sea grande comparado con el de retro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327560" cy="3406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1898640"/>
            <a:ext cx="37339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ambio: mantengo la misma frecuencia de corte pero RC es 100 veces me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constante de “tiempo” de la atenuación es del orden de la “constante de tiempo” (el período) asociado a la oscilación: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Hay que tener en mente este hecho si se desea mantener una oscilación por un período dado.</a:t>
            </a:r>
            <a:br>
              <a:rPr sz="1800"/>
            </a:b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s importante tener en mente la impedancia de salida de la etapa que aliementa al filtro (usualmente el amplificad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486400"/>
                <a:ext cx="27432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enuació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scilación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2044800"/>
            <a:ext cx="830592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LC básico: Constante de tiempo RC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23623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oscilación ~ Tiempo Aten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4120" y="2438280"/>
            <a:ext cx="3635280" cy="24368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8600" y="1447920"/>
                <a:ext cx="279864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429000" y="1752480"/>
                <a:ext cx="26002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219320" y="388620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 y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5600" y="4495680"/>
                <a:ext cx="46972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80880" y="5654520"/>
                <a:ext cx="24098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62120" y="2971800"/>
                <a:ext cx="41274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jω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352680" y="5638680"/>
                <a:ext cx="36133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562720" y="4876920"/>
            <a:ext cx="335268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racterística Pasabanda, mínima atenuación en f=f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Analóg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24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Osciladores (I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ltro RC “Serie-Paralelo”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puesta en Frecu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34520" cy="4613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V="1">
            <a:off x="3657600" y="5908680"/>
            <a:ext cx="30492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981080" y="5967360"/>
                <a:ext cx="16480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 flipV="1">
            <a:off x="3976560" y="1828440"/>
            <a:ext cx="0" cy="4267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048120"/>
            <a:ext cx="2666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Factor de Calidad Q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“no tan bueno” como </a:t>
            </a:r>
            <a:br>
              <a:rPr sz="1800"/>
            </a:b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l asociado al filtro 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267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1828800"/>
            <a:ext cx="2209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Atenuación ~ 1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960" y="1905120"/>
            <a:ext cx="510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sitiva y negativ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no es cla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erturbació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ariadas componentes de frecu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lineal válido mientras amplificador opere en zona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inversor aparecen atenuadas por el mismo “monto” (divisor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pin no-inversor aparecen atenuadas y desfasadas. Para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/RC menor atenuación (1/3) y desfase nulo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27640" y="1905120"/>
            <a:ext cx="3816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libri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oalimentación negativa “compite” con la positiv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+) “gana a”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satura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gan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converge a “0” y es establ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a atenuación del filtro es compensada por la ganancia del amplificador (probarlo!!!)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permanece en el circuito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uede darse el equilibrio a una frecuenci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tinta a la frecuencia de corte del filtro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en este caso. Luego de cada “trayecto de retroalimentación” de la señal, el filtro atenuará a ésta y además introducirá un desfase. Luego de algún tiempo ésta componente desaparecerá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48320" y="1905120"/>
            <a:ext cx="35956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Intuitivo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bilidad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La condición (Retr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“iguala a” (Retro +)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fine un equilibrio estable?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no, sólo es una condición matemática 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dealizada. Indeterminación en los valor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o variaciones de los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ismos con el ambiente o el tiempo implican qu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ste equilibrio es “inestable” entregand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inalmente una convergencia a salida nula 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aturada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Qué se puede hacer?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puede predominar la retroalimentación negativa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orque así se la salida se hará nul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Hay que encontrar una forma de hacer predominar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 retroalimentación positiva y que sin embargo 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as oscilaciones sean acotada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ntes de encontrar esta solución estudiemos el Puente de Wien en forma cuantitativa y analicemos algunas simulacione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5800" y="1905120"/>
            <a:ext cx="35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nálisis “Matemático” (Barkhausen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241280" y="1835280"/>
                <a:ext cx="11592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901960" y="1835280"/>
                <a:ext cx="115884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14400" y="2509920"/>
                <a:ext cx="367992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447920" y="3282840"/>
                <a:ext cx="25606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69960" y="4191120"/>
                <a:ext cx="420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iterio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rPr>
                        <m:lit/>
                        <m:nor/>
                      </m:rPr>
                      <m:t xml:space="preserve">Barkhausen</m:t>
                    </m:r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974880" y="5334120"/>
                <a:ext cx="11588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9" name=""/>
          <p:cNvGrpSpPr/>
          <p:nvPr/>
        </p:nvGrpSpPr>
        <p:grpSpPr>
          <a:xfrm>
            <a:off x="5486400" y="2133720"/>
            <a:ext cx="3505320" cy="3657600"/>
            <a:chOff x="5486400" y="2133720"/>
            <a:chExt cx="3505320" cy="365760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5486400" y="2133720"/>
              <a:ext cx="3505320" cy="36576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5486400" y="4078440"/>
                  <a:ext cx="1116000" cy="57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7421040" y="3632760"/>
                  <a:ext cx="1041480" cy="54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R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sR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038480" y="5486400"/>
                <a:ext cx="8924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32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recuencia de corte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59436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Amplificador  iguala atenuación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el Filtro (Ver filtro RC serie-parale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495936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mplica dos condiciones (parte real e imaginaria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Ejempl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892760" cy="3978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72200" y="2610000"/>
                <a:ext cx="20574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61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791320" y="3429000"/>
            <a:ext cx="289548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servación: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a Slew Rate del OPAMP actúa como filtro natural de las componentes de frecuencia imponiendo un límite a la máxima frecuencia permi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1828800"/>
            <a:ext cx="28954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 cumple el criterio de Barkhau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791320"/>
            <a:ext cx="556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mulación: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alida y pines entrada diferencial.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tar órdenes de magnitud en las diversas cu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5003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76520" y="5410080"/>
            <a:ext cx="1904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simetría: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837720" y="5562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900600"/>
            <a:ext cx="6477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8377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2360520"/>
            <a:ext cx="4496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Constantes de tiempo son del orden de los ms y estamos en la escala de los 0.1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n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09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mponentes de alta frecuencia (MHz) aparecen en la salida (asimetrí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3581280"/>
            <a:ext cx="6476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in inversor: 1/3 Salida (No hay filtrado, sólo un divisor de tens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1614600"/>
            <a:ext cx="7467480" cy="9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¿Por qué no hay señal en el pin no-inversor?: f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s del orden de 1kHz y gran parte de la energía de la señal se encuentra distribuida en altas frecuencias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ólo pasan con poca atenuación las componentes alrededor de 1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64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4113360"/>
            <a:ext cx="7010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edominio de la retroalimentación negativa +  pin no-inversor ~ cero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se va a c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Estudiar los criterios para la existencia de oscilaciones en circuit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teórica”: Criterio de Barkhause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erspectiva “práctica”: Criterios ingenieri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Relajación (ondas cuadradas, triangulare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Puente de Wien, Colpitts, Hartley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Corrimiento de Fase (Phase-Shif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Técnicas AGC (Automatic Gain Control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Precisión: Cristal de Cuarzo (XTA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590840"/>
            <a:ext cx="914400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</a:t>
            </a:r>
            <a:r>
              <a:rPr b="0" i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1625760"/>
            <a:ext cx="8915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523880" y="4113360"/>
            <a:ext cx="556272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9448920" cy="53038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6520" y="3352680"/>
            <a:ext cx="5562360" cy="6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Oscilaciones con f </a:t>
            </a:r>
            <a:r>
              <a:rPr b="1" i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f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1584360"/>
            <a:ext cx="9236160" cy="5121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09680" y="2743200"/>
            <a:ext cx="64771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¡¡¡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edominio de Retroalimentación  Negativa </a:t>
            </a:r>
            <a:br>
              <a:rPr sz="2400"/>
            </a:b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 pesar de aplicar Barkhausen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scala de tiempo “100ms”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 Puente de Wien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de Retro +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907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clusión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tener oscilaciones no puede predominar la retroalimentación neg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2897280"/>
            <a:ext cx="4419360" cy="287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riterio de Diseño Ingenieril: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 debe forzar el predominio de la retroalimentación positiva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te todo evento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(paso del tiempo, indeterminación en el valor de los parámetros, etc.). En el caso del Oscilador de Wien será necesario disminuir el factor de retroalimentación negativa </a:t>
            </a:r>
            <a:br>
              <a:rPr sz="1800"/>
            </a:b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/(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+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(equivalente a aumentar la ganancia del amplificador respecto de la atenuación del filt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5872320"/>
            <a:ext cx="3504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: Disminuir el valor de R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4572000" cy="360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 flipH="1" flipV="1">
            <a:off x="838080" y="2743200"/>
            <a:ext cx="28195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Tiemp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574640"/>
            <a:ext cx="8915400" cy="494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00200" y="2879640"/>
            <a:ext cx="67816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dominio de Retroalimentación Positiva </a:t>
            </a:r>
            <a:r>
              <a:rPr b="1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Salida Satu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redominio Forzado Retro +: FF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355760"/>
            <a:ext cx="92361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ciones Sostenidas: AGC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 d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oalimentación nega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da se atenuará y no existirá sinusoide. Esto nos obliga a hacer predominar la retroalimentación positiva </a:t>
            </a:r>
            <a:r>
              <a:rPr b="0" i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alida no se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á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ne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s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ución a este problem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 en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vitar que la salida llegu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los niveles de saturación del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ficad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a AGC: 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oner de algún elemento no lineal que afecte la retroalimentación en la siguiente forma: “Si la señal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salida e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queñ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retroalimentación positiva, pero si comienza a ser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d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onces que predomine la negativ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 regl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us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zzy) podemos intentar buscar una realización práctica para nuestro oscilador</a:t>
            </a:r>
            <a:r>
              <a:rPr b="0" i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nusoid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 continuación veremos un ejemplo de AG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lasific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laj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 de onda no-linea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arias componentes de frecuenci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ispositivos “trabajan” en zonas no lineales la mayor parte del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jemplo: clase 18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ndas “cuadradas” (afectadas por la Slew Rate del OPAMP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os “sabores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Búsqueda de componente de frecuencia “pura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be “seleccionarse” frecuencia característica del sistem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ispositivos deben trabajar en zona lineal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linealidad implica la existencia de componentes de frecuencia distintos a la seleccionad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)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55000" cy="50752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657600" y="2438280"/>
            <a:ext cx="4800600" cy="3962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1523880"/>
            <a:ext cx="2895840" cy="4419720"/>
          </a:xfrm>
          <a:prstGeom prst="rect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" y="502920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3333cc"/>
                </a:solidFill>
                <a:latin typeface="Times New Roman"/>
              </a:rPr>
              <a:t>Red AGC: </a:t>
            </a:r>
            <a:br>
              <a:rPr sz="1600"/>
            </a:br>
            <a:r>
              <a:rPr b="0" i="1" lang="es-ES_tradnl" sz="1600" spc="-1" strike="noStrike">
                <a:solidFill>
                  <a:srgbClr val="3333cc"/>
                </a:solidFill>
                <a:latin typeface="Times New Roman"/>
              </a:rPr>
              <a:t>JFET canal n + diodo + condensador y resis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5486400"/>
            <a:ext cx="259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Oscilador Puente de Wien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733920" y="1905120"/>
            <a:ext cx="5410080" cy="3581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981080"/>
            <a:ext cx="365760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 principio el condensador Cx se encuentra decarg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FET se comporta como resistencia pequeñ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 equival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enera predominio de retroalimentación positiva. A medida que la oscilación aumenta amplitud, el diodo D1 comienza a conducir (ciclos negativos de la salida) y carga a Cx con constante de tiempo RxCx la que debe ser “grande” en comparación al período de la sinusoide. Al cargarse Cx comienza a aumentar la resistencia equivalente de J1 con lo que comienza a mejorar  la retroalimentación negativa hasta que se alcanza un 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Automatic Gain Control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1498680"/>
            <a:ext cx="9144000" cy="5070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095880" y="2057400"/>
            <a:ext cx="2971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¡¡¡Oscilaciones Acotadas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3828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Oscilad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lajación (formas de ondas cuadradas, triangulares,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nusoidal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ensación Filtro-Amplificador: Posibilidad de Oscilación Sosten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s Matemáticos entregan aproximación de primer orden al problema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Ingenieril ajusta comportamiento: AGC (Automatic Gain Control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Característica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requiere de señal exter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scilación es mantenida por el sistem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limentación extern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oalimen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istema impone “constantes de tiempo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: frecuencia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mutación dispositiv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ineal: Restricción para máxima frecuencia de ope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lineal: Velocidad en las transicion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“Requisitos Estructurales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imetrías: Provocan la generación de la “señal original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Frecuencia de Oscilación: Retroalimentación “selectiva” en frecu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 de retroalimentación debe ser “filtro”: Sólo “pasa” a través de él componente de frecuencia específic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ncia de “pérdidas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tenuación de la oscil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Oscilación sosten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stema debe “balancear” las pérdidas de amplitud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 necesaria amplificación “criterios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lación Atenuación-Gananci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grande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“no lineal” (relaj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Ganancia “pequeña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scilación amortiguada (no-permanen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 Sinusoidales: Crite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s para oscilaciones permanent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bjetivo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eñal “original” circula “eternamente” a través del circuito, sin mediar señal externa y sólo con alimen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“Matemático” Estric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ones Necesarias para la “vida eterna de la señal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Ganancia: “Para que exista una oscilación permanente, la atenuación (o pérdida) en el lazo de retroalimentación debe ser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mpensada por la ganancia de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Desfase: “Para que exista una oscilación permanente, cualquier desfase introducido por el lazo de retroalimentación debe ser cancelado </a:t>
            </a:r>
            <a:r>
              <a:rPr b="1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por la etapa de amplificación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riterio Ingenieri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ámetros del circuito son conocidos sólo con cierta precisión, cambian ante condiciones externas y a través del paso del tiemp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dición matemática “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actament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” debe analizarse cuidadosamen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sciladores: Je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riterio Matemático Estric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o denominaremos “Criterio de Barkhausen”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entido estricto el Criterio de Barkhausen está asociado a retroalimentación negativa, mientras que el criterio definido anteriormente es de carácter genera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criterio de Barkhausen ha tenido tradicionalmente una interpretación “oscura” (desde mi particular y acotada perspectiva): “Si la ganancia de lazo (denominador de la ganancia de lazo cerrado) “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1” se hace “cero” entonces la ganancia es “infinita” y “puede” sostenerse una oscilación permam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l “bautizo” es en honor del pionero en este tipo de análisi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to de la Clase: “Roadmap”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n primer lugar estudiaremos un par de redes de retroalimentación “selectivas en frecuencia”, es decir filtro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Luego analizaremos desde perspectivas “interesantes” al oscilador Puente de Wie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oalimentación positiva y negativ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riterio Ingenieril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o ganar a la retroalimentación positiva al principio pero cuando intenta ponerse no lineal dejo ganar a la negativ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incipio de AGC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inalmente los osciladores de corrimiento de Fase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23:19:03Z</dcterms:created>
  <dc:creator>Domingo Morales Lizama</dc:creator>
  <dc:description/>
  <dc:language>en-US</dc:language>
  <cp:lastModifiedBy>Depto. Ing. Electrica</cp:lastModifiedBy>
  <dcterms:modified xsi:type="dcterms:W3CDTF">2003-11-17T15:01:55Z</dcterms:modified>
  <cp:revision>266</cp:revision>
  <dc:subject>Osciladores (I)</dc:subject>
  <dc:title>Clase 24</dc:title>
</cp:coreProperties>
</file>