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6402-AEC2-42F8-87FE-2761282C3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CA17-1CAD-47DB-82F7-CEADC04BF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5255-9BCD-41F1-BC9A-7882E5431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4E37-8F4C-4863-A5D0-7FF0DB8A4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718-D0DE-4B93-9BEF-3679F0BFD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EA8-FA64-4C2A-8C34-1B50B19068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57B-ADFE-4941-81C3-6591D2DA64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033-93B4-40A2-A737-CB7E8024DC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6C2-2698-4154-9AF2-B142843D76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E14-BE98-41B9-9BEE-0C2B6FB041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850-CB7F-4439-B9EA-0EB7D4AED2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80EF-79F3-4976-80C7-C2FEAF4D6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EE0-C24F-4203-A10B-4BA3A50563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3C9-EE28-4149-B826-600A608EC5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817-247A-4C73-87DC-8B83968DEF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8C7-68F9-4F01-A9C8-20103E4EC7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C24-2B21-492A-8FF4-C2F3D73100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516C-833A-4D79-B7A4-020FBE751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5994-4291-421B-8DF3-CFE639D05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5CE1-69BC-4330-9C6A-46101F795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BA0D-B9C0-4CB7-B587-8991E7E8E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5E84-840D-4319-8EFF-1DDBB8E50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A289-F194-4C18-9AAA-0244A4F74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D107-32D8-40AE-B89E-0FDBFD790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91ED-D632-4AAA-AFD0-675740DB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29B4-93D5-4563-984D-450555E63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38480"/>
            <a:ext cx="7924680" cy="433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3600" y="1752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y grande” se comporta como “onda cuadr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80010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769608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2362320"/>
            <a:ext cx="63244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6172200" cy="334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2590920"/>
            <a:ext cx="228600" cy="3657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4343040"/>
            <a:ext cx="1219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905120"/>
            <a:ext cx="2743200" cy="277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sinusoide pura de 1kHz se multiplica con una “onda cuadrada” con amplitud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. La serie de Fourier de esta última tiene componentes en la frecuencia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undamental y en los armónicos impares.De aquí que aparezcan componentes en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a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i las entradas a la celda de Gilbert son dos señales con la misma frecuenci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xiste componente Continua (diferencia) proporcional a la diferencia de fase exist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tre 0º y 180º la componente continua crece en forma proporcional al desfase, teniendo un cero en 90º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plicación: PLL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8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3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701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7467480" cy="40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7543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390760"/>
            <a:ext cx="7696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MX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ión Análogo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¿Por qué digitaliza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misión de “inform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Análog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ñales analógicas sufren alteraciones importantes al ser transmitidas por canales ruidos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didas para resolver lo anterior incluye el aumento considerable de S/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digit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ía de información entrega herramientas poderosas para el diseño de codificadores de canal y fue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ficiencia en el uso de potencia y capacidad de corrección de erro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ema de Shannon (Codificación para canales ruidosos) asegura la reconstrucción de la señal analógica a partir de la digital con distorsión tan pequeña como se des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ectrónica digit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to nivel de integración, alta velocidad, bajo consum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13440" y="3962520"/>
            <a:ext cx="4030560" cy="2171520"/>
            <a:chOff x="5113440" y="3962520"/>
            <a:chExt cx="4030560" cy="21715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113440" y="3962520"/>
              <a:ext cx="4030560" cy="2171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334120" y="472428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638680" y="403848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2125800"/>
            <a:ext cx="3162600" cy="1379520"/>
            <a:chOff x="5410080" y="2125800"/>
            <a:chExt cx="3162600" cy="13795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410080" y="2125800"/>
              <a:ext cx="31626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791320" y="281160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5867280" y="220212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194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3549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na realización práctica del switch S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13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34040" y="3505320"/>
                <a:ext cx="170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1981080"/>
            <a:ext cx="39625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la línea del bit k-ésimo está en “0”, entonces la resistencia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R no inyecta corriente a R’ . Por otro lado, si está a “1”, entonces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tá conectado a la resistencia de valor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 y ésta, a su vez, a la tierra “virtual” del terminal inversor del OPAMP. El aporte en “corriente” hacia R’ del bit k-ésim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tonces, el aporte net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9240" y="4511520"/>
                <a:ext cx="2492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15000" y="5334120"/>
                <a:ext cx="2646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it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36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29200" y="2189160"/>
            <a:ext cx="396252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istencias pueden ser muy grandes para conversores con entradas “modestas” (Ejemplo: DAC de 16 bits con R=1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2 M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o implica dificultad para integrar, difícil control de la precisión sobre tan amplio rango, existencia de un voltaje offset debido a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ir” máxima resistencia “razonable” y de ahí obtener el valor de R no es solución: La resistencia equivalente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be ser &lt;&lt; R (Ejemplo:DAC de 16 bits con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=100 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demasiado pequeñ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ricción en el uso: no más de 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198108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red es lineal así que puedo aplicar superposición. Asumo que todos los switches están a tierra y me concentro en el k-és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040" y="5181480"/>
                <a:ext cx="3122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5791320"/>
                <a:ext cx="3143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5410080"/>
                <a:ext cx="30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52280" y="5029200"/>
            <a:ext cx="73915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resistencias “grandes”. Ahora ni siquiera importa el valor de cada resistencia, sino más bien la proporción entre ellas. Esto se hace fácilmente con a nivel integ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iste una fuerte asimetría provocada por el tiempo de propagación. El tiempo que tarda la señal en el nodo “0” en alterar la salida no es igual al del nodo N-1. Lo anterior limita la operación para alta veloc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Contador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2971800"/>
            <a:ext cx="6095520" cy="3505320"/>
            <a:chOff x="228600" y="2971800"/>
            <a:chExt cx="6095520" cy="3505320"/>
          </a:xfrm>
        </p:grpSpPr>
        <p:grpSp>
          <p:nvGrpSpPr>
            <p:cNvPr id="290" name=""/>
            <p:cNvGrpSpPr/>
            <p:nvPr/>
          </p:nvGrpSpPr>
          <p:grpSpPr>
            <a:xfrm>
              <a:off x="1218960" y="4029120"/>
              <a:ext cx="609120" cy="533160"/>
              <a:chOff x="1218960" y="4029120"/>
              <a:chExt cx="609120" cy="53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218960" y="4029120"/>
                <a:ext cx="609120" cy="53316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8960" y="41050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41000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04960" y="4038480"/>
              <a:ext cx="1447560" cy="533520"/>
              <a:chOff x="3504960" y="4038480"/>
              <a:chExt cx="1447560" cy="533520"/>
            </a:xfrm>
          </p:grpSpPr>
          <p:sp>
            <p:nvSpPr>
              <p:cNvPr id="295" name=""/>
              <p:cNvSpPr/>
              <p:nvPr/>
            </p:nvSpPr>
            <p:spPr>
              <a:xfrm>
                <a:off x="3504960" y="4038480"/>
                <a:ext cx="144756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Contador Bina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80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95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1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3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504960" y="5324400"/>
              <a:ext cx="1447560" cy="307080"/>
              <a:chOff x="3504960" y="5324400"/>
              <a:chExt cx="144756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5324400"/>
                <a:ext cx="14475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0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95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1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3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299" idx="4"/>
              <a:endCxn id="305" idx="0"/>
            </p:cNvCxnSpPr>
            <p:nvPr/>
          </p:nvCxnSpPr>
          <p:spPr>
            <a:xfrm>
              <a:off x="4762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8" idx="4"/>
              <a:endCxn id="304" idx="0"/>
            </p:cNvCxnSpPr>
            <p:nvPr/>
          </p:nvCxnSpPr>
          <p:spPr>
            <a:xfrm>
              <a:off x="40762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>
              <a:off x="38476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6" idx="4"/>
              <a:endCxn id="302" idx="0"/>
            </p:cNvCxnSpPr>
            <p:nvPr/>
          </p:nvCxnSpPr>
          <p:spPr>
            <a:xfrm>
              <a:off x="3619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1" idx="1"/>
              <a:endCxn id="311" idx="6"/>
            </p:cNvCxnSpPr>
            <p:nvPr/>
          </p:nvCxnSpPr>
          <p:spPr>
            <a:xfrm flipH="1">
              <a:off x="2742480" y="5481360"/>
              <a:ext cx="762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3" idx="0"/>
              <a:endCxn id="293" idx="2"/>
            </p:cNvCxnSpPr>
            <p:nvPr/>
          </p:nvCxnSpPr>
          <p:spPr>
            <a:xfrm rot="10800000">
              <a:off x="1218240" y="4447440"/>
              <a:ext cx="837000" cy="1229400"/>
            </a:xfrm>
            <a:prstGeom prst="bentConnector3">
              <a:avLst>
                <a:gd name="adj1" fmla="val 12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291" idx="3"/>
              <a:endCxn id="295" idx="1"/>
            </p:cNvCxnSpPr>
            <p:nvPr/>
          </p:nvCxnSpPr>
          <p:spPr>
            <a:xfrm>
              <a:off x="1828440" y="4295520"/>
              <a:ext cx="16768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6" idx="6"/>
              <a:endCxn id="295" idx="0"/>
            </p:cNvCxnSpPr>
            <p:nvPr/>
          </p:nvCxnSpPr>
          <p:spPr>
            <a:xfrm>
              <a:off x="456480" y="3314880"/>
              <a:ext cx="377244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18" idx="6"/>
              <a:endCxn id="319" idx="6"/>
            </p:cNvCxnSpPr>
            <p:nvPr/>
          </p:nvCxnSpPr>
          <p:spPr>
            <a:xfrm flipV="1">
              <a:off x="456480" y="5866920"/>
              <a:ext cx="2286000" cy="572400"/>
            </a:xfrm>
            <a:prstGeom prst="bentConnector3">
              <a:avLst>
                <a:gd name="adj1" fmla="val 1100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2"/>
              <a:endCxn id="321" idx="6"/>
            </p:cNvCxnSpPr>
            <p:nvPr/>
          </p:nvCxnSpPr>
          <p:spPr>
            <a:xfrm flipH="1">
              <a:off x="456480" y="4142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380880" y="410544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400800"/>
              <a:ext cx="7560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7672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81280" y="4648320"/>
              <a:ext cx="1218240" cy="532800"/>
              <a:chOff x="3581280" y="4648320"/>
              <a:chExt cx="1218240" cy="532800"/>
            </a:xfrm>
          </p:grpSpPr>
          <p:sp>
            <p:nvSpPr>
              <p:cNvPr id="323" name=""/>
              <p:cNvSpPr/>
              <p:nvPr/>
            </p:nvSpPr>
            <p:spPr>
              <a:xfrm>
                <a:off x="35812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952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12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392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7" name=""/>
            <p:cNvCxnSpPr>
              <a:stCxn id="323" idx="6"/>
              <a:endCxn id="328" idx="2"/>
            </p:cNvCxnSpPr>
            <p:nvPr/>
          </p:nvCxnSpPr>
          <p:spPr>
            <a:xfrm>
              <a:off x="3656880" y="4686120"/>
              <a:ext cx="198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9" name=""/>
            <p:cNvGrpSpPr/>
            <p:nvPr/>
          </p:nvGrpSpPr>
          <p:grpSpPr>
            <a:xfrm>
              <a:off x="5638680" y="4648320"/>
              <a:ext cx="75600" cy="532800"/>
              <a:chOff x="5638680" y="4648320"/>
              <a:chExt cx="75600" cy="532800"/>
            </a:xfrm>
          </p:grpSpPr>
          <p:sp>
            <p:nvSpPr>
              <p:cNvPr id="328" name=""/>
              <p:cNvSpPr/>
              <p:nvPr/>
            </p:nvSpPr>
            <p:spPr>
              <a:xfrm>
                <a:off x="56386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4" idx="6"/>
              <a:endCxn id="330" idx="2"/>
            </p:cNvCxnSpPr>
            <p:nvPr/>
          </p:nvCxnSpPr>
          <p:spPr>
            <a:xfrm>
              <a:off x="3885840" y="483840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5" idx="6"/>
              <a:endCxn id="331" idx="2"/>
            </p:cNvCxnSpPr>
            <p:nvPr/>
          </p:nvCxnSpPr>
          <p:spPr>
            <a:xfrm>
              <a:off x="4114080" y="4990680"/>
              <a:ext cx="1524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6" idx="6"/>
              <a:endCxn id="332" idx="2"/>
            </p:cNvCxnSpPr>
            <p:nvPr/>
          </p:nvCxnSpPr>
          <p:spPr>
            <a:xfrm>
              <a:off x="4800240" y="514332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6" name=""/>
            <p:cNvGrpSpPr/>
            <p:nvPr/>
          </p:nvGrpSpPr>
          <p:grpSpPr>
            <a:xfrm>
              <a:off x="2057040" y="5219640"/>
              <a:ext cx="685440" cy="914400"/>
              <a:chOff x="2057040" y="5219640"/>
              <a:chExt cx="685440" cy="9144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2057040" y="5219640"/>
                <a:ext cx="685440" cy="914400"/>
                <a:chOff x="2057040" y="5219640"/>
                <a:chExt cx="685440" cy="9144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1942560" y="5334120"/>
                  <a:ext cx="914400" cy="68544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6520" y="544824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520" y="582912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437920" y="571500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7920" y="533376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8600" y="2971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7782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60642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51498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441972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51354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649520"/>
            <a:ext cx="6400800" cy="11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la salida del Comparador es “1” (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tador aumenta su cuen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hasta que la salida del comparador es “0”, ahí se puede obtener la representación binari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095640"/>
            <a:ext cx="28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seguir a la señal de entrada, pues sería necesario resetear el contad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te y “l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Tracking” y ADCs Superi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429000"/>
            <a:ext cx="5486400" cy="2689200"/>
            <a:chOff x="0" y="3429000"/>
            <a:chExt cx="5486400" cy="2689200"/>
          </a:xfrm>
        </p:grpSpPr>
        <p:grpSp>
          <p:nvGrpSpPr>
            <p:cNvPr id="350" name=""/>
            <p:cNvGrpSpPr/>
            <p:nvPr/>
          </p:nvGrpSpPr>
          <p:grpSpPr>
            <a:xfrm>
              <a:off x="2666880" y="4965480"/>
              <a:ext cx="1447920" cy="307080"/>
              <a:chOff x="2666880" y="4965480"/>
              <a:chExt cx="1447920" cy="30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2666880" y="4965480"/>
                <a:ext cx="14479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3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718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86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7" idx="4"/>
              <a:endCxn id="355" idx="0"/>
            </p:cNvCxnSpPr>
            <p:nvPr/>
          </p:nvCxnSpPr>
          <p:spPr>
            <a:xfrm>
              <a:off x="3924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9" idx="4"/>
              <a:endCxn id="354" idx="0"/>
            </p:cNvCxnSpPr>
            <p:nvPr/>
          </p:nvCxnSpPr>
          <p:spPr>
            <a:xfrm>
              <a:off x="32382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61" idx="4"/>
              <a:endCxn id="353" idx="0"/>
            </p:cNvCxnSpPr>
            <p:nvPr/>
          </p:nvCxnSpPr>
          <p:spPr>
            <a:xfrm>
              <a:off x="30096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63" idx="4"/>
              <a:endCxn id="352" idx="0"/>
            </p:cNvCxnSpPr>
            <p:nvPr/>
          </p:nvCxnSpPr>
          <p:spPr>
            <a:xfrm>
              <a:off x="2781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1" idx="1"/>
              <a:endCxn id="365" idx="6"/>
            </p:cNvCxnSpPr>
            <p:nvPr/>
          </p:nvCxnSpPr>
          <p:spPr>
            <a:xfrm flipH="1">
              <a:off x="1904040" y="5122440"/>
              <a:ext cx="7628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67" idx="0"/>
              <a:endCxn id="368" idx="2"/>
            </p:cNvCxnSpPr>
            <p:nvPr/>
          </p:nvCxnSpPr>
          <p:spPr>
            <a:xfrm flipH="1" rot="10800000">
              <a:off x="1217160" y="4098240"/>
              <a:ext cx="1450080" cy="1219680"/>
            </a:xfrm>
            <a:prstGeom prst="bentConnector3">
              <a:avLst>
                <a:gd name="adj1" fmla="val -156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70" idx="6"/>
              <a:endCxn id="371" idx="6"/>
            </p:cNvCxnSpPr>
            <p:nvPr/>
          </p:nvCxnSpPr>
          <p:spPr>
            <a:xfrm flipV="1">
              <a:off x="228600" y="5508000"/>
              <a:ext cx="1676880" cy="572400"/>
            </a:xfrm>
            <a:prstGeom prst="bentConnector3">
              <a:avLst>
                <a:gd name="adj1" fmla="val 113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73" idx="2"/>
              <a:endCxn id="374" idx="6"/>
            </p:cNvCxnSpPr>
            <p:nvPr/>
          </p:nvCxnSpPr>
          <p:spPr>
            <a:xfrm flipH="1">
              <a:off x="227880" y="3793680"/>
              <a:ext cx="243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152280" y="3755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041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743200" y="4289400"/>
              <a:ext cx="1218960" cy="532800"/>
              <a:chOff x="2743200" y="4289400"/>
              <a:chExt cx="1218960" cy="532800"/>
            </a:xfrm>
          </p:grpSpPr>
          <p:sp>
            <p:nvSpPr>
              <p:cNvPr id="376" name=""/>
              <p:cNvSpPr/>
              <p:nvPr/>
            </p:nvSpPr>
            <p:spPr>
              <a:xfrm>
                <a:off x="27432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04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76" idx="6"/>
              <a:endCxn id="381" idx="2"/>
            </p:cNvCxnSpPr>
            <p:nvPr/>
          </p:nvCxnSpPr>
          <p:spPr>
            <a:xfrm>
              <a:off x="2819160" y="432720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" name=""/>
            <p:cNvGrpSpPr/>
            <p:nvPr/>
          </p:nvGrpSpPr>
          <p:grpSpPr>
            <a:xfrm>
              <a:off x="4800600" y="4289400"/>
              <a:ext cx="75960" cy="532800"/>
              <a:chOff x="4800600" y="4289400"/>
              <a:chExt cx="75960" cy="532800"/>
            </a:xfrm>
          </p:grpSpPr>
          <p:sp>
            <p:nvSpPr>
              <p:cNvPr id="381" name=""/>
              <p:cNvSpPr/>
              <p:nvPr/>
            </p:nvSpPr>
            <p:spPr>
              <a:xfrm>
                <a:off x="48006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06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006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77" idx="6"/>
              <a:endCxn id="383" idx="2"/>
            </p:cNvCxnSpPr>
            <p:nvPr/>
          </p:nvCxnSpPr>
          <p:spPr>
            <a:xfrm>
              <a:off x="3047400" y="4479480"/>
              <a:ext cx="175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6"/>
              <a:endCxn id="384" idx="2"/>
            </p:cNvCxnSpPr>
            <p:nvPr/>
          </p:nvCxnSpPr>
          <p:spPr>
            <a:xfrm>
              <a:off x="3276360" y="463176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79" idx="6"/>
              <a:endCxn id="385" idx="2"/>
            </p:cNvCxnSpPr>
            <p:nvPr/>
          </p:nvCxnSpPr>
          <p:spPr>
            <a:xfrm>
              <a:off x="3961800" y="47844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218960" y="4860720"/>
              <a:ext cx="685800" cy="914400"/>
              <a:chOff x="1218960" y="4860720"/>
              <a:chExt cx="685800" cy="9144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218960" y="4860720"/>
                <a:ext cx="685800" cy="914400"/>
                <a:chOff x="1218960" y="4860720"/>
                <a:chExt cx="685800" cy="914400"/>
              </a:xfrm>
            </p:grpSpPr>
            <p:sp>
              <p:nvSpPr>
                <p:cNvPr id="367" name=""/>
                <p:cNvSpPr/>
                <p:nvPr/>
              </p:nvSpPr>
              <p:spPr>
                <a:xfrm rot="16200000">
                  <a:off x="1104480" y="4974840"/>
                  <a:ext cx="914400" cy="685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508932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8800" y="547020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00200" y="535608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0200" y="497484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3429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7052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47908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4060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4776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666880" y="3679560"/>
              <a:ext cx="1447920" cy="533520"/>
              <a:chOff x="2666880" y="3679560"/>
              <a:chExt cx="1447920" cy="5335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66880" y="3679560"/>
                <a:ext cx="1447920" cy="533520"/>
                <a:chOff x="2666880" y="3679560"/>
                <a:chExt cx="1447920" cy="533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66880" y="3679560"/>
                  <a:ext cx="1447920" cy="52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ador </a:t>
                  </a:r>
                  <a:br>
                    <a:rPr sz="1400"/>
                  </a:b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p-Dow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43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18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004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86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2666880" y="3755880"/>
                <a:ext cx="7632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060800"/>
                <a:ext cx="76320" cy="75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808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8600" y="1649520"/>
            <a:ext cx="3809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seguimiento del ADC “contador”. Al usar un contador Up-Down si la salida cambia entonces el ADC “sigue” los cambios en la señal de entrada.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ADC realiza “tracking”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1654200"/>
            <a:ext cx="3657600" cy="39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Aproximación sucesiva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 se hace uso de contador, sino de un “dispositivo porgramado”. Éste setea el MSB en “1” y si la señal de entrada es menor deja en “0” al MSB y pone en “1” al siguiente MSB. Así va iterando hasta que alcanza el valor deseado. El número de comparaciones es O(N), mientras que los esquemas contadores son O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Comparador Paralelo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más rápido de todos. Hace uso de un “banco de comparadores” con umbrales igualmente espaciados. A éste se aplica la señal analógica, resultando una entrada paralela de “1s” y “0s” con la que se alimenta un codificador. El problema es la complejidad: N bits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pa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 no-line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ultipl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elda de Gilbe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a P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versores A/D (ADCs) y D/A (DAC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ltiplicadores Ana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590920"/>
                <a:ext cx="1295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48400" y="2590920"/>
                <a:ext cx="12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3429000"/>
                <a:ext cx="285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19920" y="3886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81880" y="4695840"/>
                <a:ext cx="1333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699160" cy="41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19760" y="5429160"/>
                <a:ext cx="285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8600" y="1752480"/>
            <a:ext cx="6019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dos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sin restricción de signo, pero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E(on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43434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4000" y="52578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280" y="2201760"/>
            <a:ext cx="4579920" cy="4351320"/>
            <a:chOff x="152280" y="2201760"/>
            <a:chExt cx="4579920" cy="43513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52280" y="2201760"/>
              <a:ext cx="457992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068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502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1828800"/>
                <a:ext cx="127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1828800"/>
                <a:ext cx="120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2457360"/>
                <a:ext cx="120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972480" y="245736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81480" y="314316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00920" y="3143160"/>
                <a:ext cx="1219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10080" y="4038480"/>
                <a:ext cx="238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62400" y="4495680"/>
                <a:ext cx="329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5960" y="5143680"/>
                <a:ext cx="2781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2280" y="16002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cuatro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4532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43600" y="2514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ón Básica: Mod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7620120" cy="41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7696080" cy="421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2124000"/>
            <a:ext cx="8076960" cy="447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1905120"/>
                <a:ext cx="2054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190512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5181480"/>
                <a:ext cx="598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181480"/>
                <a:ext cx="598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14600" y="5410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360" y="5410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6040" y="1905120"/>
                <a:ext cx="2895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876920" y="3124080"/>
            <a:ext cx="2743200" cy="16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ergía se “reparte” en dos componentes de frecu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a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1-17T15:03:40Z</dcterms:modified>
  <cp:revision>1011</cp:revision>
  <dc:subject>Sistemas Analógicos (II)</dc:subject>
  <dc:title>Clase 23</dc:title>
</cp:coreProperties>
</file>