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6A01-F8CC-497A-8E23-A4F0F5095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B061-ED94-4BB2-9E5D-317A6E69B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1B22-9B96-4CBA-905D-0DBE15017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2C97-251F-4E79-A333-414B6CA55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A9A-FBC8-4C25-A44A-C96B6A9F86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12B-570D-474C-B6F8-FAEF50FC7D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0F9-CED4-497B-8996-EE609183F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A12-B410-4DE6-AB40-2382076CEC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D0B-89EA-43E9-8A2B-A0203E1C5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799-E48D-433D-BF7F-40F86B42A5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50B-FB87-48B9-A466-FDCEF9376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BA2E-8C7F-42BD-964A-FB5713AF5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7C7-8094-4F57-9C24-D2EB6948CB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5A1-05F6-46F7-B132-2E348BBC8E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83B-1491-4D68-8566-4C07F643D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60E-A94E-4077-A453-C0164B56A1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031-6EA8-40FA-93F6-C6A4FCF90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34B2-FC99-4FE4-A1E7-EDB812C0A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CA5D-7B75-43B8-85FF-AC2BBA947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22CD-3312-4062-8DB8-C911B42E2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5B4E-4B3D-479F-8514-85BE9D2FA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A8A1-816D-4019-AA2E-42F64D1B5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8709-660A-43D5-8512-35F9A900D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BB8D-BE80-46C5-A598-3956E9950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1B0-7DBE-4A20-98D9-934CC69DB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7064-687E-4822-88CB-AA0C15AF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238480"/>
            <a:ext cx="7924680" cy="4330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3600" y="175248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y grande” se comporta como “onda cuadrad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48604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80010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ortadora “grande”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2301840"/>
            <a:ext cx="7696080" cy="426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659040" y="1897200"/>
                <a:ext cx="1748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133720" y="2362320"/>
            <a:ext cx="632448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6172200" cy="3344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2590920"/>
            <a:ext cx="228600" cy="3657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14400" y="4343040"/>
            <a:ext cx="1219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1905120"/>
            <a:ext cx="2743200" cy="277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sinusoide pura de 1kHz se multiplica con una “onda cuadrada” con amplitud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. La serie de Fourier de esta última tiene componentes en la frecuencia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undamental y en los armónicos impares.De aquí que aparezcan componentes en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a 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(2k+1)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i las entradas a la celda de Gilbert son dos señales con la misma frecuenci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xiste componente Continua (diferencia) proporcional a la diferencia de fase exist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tre 0º y 180º la componente continua crece en forma proporcional al desfase, teniendo un cero en 90º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Aplicación: PLL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8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13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59040"/>
            <a:ext cx="701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516040"/>
            <a:ext cx="7467480" cy="40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828800"/>
            <a:ext cx="5181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430360"/>
            <a:ext cx="7543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Detector de Fas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sfase de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390760"/>
            <a:ext cx="7696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MX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3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ión Análogo 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¿Por qué digitaliza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misión de “información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Análog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ñales analógicas sufren alteraciones importantes al ser transmitidas por canales ruidos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didas para resolver lo anterior incluye el aumento considerable de S/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es digit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ía de información entrega herramientas poderosas para el diseño de codificadores de canal y fue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ficiencia en el uso de potencia y capacidad de corrección de error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eorema de Shannon (Codificación para canales ruidosos) asegura la reconstrucción de la señal analógica a partir de la digital con distorsión tan pequeña como se dese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ectrónica digit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to nivel de integración, alta velocidad, bajo consum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113440" y="3962520"/>
            <a:ext cx="4030560" cy="2171520"/>
            <a:chOff x="5113440" y="3962520"/>
            <a:chExt cx="4030560" cy="21715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113440" y="3962520"/>
              <a:ext cx="4030560" cy="2171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334120" y="472428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"/>
            <p:cNvSpPr/>
            <p:nvPr/>
          </p:nvSpPr>
          <p:spPr>
            <a:xfrm>
              <a:off x="5638680" y="403848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0080" y="2125800"/>
            <a:ext cx="3162600" cy="1379520"/>
            <a:chOff x="5410080" y="2125800"/>
            <a:chExt cx="3162600" cy="137952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5410080" y="2125800"/>
              <a:ext cx="31626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791320" y="2811600"/>
                  <a:ext cx="20772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5867280" y="2202120"/>
              <a:ext cx="1219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194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3549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na realización práctica del switch SP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13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34040" y="3505320"/>
                <a:ext cx="1704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5029200" y="1981080"/>
            <a:ext cx="396252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la línea del bit k-ésimo está en “0”, entonces la resistencia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R no inyecta corriente a R’ . Por otro lado, si está a “1”, entonces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tá conectado a la resistencia de valor 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-1-k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 y ésta, a su vez, a la tierra “virtual” del terminal inversor del OPAMP. El aporte en “corriente” hacia R’ del bit k-ésim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tonces, el aporte neto se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9240" y="4511520"/>
                <a:ext cx="2492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715000" y="5334120"/>
                <a:ext cx="2646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'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sSub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it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versor Digital-Análogo Bás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133720"/>
            <a:ext cx="5257800" cy="4451400"/>
            <a:chOff x="0" y="2133720"/>
            <a:chExt cx="5257800" cy="4451400"/>
          </a:xfrm>
        </p:grpSpPr>
        <p:grpSp>
          <p:nvGrpSpPr>
            <p:cNvPr id="236" name=""/>
            <p:cNvGrpSpPr/>
            <p:nvPr/>
          </p:nvGrpSpPr>
          <p:grpSpPr>
            <a:xfrm>
              <a:off x="0" y="2133720"/>
              <a:ext cx="5105520" cy="4451400"/>
              <a:chOff x="0" y="2133720"/>
              <a:chExt cx="5105520" cy="44514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40" y="2133720"/>
                <a:ext cx="5089680" cy="422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01920" y="259092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1920" y="33066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01920" y="4046400"/>
                <a:ext cx="609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81040" y="5410080"/>
                <a:ext cx="609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8195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53520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426708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N-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668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Bit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7200" y="259092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M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" y="5973840"/>
                <a:ext cx="76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LS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6680" y="2133720"/>
                <a:ext cx="1219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1981080" y="5638320"/>
                <a:ext cx="9907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048120" y="5638680"/>
                <a:ext cx="1981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Switchs SPDT (single-pole double-throw) controlados digitalm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495680" y="4114800"/>
              <a:ext cx="762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29200" y="2189160"/>
            <a:ext cx="3962520" cy="36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istencias pueden ser muy grandes para conversores con entradas “modestas” (Ejemplo: DAC de 16 bits con R=1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2 M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to implica dificultad para integrar, difícil control de la precisión sobre tan amplio rango, existencia de un voltaje offset debido a po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ir” máxima resistencia “razonable” y de ahí obtener el valor de R no es solución: La resistencia equivalente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be ser &lt;&lt; R (Ejemplo:DAC de 16 bits con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 =100 k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demasiado pequeñ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tricción en el uso: no más de 4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52280" y="198108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red es lineal así que puedo aplicar superposición. Asumo que todos los switches están a tierra y me concentro en el k-és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040" y="5181480"/>
                <a:ext cx="3122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R</m:t>
                        </m:r>
                      </m:den>
                    </m:f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t</m:t>
                            </m:r>
                          </m:e>
                        </m:d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8600" y="5791320"/>
                <a:ext cx="31431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886200" y="5410080"/>
                <a:ext cx="308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</m:t>
                                </m:r>
                              </m:e>
                            </m:d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C Malla R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2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200" y="1600200"/>
            <a:ext cx="7132680" cy="3505320"/>
            <a:chOff x="106200" y="1600200"/>
            <a:chExt cx="7132680" cy="350532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06200" y="1600200"/>
              <a:ext cx="7132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17324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360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543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8720" y="2895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6380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7344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27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320" y="380988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400" y="42210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4000" y="452592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07000" y="2620800"/>
              <a:ext cx="68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52280" y="5029200"/>
            <a:ext cx="73915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resistencias “grandes”. Ahora ni siquiera importa el valor de cada resistencia, sino más bien la proporción entre ellas. Esto se hace fácilmente con a nivel integ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iste una fuerte asimetría provocada por el tiempo de propagación. El tiempo que tarda la señal en el nodo “0” en alterar la salida no es igual al del nodo N-1. Lo anterior limita la operación para alta velocid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Contador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2971800"/>
            <a:ext cx="6095520" cy="3505320"/>
            <a:chOff x="228600" y="2971800"/>
            <a:chExt cx="6095520" cy="3505320"/>
          </a:xfrm>
        </p:grpSpPr>
        <p:grpSp>
          <p:nvGrpSpPr>
            <p:cNvPr id="290" name=""/>
            <p:cNvGrpSpPr/>
            <p:nvPr/>
          </p:nvGrpSpPr>
          <p:grpSpPr>
            <a:xfrm>
              <a:off x="1218960" y="4029120"/>
              <a:ext cx="609120" cy="533160"/>
              <a:chOff x="1218960" y="4029120"/>
              <a:chExt cx="609120" cy="533160"/>
            </a:xfrm>
          </p:grpSpPr>
          <p:sp>
            <p:nvSpPr>
              <p:cNvPr id="291" name=""/>
              <p:cNvSpPr/>
              <p:nvPr/>
            </p:nvSpPr>
            <p:spPr>
              <a:xfrm>
                <a:off x="1218960" y="4029120"/>
                <a:ext cx="609120" cy="53316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18960" y="41050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18960" y="441000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04960" y="4038480"/>
              <a:ext cx="1447560" cy="533520"/>
              <a:chOff x="3504960" y="4038480"/>
              <a:chExt cx="1447560" cy="533520"/>
            </a:xfrm>
          </p:grpSpPr>
          <p:sp>
            <p:nvSpPr>
              <p:cNvPr id="295" name=""/>
              <p:cNvSpPr/>
              <p:nvPr/>
            </p:nvSpPr>
            <p:spPr>
              <a:xfrm>
                <a:off x="3504960" y="4038480"/>
                <a:ext cx="144756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Contador Binar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80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095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381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3920" y="449568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504960" y="5324400"/>
              <a:ext cx="1447560" cy="307080"/>
              <a:chOff x="3504960" y="5324400"/>
              <a:chExt cx="1447560" cy="307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504960" y="5324400"/>
                <a:ext cx="14475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80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095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0381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3920" y="5324400"/>
                <a:ext cx="7560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299" idx="4"/>
              <a:endCxn id="305" idx="0"/>
            </p:cNvCxnSpPr>
            <p:nvPr/>
          </p:nvCxnSpPr>
          <p:spPr>
            <a:xfrm>
              <a:off x="4762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298" idx="4"/>
              <a:endCxn id="304" idx="0"/>
            </p:cNvCxnSpPr>
            <p:nvPr/>
          </p:nvCxnSpPr>
          <p:spPr>
            <a:xfrm>
              <a:off x="40762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297" idx="4"/>
              <a:endCxn id="303" idx="0"/>
            </p:cNvCxnSpPr>
            <p:nvPr/>
          </p:nvCxnSpPr>
          <p:spPr>
            <a:xfrm>
              <a:off x="38476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296" idx="4"/>
              <a:endCxn id="302" idx="0"/>
            </p:cNvCxnSpPr>
            <p:nvPr/>
          </p:nvCxnSpPr>
          <p:spPr>
            <a:xfrm>
              <a:off x="3619080" y="457200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1" idx="1"/>
              <a:endCxn id="311" idx="6"/>
            </p:cNvCxnSpPr>
            <p:nvPr/>
          </p:nvCxnSpPr>
          <p:spPr>
            <a:xfrm flipH="1">
              <a:off x="2742480" y="5481360"/>
              <a:ext cx="76248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3" idx="0"/>
              <a:endCxn id="293" idx="2"/>
            </p:cNvCxnSpPr>
            <p:nvPr/>
          </p:nvCxnSpPr>
          <p:spPr>
            <a:xfrm rot="10800000">
              <a:off x="1218240" y="4447440"/>
              <a:ext cx="837000" cy="1229400"/>
            </a:xfrm>
            <a:prstGeom prst="bentConnector3">
              <a:avLst>
                <a:gd name="adj1" fmla="val 12732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291" idx="3"/>
              <a:endCxn id="295" idx="1"/>
            </p:cNvCxnSpPr>
            <p:nvPr/>
          </p:nvCxnSpPr>
          <p:spPr>
            <a:xfrm>
              <a:off x="1828440" y="4295520"/>
              <a:ext cx="167688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6" idx="6"/>
              <a:endCxn id="295" idx="0"/>
            </p:cNvCxnSpPr>
            <p:nvPr/>
          </p:nvCxnSpPr>
          <p:spPr>
            <a:xfrm>
              <a:off x="456480" y="3314880"/>
              <a:ext cx="377244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stCxn id="318" idx="6"/>
              <a:endCxn id="319" idx="6"/>
            </p:cNvCxnSpPr>
            <p:nvPr/>
          </p:nvCxnSpPr>
          <p:spPr>
            <a:xfrm flipV="1">
              <a:off x="456480" y="5866920"/>
              <a:ext cx="2286000" cy="572400"/>
            </a:xfrm>
            <a:prstGeom prst="bentConnector3">
              <a:avLst>
                <a:gd name="adj1" fmla="val 1100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2" idx="2"/>
              <a:endCxn id="321" idx="6"/>
            </p:cNvCxnSpPr>
            <p:nvPr/>
          </p:nvCxnSpPr>
          <p:spPr>
            <a:xfrm flipH="1">
              <a:off x="456480" y="4142880"/>
              <a:ext cx="762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380880" y="410544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400800"/>
              <a:ext cx="7560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76720"/>
              <a:ext cx="7560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81280" y="4648320"/>
              <a:ext cx="1218240" cy="532800"/>
              <a:chOff x="3581280" y="4648320"/>
              <a:chExt cx="1218240" cy="532800"/>
            </a:xfrm>
          </p:grpSpPr>
          <p:sp>
            <p:nvSpPr>
              <p:cNvPr id="323" name=""/>
              <p:cNvSpPr/>
              <p:nvPr/>
            </p:nvSpPr>
            <p:spPr>
              <a:xfrm>
                <a:off x="35812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952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12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392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7" name=""/>
            <p:cNvCxnSpPr>
              <a:stCxn id="323" idx="6"/>
              <a:endCxn id="328" idx="2"/>
            </p:cNvCxnSpPr>
            <p:nvPr/>
          </p:nvCxnSpPr>
          <p:spPr>
            <a:xfrm>
              <a:off x="3656880" y="4686120"/>
              <a:ext cx="1981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9" name=""/>
            <p:cNvGrpSpPr/>
            <p:nvPr/>
          </p:nvGrpSpPr>
          <p:grpSpPr>
            <a:xfrm>
              <a:off x="5638680" y="4648320"/>
              <a:ext cx="75600" cy="532800"/>
              <a:chOff x="5638680" y="4648320"/>
              <a:chExt cx="75600" cy="532800"/>
            </a:xfrm>
          </p:grpSpPr>
          <p:sp>
            <p:nvSpPr>
              <p:cNvPr id="328" name=""/>
              <p:cNvSpPr/>
              <p:nvPr/>
            </p:nvSpPr>
            <p:spPr>
              <a:xfrm>
                <a:off x="5638680" y="464832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38680" y="480060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38680" y="495288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38680" y="51051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4" idx="6"/>
              <a:endCxn id="330" idx="2"/>
            </p:cNvCxnSpPr>
            <p:nvPr/>
          </p:nvCxnSpPr>
          <p:spPr>
            <a:xfrm>
              <a:off x="3885840" y="4838400"/>
              <a:ext cx="1753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5" idx="6"/>
              <a:endCxn id="331" idx="2"/>
            </p:cNvCxnSpPr>
            <p:nvPr/>
          </p:nvCxnSpPr>
          <p:spPr>
            <a:xfrm>
              <a:off x="4114080" y="4990680"/>
              <a:ext cx="1524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26" idx="6"/>
              <a:endCxn id="332" idx="2"/>
            </p:cNvCxnSpPr>
            <p:nvPr/>
          </p:nvCxnSpPr>
          <p:spPr>
            <a:xfrm>
              <a:off x="4800240" y="5143320"/>
              <a:ext cx="838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36" name=""/>
            <p:cNvGrpSpPr/>
            <p:nvPr/>
          </p:nvGrpSpPr>
          <p:grpSpPr>
            <a:xfrm>
              <a:off x="2057040" y="5219640"/>
              <a:ext cx="685440" cy="914400"/>
              <a:chOff x="2057040" y="5219640"/>
              <a:chExt cx="685440" cy="9144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2057040" y="5219640"/>
                <a:ext cx="685440" cy="914400"/>
                <a:chOff x="2057040" y="5219640"/>
                <a:chExt cx="685440" cy="914400"/>
              </a:xfrm>
            </p:grpSpPr>
            <p:sp>
              <p:nvSpPr>
                <p:cNvPr id="313" name=""/>
                <p:cNvSpPr/>
                <p:nvPr/>
              </p:nvSpPr>
              <p:spPr>
                <a:xfrm rot="16200000">
                  <a:off x="1942560" y="5334120"/>
                  <a:ext cx="914400" cy="68544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666520" y="544824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666520" y="5829120"/>
                  <a:ext cx="756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2437920" y="571500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37920" y="5333760"/>
                <a:ext cx="228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228600" y="29718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778200"/>
              <a:ext cx="91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60642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5149800"/>
              <a:ext cx="91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441972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0080" y="51354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" y="1649520"/>
            <a:ext cx="6400800" cy="116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la salida del Comparador es “1” (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tador aumenta su cuen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igita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aumenta hasta que la salida del comparador es “0”, ahí se puede obtener la representación binaria de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ná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3095640"/>
            <a:ext cx="2819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seguir a la señal de entrada, pues sería necesario resetear el contad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eficiente y “lent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DC “Tracking” y ADCs Superi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0" y="3429000"/>
            <a:ext cx="5486400" cy="2689200"/>
            <a:chOff x="0" y="3429000"/>
            <a:chExt cx="5486400" cy="2689200"/>
          </a:xfrm>
        </p:grpSpPr>
        <p:grpSp>
          <p:nvGrpSpPr>
            <p:cNvPr id="350" name=""/>
            <p:cNvGrpSpPr/>
            <p:nvPr/>
          </p:nvGrpSpPr>
          <p:grpSpPr>
            <a:xfrm>
              <a:off x="2666880" y="4965480"/>
              <a:ext cx="1447920" cy="307080"/>
              <a:chOff x="2666880" y="4965480"/>
              <a:chExt cx="1447920" cy="307080"/>
            </a:xfrm>
          </p:grpSpPr>
          <p:sp>
            <p:nvSpPr>
              <p:cNvPr id="351" name=""/>
              <p:cNvSpPr/>
              <p:nvPr/>
            </p:nvSpPr>
            <p:spPr>
              <a:xfrm>
                <a:off x="2666880" y="4965480"/>
                <a:ext cx="14479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DA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743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718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04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86200" y="4965480"/>
                <a:ext cx="7596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7" idx="4"/>
              <a:endCxn id="355" idx="0"/>
            </p:cNvCxnSpPr>
            <p:nvPr/>
          </p:nvCxnSpPr>
          <p:spPr>
            <a:xfrm>
              <a:off x="3924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9" idx="4"/>
              <a:endCxn id="354" idx="0"/>
            </p:cNvCxnSpPr>
            <p:nvPr/>
          </p:nvCxnSpPr>
          <p:spPr>
            <a:xfrm>
              <a:off x="32382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61" idx="4"/>
              <a:endCxn id="353" idx="0"/>
            </p:cNvCxnSpPr>
            <p:nvPr/>
          </p:nvCxnSpPr>
          <p:spPr>
            <a:xfrm>
              <a:off x="30096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63" idx="4"/>
              <a:endCxn id="352" idx="0"/>
            </p:cNvCxnSpPr>
            <p:nvPr/>
          </p:nvCxnSpPr>
          <p:spPr>
            <a:xfrm>
              <a:off x="2781000" y="4213080"/>
              <a:ext cx="108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51" idx="1"/>
              <a:endCxn id="365" idx="6"/>
            </p:cNvCxnSpPr>
            <p:nvPr/>
          </p:nvCxnSpPr>
          <p:spPr>
            <a:xfrm flipH="1">
              <a:off x="1904040" y="5122440"/>
              <a:ext cx="7628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"/>
            <p:cNvCxnSpPr>
              <a:stCxn id="367" idx="0"/>
              <a:endCxn id="368" idx="2"/>
            </p:cNvCxnSpPr>
            <p:nvPr/>
          </p:nvCxnSpPr>
          <p:spPr>
            <a:xfrm flipH="1" rot="10800000">
              <a:off x="1217160" y="4098240"/>
              <a:ext cx="1450080" cy="1219680"/>
            </a:xfrm>
            <a:prstGeom prst="bentConnector3">
              <a:avLst>
                <a:gd name="adj1" fmla="val -156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70" idx="6"/>
              <a:endCxn id="371" idx="6"/>
            </p:cNvCxnSpPr>
            <p:nvPr/>
          </p:nvCxnSpPr>
          <p:spPr>
            <a:xfrm flipV="1">
              <a:off x="228600" y="5508000"/>
              <a:ext cx="1676880" cy="572400"/>
            </a:xfrm>
            <a:prstGeom prst="bentConnector3">
              <a:avLst>
                <a:gd name="adj1" fmla="val 113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73" idx="2"/>
              <a:endCxn id="374" idx="6"/>
            </p:cNvCxnSpPr>
            <p:nvPr/>
          </p:nvCxnSpPr>
          <p:spPr>
            <a:xfrm flipH="1">
              <a:off x="227880" y="3793680"/>
              <a:ext cx="243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152280" y="3755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2280" y="604188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2743200" y="4289400"/>
              <a:ext cx="1218960" cy="532800"/>
              <a:chOff x="2743200" y="4289400"/>
              <a:chExt cx="1218960" cy="532800"/>
            </a:xfrm>
          </p:grpSpPr>
          <p:sp>
            <p:nvSpPr>
              <p:cNvPr id="376" name=""/>
              <p:cNvSpPr/>
              <p:nvPr/>
            </p:nvSpPr>
            <p:spPr>
              <a:xfrm>
                <a:off x="27432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004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0" name=""/>
            <p:cNvCxnSpPr>
              <a:stCxn id="376" idx="6"/>
              <a:endCxn id="381" idx="2"/>
            </p:cNvCxnSpPr>
            <p:nvPr/>
          </p:nvCxnSpPr>
          <p:spPr>
            <a:xfrm>
              <a:off x="2819160" y="432720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2" name=""/>
            <p:cNvGrpSpPr/>
            <p:nvPr/>
          </p:nvGrpSpPr>
          <p:grpSpPr>
            <a:xfrm>
              <a:off x="4800600" y="4289400"/>
              <a:ext cx="75960" cy="532800"/>
              <a:chOff x="4800600" y="4289400"/>
              <a:chExt cx="75960" cy="532800"/>
            </a:xfrm>
          </p:grpSpPr>
          <p:sp>
            <p:nvSpPr>
              <p:cNvPr id="381" name=""/>
              <p:cNvSpPr/>
              <p:nvPr/>
            </p:nvSpPr>
            <p:spPr>
              <a:xfrm>
                <a:off x="4800600" y="428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00600" y="44416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45939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00600" y="47462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77" idx="6"/>
              <a:endCxn id="383" idx="2"/>
            </p:cNvCxnSpPr>
            <p:nvPr/>
          </p:nvCxnSpPr>
          <p:spPr>
            <a:xfrm>
              <a:off x="3047400" y="4479480"/>
              <a:ext cx="175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78" idx="6"/>
              <a:endCxn id="384" idx="2"/>
            </p:cNvCxnSpPr>
            <p:nvPr/>
          </p:nvCxnSpPr>
          <p:spPr>
            <a:xfrm>
              <a:off x="3276360" y="463176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79" idx="6"/>
              <a:endCxn id="385" idx="2"/>
            </p:cNvCxnSpPr>
            <p:nvPr/>
          </p:nvCxnSpPr>
          <p:spPr>
            <a:xfrm>
              <a:off x="3961800" y="478440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9" name=""/>
            <p:cNvGrpSpPr/>
            <p:nvPr/>
          </p:nvGrpSpPr>
          <p:grpSpPr>
            <a:xfrm>
              <a:off x="1218960" y="4860720"/>
              <a:ext cx="685800" cy="914400"/>
              <a:chOff x="1218960" y="4860720"/>
              <a:chExt cx="685800" cy="9144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1218960" y="4860720"/>
                <a:ext cx="685800" cy="914400"/>
                <a:chOff x="1218960" y="4860720"/>
                <a:chExt cx="685800" cy="914400"/>
              </a:xfrm>
            </p:grpSpPr>
            <p:sp>
              <p:nvSpPr>
                <p:cNvPr id="367" name=""/>
                <p:cNvSpPr/>
                <p:nvPr/>
              </p:nvSpPr>
              <p:spPr>
                <a:xfrm rot="16200000">
                  <a:off x="1104480" y="4974840"/>
                  <a:ext cx="914400" cy="685800"/>
                </a:xfrm>
                <a:prstGeom prst="flowChartExtra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508932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8800" y="547020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1600200" y="535608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00200" y="4974840"/>
                <a:ext cx="22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0" y="34290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57052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anál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479088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72000" y="4060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M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72000" y="47764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Times New Roman"/>
                </a:rPr>
                <a:t>L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666880" y="3679560"/>
              <a:ext cx="1447920" cy="533520"/>
              <a:chOff x="2666880" y="3679560"/>
              <a:chExt cx="1447920" cy="5335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666880" y="3679560"/>
                <a:ext cx="1447920" cy="533520"/>
                <a:chOff x="2666880" y="3679560"/>
                <a:chExt cx="1447920" cy="533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66880" y="3679560"/>
                  <a:ext cx="1447920" cy="520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Contador </a:t>
                  </a:r>
                  <a:br>
                    <a:rPr sz="1400"/>
                  </a:br>
                  <a:r>
                    <a:rPr b="0" i="1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p-Dow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743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718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004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886200" y="4136760"/>
                  <a:ext cx="75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2666880" y="3755880"/>
                <a:ext cx="76320" cy="76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66880" y="4060800"/>
                <a:ext cx="76320" cy="75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838080" y="38001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8600" y="1649520"/>
            <a:ext cx="38098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suelve el problema de seguimiento del ADC “contador”. Al usar un contador Up-Down si la salida cambia entonces el ADC “sigue” los cambios en la señal de entrada.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ADC realiza “tracking”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1654200"/>
            <a:ext cx="3657600" cy="393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s Sup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Aproximación sucesiva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 se hace uso de contador, sino de un “dispositivo porgramado”. Éste setea el MSB en “1” y si la señal de entrada es menor deja en “0” al MSB y pone en “1” al siguiente MSB. Así va iterando hasta que alcanza el valor deseado. El número de comparaciones es O(N), mientras que los esquemas contadores son O(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DC Comparador Paralelo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 más rápido de todos. Hace uso de un “banco de comparadores” con umbrales igualmente espaciados. A éste se aplica la señal analógica, resultando una entrada paralela de “1s” y “0s” con la que se alimenta un codificador. El problema es la complejidad: N bits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s-ES_tradnl" sz="1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pa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 no-line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ultipl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elda de Gilber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a P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versores A/D (ADCs) y D/A (DAC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ltiplicadores Ana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590920"/>
                <a:ext cx="1295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48400" y="2590920"/>
                <a:ext cx="12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3429000"/>
                <a:ext cx="2857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19920" y="3886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581880" y="4695840"/>
                <a:ext cx="1333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n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699160" cy="41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19760" y="5429160"/>
                <a:ext cx="2857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n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228600" y="1752480"/>
            <a:ext cx="6019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dos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sin restricción de signo, pero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E(on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43434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4000" y="52578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2280" y="2201760"/>
            <a:ext cx="4579920" cy="4351320"/>
            <a:chOff x="152280" y="2201760"/>
            <a:chExt cx="4579920" cy="43513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52280" y="2201760"/>
              <a:ext cx="457992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8600" y="41068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" y="5021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81480" y="1828800"/>
                <a:ext cx="127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010280" y="1828800"/>
                <a:ext cx="120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219640" y="2457360"/>
                <a:ext cx="120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972480" y="245736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81480" y="314316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00920" y="3143160"/>
                <a:ext cx="1219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10080" y="4038480"/>
                <a:ext cx="238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6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62400" y="4495680"/>
                <a:ext cx="329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6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Δ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95960" y="5143680"/>
                <a:ext cx="2781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52280" y="16002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Multiplicador de cuatro cuadrantes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4532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943600" y="2514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ón Básica: Modul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7620120" cy="41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7696080" cy="4214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9880" y="1893960"/>
                <a:ext cx="2054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87680" y="189720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elda de Gilbert: Pequeñas señal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52280" y="2124000"/>
            <a:ext cx="8076960" cy="447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1905120"/>
                <a:ext cx="2054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u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1905120"/>
                <a:ext cx="209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rri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57400" y="5181480"/>
                <a:ext cx="598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410080" y="5181480"/>
                <a:ext cx="598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14600" y="5410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19360" y="5410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6040" y="1905120"/>
                <a:ext cx="2895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876920" y="3124080"/>
            <a:ext cx="2743200" cy="16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nálisis en Series de Fourier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ergía se “reparte” en dos componentes de frecu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ta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1-17T15:03:40Z</dcterms:modified>
  <cp:revision>1011</cp:revision>
  <dc:subject>Sistemas Analógicos (II)</dc:subject>
  <dc:title>Clase 23</dc:title>
</cp:coreProperties>
</file>