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A092-8D8D-49D3-BC0E-C400D891C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CB10-B7A1-46C5-903D-0B2A70532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1731-1106-4F32-9A09-882AF489D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CB55-57B9-40A8-BDF5-AE63BC2DE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54D-A3F9-421C-B345-9574D3C279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B51-5323-4005-9839-BC481E31F3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5F5-D9BA-4B61-A48A-1C76BC5900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F26-8DDB-4B5A-AF7A-8F19EBA3B0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3F8-F9AE-4175-BF59-8079C7690B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982-75DC-4C4C-BC76-82AA247BEC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FB5-EDF2-4B7C-94AD-335F9B51D1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E9E8-EBBC-44E7-BC56-FF1DE5F21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9A9-DA29-45AA-A297-8F9E8164D1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208-BF9F-40C4-9040-04FA7D4C19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27E-AF02-492B-A6E3-097E9CC8BC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0E6-9900-481C-9E91-66C7F79844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6C1-630F-4D82-9D4F-70BDE83CEF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D645-E308-4B4D-96B7-D4E9ADA60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7622-2F53-4FB2-9401-2BAA8297A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4824-DF0F-4215-9239-2D775BA1B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6FA7-BDE3-4B8D-9CB1-57AF20C07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1D89-D96A-4A50-A2F7-BEB66FB2E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F9B9-10DA-460C-B689-99C805633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B128-FB12-49CC-931E-67D6781DD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84E4-A281-42F6-BE18-8C994A6FE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A917-2902-4C99-96E7-72BA69FF1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pulsos (PW) es ~ proporcional a la amplitud de la señal modu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 pulsos se generan cuando lo indica el “flanco negativo” de la señal trigg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268360"/>
            <a:ext cx="7848720" cy="4437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00800" y="2971800"/>
            <a:ext cx="266688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cho del pulso determinado cuando el voltaje en el condensador alcanza la señal modulante - Para que exista proporción exacta reemplaz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por fuente de corriente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Trigger puede ser generado por 555 a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5638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38480" y="5697360"/>
                <a:ext cx="36831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lgunas Aplicaciones Analóg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de gran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strumentación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uladores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s Activos, 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versores A/D (Más adela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esante 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“comprimir” el rango dinámico de una señ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acilidad de procesamiento (Ley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ncia de la temperatura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" y="458784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82520" y="1981080"/>
            <a:ext cx="3932280" cy="2484720"/>
            <a:chOff x="182520" y="1981080"/>
            <a:chExt cx="3932280" cy="24847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82520" y="1981080"/>
              <a:ext cx="3932280" cy="24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04920" y="27432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2680" y="30621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49320" y="5180040"/>
                <a:ext cx="198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2360" y="5654520"/>
                <a:ext cx="3618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 de 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de 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minimizado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ede minimizarse utilizando por ejemplo a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o una resistencia dependiente de la temperatur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de saturación inversa elimi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 Pendiente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702400"/>
                <a:ext cx="5315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608800" cy="304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632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2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8240" y="4800600"/>
                <a:ext cx="4890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000" y="1752480"/>
            <a:ext cx="596592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048120" y="1905120"/>
                <a:ext cx="2819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52280" y="32767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38098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876920"/>
                <a:ext cx="2319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 flipH="1" flipV="1">
            <a:off x="388620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819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mpensación en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673280"/>
            <a:ext cx="304776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1 es necesario porque Q1 no entrega retroalimentación par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negativo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evado breakdown puede dañar a Q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otro lado, C1 cumple funciones de compensación para el conjunto amplificador OPAMP-Q1 (operación estable para diversas frecuencia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ara eliminar la dependencia en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 puede utilizar una resistencia con coeficiente de temperatura positivo en serie con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corriente I define la corriente de entrada (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 para la cual la salida será 0. La ganancia del OPAMP de salida (16) entrega –1.0 volt / década de corriente de entrada aprox (a Tº ambiente –0.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estreo-Reten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000" y="3527280"/>
            <a:ext cx="8084880" cy="2568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479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4337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52578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523880"/>
            <a:ext cx="88394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incipio Básico de Funcionamient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Señal “digital”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activa o desactiva switch M. 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Muestre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encendido, el condensador se carga al voltaje de entrad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n constante de tiempo 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= (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C (ideal que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lt;&lt;1). Notar que la corriente máxima de salida de los OPAMPs implican restricción a la velocidad de seguimiento (puede ser más restrictiva que la Slew Rate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tención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desactivado, el condensador se “descarga” con una gran constante de tiempo (es importante que las impedancias de entrada de los OPAMPs sean altas, idealmente entradas FETs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Trade-Off en el valor de C: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se elige C “pequeño” entonces las corrientes parásitas de los OPAMPs y del switch provocarán un alto“droop” en el voltaje almacenado: C se carga según dV/dt=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parásita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C. Por otro lado, si se elige C “grande”, la constante de tiempo para el muestreo será alta implicando filtrado de componentes de alta frecu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Telefonía y Jerarquía E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BD07153_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973080" cy="1066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95480" y="182880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3"/>
            <a:endCxn id="182" idx="2"/>
          </p:cNvCxnSpPr>
          <p:nvPr/>
        </p:nvCxnSpPr>
        <p:spPr>
          <a:xfrm flipV="1">
            <a:off x="1506600" y="2351880"/>
            <a:ext cx="13896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886200" y="304812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209680"/>
            <a:ext cx="1371600" cy="838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2" idx="3"/>
            <a:endCxn id="184" idx="1"/>
          </p:cNvCxnSpPr>
          <p:nvPr/>
        </p:nvCxnSpPr>
        <p:spPr>
          <a:xfrm>
            <a:off x="3476520" y="2666520"/>
            <a:ext cx="99144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4" idx="5"/>
            <a:endCxn id="185" idx="3"/>
          </p:cNvCxnSpPr>
          <p:nvPr/>
        </p:nvCxnSpPr>
        <p:spPr>
          <a:xfrm flipV="1">
            <a:off x="5257800" y="3047400"/>
            <a:ext cx="1038600" cy="3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2" idx="4"/>
            <a:endCxn id="185" idx="2"/>
          </p:cNvCxnSpPr>
          <p:nvPr/>
        </p:nvCxnSpPr>
        <p:spPr>
          <a:xfrm>
            <a:off x="4057560" y="2352240"/>
            <a:ext cx="1658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1676520" y="17524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28479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1: 32 Canales Digitales (MUX tempo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886200"/>
            <a:ext cx="85345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¿Qué debemos tener en la interfaz canal analógico/E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X analógico (MUX normal controla compuertas de transmisión CMOS). Permite seleccionar un canal analógico de entrada en form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estro-Retención (S/H): Para trabajar con una muestra de la señal analóg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versor A/D: Para digitalizar la muestra analógica a la salida del S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ncronización (Reloj y “Subrelojes”), Multiplexación y Control (Enrutamiento) de las diversas “muestras” que viajan por la misma “ruta local” (E1). Por ejemplo, para llegar desde CC1 a CC3 es posible utilizar la ruta directa CC1-CC3 o la “alternativa” (CC1-CC2-CC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1"/>
            <a:endCxn id="185" idx="4"/>
          </p:cNvCxnSpPr>
          <p:nvPr/>
        </p:nvCxnSpPr>
        <p:spPr>
          <a:xfrm flipH="1" flipV="1">
            <a:off x="6876720" y="2733120"/>
            <a:ext cx="104832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7010280" y="216216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clon_ch" descr=""/>
          <p:cNvPicPr/>
          <p:nvPr/>
        </p:nvPicPr>
        <p:blipFill>
          <a:blip r:embed="rId2"/>
          <a:stretch/>
        </p:blipFill>
        <p:spPr>
          <a:xfrm>
            <a:off x="7924680" y="266688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 generan soluciones a problema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“real” de los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considerado, puede afectar el desempeño notori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: “OPAMPs modificad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es (Schmitt Trigg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dores de Relajación (más sobre osciladores pront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: Oscilador Controlado por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ircuitos Integrados Prácti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mer 555: Flip-Flop + Comparadores + Resistencias + Transis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 Controlado por Voltaje (VCO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el integrado 55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mplificador logarítmi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ample and Hol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7120" y="175212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 comparador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1 como integ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1 se carga y descarga a una corriente de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200 m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2 Schmitt-Trigg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atura y corta a transistor Q1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-Q2: “Switch”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rta y pone a tierra a R4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rovoca la carga o descarga de C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205740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29040" y="1752120"/>
            <a:ext cx="2438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enera On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riangula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adra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 = 150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 proporcional a 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entonces f es independiente de ambas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 otras palabras tenemos un VC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scilador Controlado por Voltaj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Bloque importante en comunicaciones (PL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03976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mer Chip 555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o costo, versátil, BJT y C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MOS_555_Simplificado" descr=""/>
          <p:cNvPicPr/>
          <p:nvPr/>
        </p:nvPicPr>
        <p:blipFill>
          <a:blip r:embed="rId1"/>
          <a:stretch/>
        </p:blipFill>
        <p:spPr>
          <a:xfrm>
            <a:off x="152280" y="2841480"/>
            <a:ext cx="6248520" cy="357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3657240" y="3124080"/>
            <a:ext cx="152388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lip-Flop 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962520"/>
            <a:ext cx="1371600" cy="1676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495680"/>
            <a:ext cx="1371600" cy="1067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410080"/>
            <a:ext cx="3045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uede ser un BJT con Resistencia en l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1905120"/>
            <a:ext cx="25146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Diseñar(*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entes de Sierra (Sawtoo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WM (Pulse Width Modulator)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*) Buscar Datasheets con Application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7756560" cy="439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29080" y="5735520"/>
                <a:ext cx="5106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050920"/>
            <a:ext cx="8001000" cy="4502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152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221680" y="311148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flipH="1">
            <a:off x="73152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221680" y="463536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47920" y="537228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828800" y="5257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971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57120" y="2533680"/>
                <a:ext cx="22338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53341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76840" y="2523960"/>
                <a:ext cx="167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724280" y="5200560"/>
                <a:ext cx="299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ty cicle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 (Pulse Width Modulator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Útil para definir valor promedio de señ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Fija, ancho de pulso modul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405320"/>
            <a:ext cx="335304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la salida debe colocarse una resistencia alta para no cargar al 555. En el esquemático se colocó una resistencia baja a propósito para notar las señales de entrada y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5356440" cy="3521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2133720"/>
            <a:ext cx="335304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trol de Motores (Define valor promedio de potencia con pérdidas mínimas comparado con divis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entes Reguladas de Voltaje “Switch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dulador (Información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50:14Z</dcterms:modified>
  <cp:revision>912</cp:revision>
  <dc:subject>Sistemas Analógicos (I)</dc:subject>
  <dc:title>Clase 21</dc:title>
</cp:coreProperties>
</file>