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F45C-675F-4836-8F67-D50FB33C7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FE59-15B3-490F-B583-B0DF18176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22FF-0F62-42CD-BF07-17208B377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7816-B86C-4475-A4C4-6E0F97CAE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0BB6-2655-46F7-8B89-578E4E78BE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0740-B47E-4CA7-89D5-504C268FB7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81C-B0C7-4026-AEBB-AA9C3029FA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F84B-27C6-4506-9781-671872449A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D32-EA1F-490A-B89C-8B9D1C0E17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56A-A3C5-4614-B0BB-3BE933E8E0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C715-E301-41A7-BDC9-6D921CF181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200E-6993-42EF-AF1C-439F164B5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786-D990-40A3-B6BE-D0BA68935C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67A6-3C96-4471-B83B-DFD847DF72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810-F2DC-4B55-83A4-FF54D4D5D2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3C2-D8D0-43C0-B4E6-C1E63E334E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31B-BE3F-4A9F-9966-03D7ABE6A1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E715-252B-45E8-87E1-55F27369C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77A0-5CE6-4202-B6F0-4BE539DAA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29EA-A117-4311-A6FD-88FE34102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440F-9EC2-4A44-A890-19BC1281D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65CA-C1EC-4BA8-A7B0-BAF534F47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242A-D32F-4F43-8BB9-41611495D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A45A-6809-4F37-A19B-5AEEADCDB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A6AE-5DBB-4E20-8C19-DE4D8F837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DE1D-A4FC-4755-84E6-F8F6D90C8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 2: PW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cho pulsos (PW) es ~ proporcional a la amplitud de la señal modula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o pulsos se generan cuando lo indica el “flanco negativo” de la señal trigge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268360"/>
            <a:ext cx="7848720" cy="4437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400800" y="2971800"/>
            <a:ext cx="266688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ncho del pulso determinado cuando el voltaje en el condensador alcanza la señal modulante - Para que exista proporción exacta reemplaza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por fuente de corriente.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Trigger puede ser generado por 555 a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56386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038480" y="5697360"/>
                <a:ext cx="368316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lgunas Aplicaciones Analóg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 de gran estabi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strumentación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uladores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witching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iltros Activos, Oscil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ul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C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LL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versores A/D (Más adelan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Logarítm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resante ide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“comprimir” el rango dinámico de una señal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acilidad de procesamiento (Ley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ncia de la temperatura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 saturación invers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ctor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7200" y="4587840"/>
                <a:ext cx="2971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182520" y="1981080"/>
            <a:ext cx="3932280" cy="2484720"/>
            <a:chOff x="182520" y="1981080"/>
            <a:chExt cx="3932280" cy="248472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182520" y="1981080"/>
              <a:ext cx="3932280" cy="24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04920" y="27432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52680" y="306216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49320" y="5180040"/>
                <a:ext cx="1987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2360" y="5654520"/>
                <a:ext cx="36180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Logarítm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562720" y="182880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olución de Problem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pendencia de la temperatur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fecto de 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minimizado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uede minimizarse utilizando por ejemplo a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mo una resistencia dependiente de la temperatur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 de saturación inversa elimin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 Pendiente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act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52280" y="5702400"/>
                <a:ext cx="5315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5608800" cy="3040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6320" y="2909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2909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32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38240" y="4800600"/>
                <a:ext cx="48909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Logarítmic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4000" y="1752480"/>
            <a:ext cx="596592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048120" y="1905120"/>
                <a:ext cx="2819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152280" y="327672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380988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80880" y="4876920"/>
                <a:ext cx="23194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 flipH="1" flipV="1">
            <a:off x="3886200" y="2362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8195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mpensación en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1673280"/>
            <a:ext cx="3047760" cy="47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mentar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1 es necesario porque Q1 no entrega retroalimentación para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negativo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evado breakdown puede dañar a Q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or otro lado, C1 cumple funciones de compensación para el conjunto amplificador OPAMP-Q1 (operación estable para diversas frecuencia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ara eliminar la dependencia en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e puede utilizar una resistencia con coeficiente de temperatura positivo en serie con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corriente I define la corriente de entrada (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 para la cual la salida será 0. La ganancia del OPAMP de salida (16) entrega –1.0 volt / década de corriente de entrada aprox (a Tº ambiente –0.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uestreo-Reten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97000" y="3527280"/>
            <a:ext cx="8084880" cy="2568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8600" y="374796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443376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52578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1523880"/>
            <a:ext cx="883944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Principio Básico de Funcionamiento: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Señal “digital”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activa o desactiva switch M. 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Muestreo: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uando el switch está encendido, el condensador se carga al voltaje de entrada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n constante de tiempo  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= (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1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C (ideal que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&lt;&lt;1). Notar que la corriente máxima de salida de los OPAMPs implican restricción a la velocidad de seguimiento (puede ser más restrictiva que la Slew Rate)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Retención: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uando el switch está desactivado, el condensador se “descarga” con una gran constante de tiempo (es importante que las impedancias de entrada de los OPAMPs sean altas, idealmente entradas FETs)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Trade-Off en el valor de C: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se elige C “pequeño” entonces las corrientes parásitas de los OPAMPs y del switch provocarán un alto“droop” en el voltaje almacenado: C se carga según dV/dt=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parásita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C. Por otro lado, si se elige C “grande”, la constante de tiempo para el muestreo será alta implicando filtrado de componentes de alta frecu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Telefonía y Jerarquía E1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BD07153_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973080" cy="1066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895480" y="1828800"/>
            <a:ext cx="1371600" cy="8380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1" idx="3"/>
            <a:endCxn id="182" idx="2"/>
          </p:cNvCxnSpPr>
          <p:nvPr/>
        </p:nvCxnSpPr>
        <p:spPr>
          <a:xfrm flipV="1">
            <a:off x="1506600" y="2351880"/>
            <a:ext cx="13896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886200" y="3048120"/>
            <a:ext cx="1371600" cy="8380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209680"/>
            <a:ext cx="1371600" cy="838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2" idx="3"/>
            <a:endCxn id="184" idx="1"/>
          </p:cNvCxnSpPr>
          <p:nvPr/>
        </p:nvCxnSpPr>
        <p:spPr>
          <a:xfrm>
            <a:off x="3476520" y="2666520"/>
            <a:ext cx="991440" cy="591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84" idx="5"/>
            <a:endCxn id="185" idx="3"/>
          </p:cNvCxnSpPr>
          <p:nvPr/>
        </p:nvCxnSpPr>
        <p:spPr>
          <a:xfrm flipV="1">
            <a:off x="5257800" y="3047400"/>
            <a:ext cx="1038600" cy="3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2" idx="4"/>
            <a:endCxn id="185" idx="2"/>
          </p:cNvCxnSpPr>
          <p:nvPr/>
        </p:nvCxnSpPr>
        <p:spPr>
          <a:xfrm>
            <a:off x="4057560" y="2352240"/>
            <a:ext cx="165816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1676520" y="17524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1 Canal Analó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284796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1: 32 Canales Digitales (MUX tempor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3886200"/>
            <a:ext cx="85345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¿Qué debemos tener en la interfaz canal analógico/E1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UX analógico (MUX normal controla compuertas de transmisión CMOS). Permite seleccionar un canal analógico de entrada en forma secu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uestro-Retención (S/H): Para trabajar con una muestra de la señal analóg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nversor A/D: Para digitalizar la muestra analógica a la salida del S/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ncronización (Reloj y “Subrelojes”), Multiplexación y Control (Enrutamiento) de las diversas “muestras” que viajan por la misma “ruta local” (E1). Por ejemplo, para llegar desde CC1 a CC3 es posible utilizar la ruta directa CC1-CC3 o la “alternativa” (CC1-CC2-CC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1"/>
            <a:endCxn id="185" idx="4"/>
          </p:cNvCxnSpPr>
          <p:nvPr/>
        </p:nvCxnSpPr>
        <p:spPr>
          <a:xfrm flipH="1" flipV="1">
            <a:off x="6876720" y="2733120"/>
            <a:ext cx="1048320" cy="44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7010280" y="216216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1 Canal Analó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eclon_ch" descr=""/>
          <p:cNvPicPr/>
          <p:nvPr/>
        </p:nvPicPr>
        <p:blipFill>
          <a:blip r:embed="rId2"/>
          <a:stretch/>
        </p:blipFill>
        <p:spPr>
          <a:xfrm>
            <a:off x="7924680" y="266688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AMPs generan soluciones a problema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ortamiento “real” de los dispos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ser considerado, puede afectar el desempeño notoriam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: “OPAMPs modificado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aradores (Schmitt Trigge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dores de Relajación (más sobre osciladores pront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CO: Oscilador Controlado por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ircuitos Integrados Práctic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mer 555: Flip-Flop + Comparadores + Resistencias + Transis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1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Sistemas Analógicos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PAMPs y retroaliment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scilador Controlado por Voltaje (VCO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el integrado 55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mplificador logarítmic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ample and Hol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6781680" cy="4606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VC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(Oscilador Controlado por Voltaje 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77120" y="175212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n comparador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1 como integrado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1 se carga y descarga a una corriente de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 200 m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2 Schmitt-Trigge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atura y corta a transistor Q1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-Q2: “Switch”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rta y pone a tierra a R4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rovoca la carga o descarga de C1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274320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2057400"/>
            <a:ext cx="12189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ria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1/3, 2/3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2971800"/>
            <a:ext cx="12193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uad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0, 1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6781680" cy="4606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VC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(Oscilador Controlado por Voltaje 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29040" y="1752120"/>
            <a:ext cx="2438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enera Onda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Triangular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uadrad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f = 150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s proporcional a 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, entonces f es independiente de ambas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 otras palabras tenemos un VC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scilador Controlado por Voltaj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Bloque importante en comunicaciones (PL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74320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039760"/>
            <a:ext cx="12189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ria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1/3, 2/3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2971800"/>
            <a:ext cx="12193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uad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0, 1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572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mer Chip 555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ajo costo, versátil, BJT y C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CMOS_555_Simplificado" descr=""/>
          <p:cNvPicPr/>
          <p:nvPr/>
        </p:nvPicPr>
        <p:blipFill>
          <a:blip r:embed="rId1"/>
          <a:stretch/>
        </p:blipFill>
        <p:spPr>
          <a:xfrm>
            <a:off x="152280" y="2841480"/>
            <a:ext cx="6248520" cy="3578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3657240" y="3124080"/>
            <a:ext cx="152388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2895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lip-Flop 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3962520"/>
            <a:ext cx="1371600" cy="1676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495680"/>
            <a:ext cx="1371600" cy="1067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5410080"/>
            <a:ext cx="3045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5715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uede ser un BJT con Resistencia en l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1905120"/>
            <a:ext cx="25146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Diseñar(*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entes de Sierra (Sawtoo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dul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WM (Pulse Width Modulator)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*) Buscar Datasheets con Application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7756560" cy="4397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2057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jemplo 1: Oscilador “Ast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629080" y="5735520"/>
                <a:ext cx="5106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050920"/>
            <a:ext cx="8001000" cy="4502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72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jemplo 1: Oscilador “Ast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3152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8221680" y="3111480"/>
                <a:ext cx="541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 flipH="1">
            <a:off x="73152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221680" y="4635360"/>
                <a:ext cx="541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47920" y="5372280"/>
                <a:ext cx="2133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828800" y="52578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9718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57120" y="2533680"/>
                <a:ext cx="22338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53341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76840" y="2523960"/>
                <a:ext cx="1670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724280" y="5200560"/>
                <a:ext cx="2998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ty cicle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 2: PWM (Pulse Width Modulator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Útil para definir valor promedio de señ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Fija, ancho de pulso modul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4405320"/>
            <a:ext cx="3353040" cy="16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la salida debe colocarse una resistencia alta para no cargar al 555. En el esquemático se colocó una resistencia baja a propósito para notar las señales de entrada y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5356440" cy="3521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638680" y="2133720"/>
            <a:ext cx="335304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plic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trol de Motores (Define valor promedio de potencia con pérdidas mínimas comparado con divis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uentes Reguladas de Voltaje “Switch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dulador (Información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50:14Z</dcterms:modified>
  <cp:revision>912</cp:revision>
  <dc:subject>Sistemas Analógicos (I)</dc:subject>
  <dc:title>Clase 21</dc:title>
</cp:coreProperties>
</file>