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4.wmf" ContentType="image/x-wmf"/>
  <Override PartName="/ppt/media/image3.png" ContentType="image/png"/>
  <Override PartName="/ppt/media/image15.wmf" ContentType="image/x-wmf"/>
  <Override PartName="/ppt/media/image7.png" ContentType="image/png"/>
  <Override PartName="/ppt/media/image8.wmf" ContentType="image/x-wmf"/>
  <Override PartName="/ppt/media/image17.wmf" ContentType="image/x-wmf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49C1-6639-4669-A352-D9FC1C2EF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57D6-59A2-4747-B182-E47D384DA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1A65-D0E9-4DD3-A4DE-3591A1143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6541-81C0-4E0B-BCD7-72D145A9E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0F8-3E66-4D03-9D69-270C75301C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581-CBFC-404A-867B-BA447FDDD5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9C2-3028-439D-A2AF-9A738949DF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79B-95AF-4B63-8CA1-D17FED98F5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6EA0-581C-4445-AB5F-66DA1C6881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4F78-7A34-4AD4-AE99-2207922A73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2A6-669D-4D77-8317-DC4FA1E0BF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90C8-8755-4171-9EF3-0F4F2E00F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6D1-FCB1-470E-A348-EA59257730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2F2-EAF9-413B-90C1-95B31DAD4F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5921-B57F-4BDA-BA30-74C9CADD78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A5B-6577-4484-AC70-E273BAD593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6E2-AD82-44EE-A790-DF8544B3F3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1429-B47E-4F67-9A86-6627B4AD5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2A72-BE9C-4AA7-B3C7-B541878E0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31E4-2D6B-48A1-80A2-232A0375E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9309-992D-4C47-B4FE-9E50F0365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5F52-BBAD-43B7-ABFC-CA52380E5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B9B0-A6B2-45D0-A01D-A4CC31BAA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46C0-E3F0-41EA-B59F-4256EA430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B34A-B876-4459-A202-1BEE57BB8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35DB-1064-4C08-911A-4C500FF63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Dominan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uncionamiento de seguidor de voltaj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2233440"/>
            <a:ext cx="77724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stantes de Tiempo: Slew Ra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: Estab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plica un escalón en la entrada de 0.1 V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46280" y="2971800"/>
            <a:ext cx="4359240" cy="3070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105520" y="3200400"/>
            <a:ext cx="3886200" cy="27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nálisi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,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1 V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0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 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del OPAMP tratará de saturarse positivamente a una velocidad máxima dada por la slew rate (0.5V/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salida crecerá hasta que el terminal inversor alcance el voltaje de la entrada no inverso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stantes de Tiempo: Slew Ra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860480"/>
            <a:ext cx="8534520" cy="4632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343400" y="4343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370188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ines Diferenciales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Igua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4419720"/>
            <a:ext cx="99072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5149800"/>
            <a:ext cx="3505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asa de crecimiento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.4V/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 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2394000"/>
            <a:ext cx="4953240" cy="32288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calones Unitarios sincronizados de entrada en t=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5562720"/>
            <a:ext cx="1905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uente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V 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5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2205000"/>
            <a:ext cx="388620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nálisi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, C des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 y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2=1.5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del OPAMP tratará de saturarse negativamente a una velocidad máxima dada por la slew rate (0.5V/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).Por otro lado C se cargará con una constante de tiempo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C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voltaje diferencial (función de ambas velocidades) define la estabilidad del sistema: Si el condensador es “muy rápido”(es decir la salida del OPAMP no cambia en la escala de tiempo RC) “gana” la retroalimentación posi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81200" y="2409840"/>
                <a:ext cx="11998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514600" y="5560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OPAMP LM324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lew rate = 0.5V/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;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~ 10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calones Unitarios sincronizados de entra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2514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nálisi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 se carga segú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410080" y="3200400"/>
                <a:ext cx="36576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‖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C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43480" y="4114800"/>
                <a:ext cx="3637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‖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C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033960" y="4962600"/>
                <a:ext cx="19670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320" y="2606760"/>
            <a:ext cx="5235480" cy="3413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14400" y="2590920"/>
                <a:ext cx="12002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763120" cy="4778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5562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C=1pF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1ns &lt;&lt; slew ra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 Retroalimentación positiva siempre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50532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441972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274320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252900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20040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771560"/>
            <a:ext cx="8458200" cy="4781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5943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C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ms &gt;&gt; slew ra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” ~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 gana 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190512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281952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533412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26708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65760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908000"/>
            <a:ext cx="8534520" cy="4645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553080" y="373392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434340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251460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266688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335268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791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C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ms &gt;&gt; slew ra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iempos ~ ms gana retroalimentación posi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estabilida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” se comporta en forma inestable a propósi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 alcanza valores de saturación rápidam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aradores con histéresis (Schmitt Trigge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iltros: 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&gt;&gt;A y ancho de banda “selectiv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dores (Relajación, sinusoidale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chmitt-Trigg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-Regenerativ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ee Histéresis: importante en labores de compa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3208320"/>
            <a:ext cx="6172200" cy="342108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152280" y="3224160"/>
            <a:ext cx="5867640" cy="2971800"/>
            <a:chOff x="152280" y="3224160"/>
            <a:chExt cx="5867640" cy="2971800"/>
          </a:xfrm>
        </p:grpSpPr>
        <p:sp>
          <p:nvSpPr>
            <p:cNvPr id="195" name=""/>
            <p:cNvSpPr/>
            <p:nvPr/>
          </p:nvSpPr>
          <p:spPr>
            <a:xfrm>
              <a:off x="3067200" y="3224160"/>
              <a:ext cx="0" cy="297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120" y="472428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965840" y="4406760"/>
                  <a:ext cx="105408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os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f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52280" y="4419720"/>
                  <a:ext cx="105408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g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f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090960" y="4253040"/>
                  <a:ext cx="15620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o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g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f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3124080" y="3352680"/>
                  <a:ext cx="25416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o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3124080" y="5867280"/>
                  <a:ext cx="25416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4191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Útil en labores d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6095880" cy="3440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410080" y="1905120"/>
            <a:ext cx="35737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Oscil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562720" y="1730520"/>
            <a:ext cx="3581280" cy="307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09680" y="4508640"/>
                <a:ext cx="2590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600200" y="5824440"/>
                <a:ext cx="2362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952880" y="6043680"/>
                <a:ext cx="11430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838080" y="4572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a 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51498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y descarga toman el mismo tiempo. Si se define por t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 tiempo que transcurre desde que el condensador tiene el voltaje -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hasta que alcanz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, el período T 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486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: Generador de onda cuad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upuesto: inicialment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 =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 se carga a voltaje V co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asta que terminal inversor alcanza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toma valo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 V =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e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 “se carga” a voltaje -V co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asta que terminal inversor alcanza voltaje -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repite el cic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Oscil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2833560"/>
            <a:ext cx="7086600" cy="3872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410080" y="2962440"/>
            <a:ext cx="3657600" cy="313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286000" y="5334120"/>
                <a:ext cx="11430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: Generador de onda cuadrada (Oscilador de Relajació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: Slew-Rate (máxima velocidad 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ón: Compar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5257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v/s Comparad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bor de Compa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plicación práctic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equeña diferencia entre terminal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voca saturación en el OPAMP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se requiere “comportamiento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PAMP: Slew Rate es una limitación, pero para este tipo de aplicación ¿Importa la estabilidad?... NO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arad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OPAMP diseñado especialmente para labores de comparació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no posee condensador de compensació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la Slew Rate ya no es problema (~ 5000V/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esencia de Ruido en la entrada implica transiciones no deseadas dada la gran sensibilidad del dispositivo a diferencias de voltaj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ecesidad de Histéresis, Idea: Retroalimentación positiva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24386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Comparado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ilar a un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señado para tener una slew-rate alta (5000 V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osee compens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etroalimentación positiva puede ser inestab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en configuración retroalimentada positiv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quitectura Típ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trada diferencial 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“Open-Collector con Emisor a tierr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SFET: permite excursión completa de la señal de salida [0,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y OPAM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ntificación de Retroalimentación “Dominante”: Análisis de Estabi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ones para que “pines sean iguale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a Slew Rate o máxima velocidad de respuesta en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as constantes de tiempo del sistema en cuest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puede ser úti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 con Histéresis: Schmitt-Trigg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o de Metodología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algunos ejemplos Pedagógicos (no práctico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jemplos de Retroalimentación Posi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Metodología Gener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tectar si la configuración es “estable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 ser así encontrar zona de operación line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so contrario analizar las “constantes de tiempo del sistema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general se asumirá que la impedancia de entrada a un OPAMP es mucho mayor que las impedancias DC del sistem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Estabil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sume que el OPAMP se encuentra en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“aplica” una variación “pequeña” en la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naliza el efecto en el voltaje diferencial (Determinación de “Retroalimentación Dominante”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opone al cambi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table (Retroalimentación Negativ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efuerza el cambi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nestable (Retroalimentación Positiv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el Sistema es estable la hipótesis original es consist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caso contrario el sistema “diverge” (Saturació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Zon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: “Pines a igual voltaj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posi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9240" y="1752480"/>
            <a:ext cx="4708440" cy="260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045040" y="1981080"/>
                <a:ext cx="1181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304920" y="2971800"/>
            <a:ext cx="40384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bilidad y Zona Lineal: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umenta, sólo el terminal inversor aumenta (no inversor fijo a tierra) por lo que la entrada diferencial disminuye oponiéndose al cambi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tabilidad (Retroalimentación negativa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Pines iguales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429080" y="4419720"/>
                <a:ext cx="41054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04920" y="5029200"/>
            <a:ext cx="43434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e encuentra acotado po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e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estricción sobre amplitud de entrad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724280" y="5334120"/>
                <a:ext cx="37497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⇔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eedback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257800" y="5791320"/>
                <a:ext cx="19494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Zon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so Particu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1640" y="2666880"/>
            <a:ext cx="554688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193920"/>
                <a:ext cx="25686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ona</m:t>
                        </m:r>
                        <m:r>
                          <m:rPr>
                            <m:lit/>
                            <m:nor/>
                          </m:rPr>
                          <m:t xml:space="preserve">Lineal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8</m:t>
                        </m:r>
                        <m:r>
                          <m:t xml:space="preserve">⇔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400800" y="4343400"/>
                <a:ext cx="23814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nancia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Zon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2281320"/>
            <a:ext cx="7848720" cy="4271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09480" y="2514600"/>
                <a:ext cx="9939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906560" y="3832200"/>
            <a:ext cx="0" cy="2263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95280" y="4648320"/>
                <a:ext cx="5619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816280" y="3962520"/>
                <a:ext cx="6937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743200" y="2590920"/>
            <a:ext cx="0" cy="3101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29718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248520" y="4114800"/>
                <a:ext cx="1368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nanci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2666880" y="2438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2057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 Pos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59436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5105520"/>
            <a:ext cx="1219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4952880" cy="2979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Dominan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on pequeñas comparadas con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tonce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35053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33880" y="3095640"/>
                <a:ext cx="110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67000" y="5256360"/>
                <a:ext cx="24480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 flipV="1">
            <a:off x="5334120" y="48002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71400" y="4390920"/>
                <a:ext cx="2757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85800" y="4995720"/>
                <a:ext cx="2457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Ω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447920" y="5638680"/>
                <a:ext cx="97632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57200" y="60800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seguidor de voltaje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666880"/>
            <a:ext cx="3657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bilidad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umenta, ambos terminales (inversor y no inversor) aumentan, sin embargo el inversor aumenta en una mayor propor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tabilidad (Gana retroalimentación negati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5:24Z</dcterms:modified>
  <cp:revision>961</cp:revision>
  <dc:subject>Retroalimentación (II)</dc:subject>
  <dc:title>Clase 20</dc:title>
</cp:coreProperties>
</file>