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4.wmf" ContentType="image/x-wmf"/>
  <Override PartName="/ppt/media/image3.png" ContentType="image/png"/>
  <Override PartName="/ppt/media/image15.wmf" ContentType="image/x-wmf"/>
  <Override PartName="/ppt/media/image7.png" ContentType="image/png"/>
  <Override PartName="/ppt/media/image8.wmf" ContentType="image/x-wmf"/>
  <Override PartName="/ppt/media/image17.wmf" ContentType="image/x-wmf"/>
  <Override PartName="/ppt/media/image9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88B3-34A1-4463-854E-55D754076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A83E-14E3-4127-A7DE-AAE83311B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F16F-3E33-4AB7-908B-79B8143CD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B3CE-3B12-4B0B-AB26-B7D8ACF6A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96C-D075-4B9D-86BC-0E7CA0F2AD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618-7135-47D3-A91F-EDF0D8CCEA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A2C-7717-4F41-B647-F592D98A3F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7FA-399B-4270-9148-C7C454692A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5BCC-2694-4529-9284-113ABA8CAE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1B95-0C72-4197-9510-51D2FAC0BA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902-BCEA-44EA-A845-94AF37F1A5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5533-C43B-47E1-9B24-A4369CD69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DC24-5E20-4AF6-A7D1-DB38577A7C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EE0A-3D44-4AFD-A56D-6DB4E94875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F92-B603-4B4F-B9D1-FDFBBC22AE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BE78-56F8-4F62-A1A0-3E607716A1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A0C-80C6-4E05-9FAB-4DF893574B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8E16-1062-4043-AAC0-EE1DE9AC0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9B2B9-92D5-455A-B228-223AA446E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3F39-E062-4074-A06E-D8C8A7319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C52B-2B5C-4DFB-9BD5-F2E5383E6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C95A-B57E-446B-8B6B-491CE12BC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ECAD9-08AE-45B4-BEBC-7E80B82DA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2260E-E9C6-476E-9410-4E7140FD3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CADC-F363-4630-8D6C-457F57189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ADB6-1434-48B1-B0E0-429F92CA7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Dominant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uncionamiento de seguidor de voltaj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2233440"/>
            <a:ext cx="77724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stantes de Tiempo: Slew Rat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Negativa: Estab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plica un escalón en la entrada de 0.1 V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46280" y="2971800"/>
            <a:ext cx="4359240" cy="3070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105520" y="3200400"/>
            <a:ext cx="3886200" cy="27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nálisi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t=0,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1 V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0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 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del OPAMP tratará de saturarse positivamente a una velocidad máxima dada por la slew rate (0.5V/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salida crecerá hasta que el terminal inversor alcance el voltaje de la entrada no inverso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stantes de Tiempo: Slew Rat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860480"/>
            <a:ext cx="8534520" cy="4632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343400" y="4343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3701880"/>
            <a:ext cx="220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ines Diferenciales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“Igua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4419720"/>
            <a:ext cx="99072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5149800"/>
            <a:ext cx="3505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Tasa de crecimiento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.4V/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  Sle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280" y="2394000"/>
            <a:ext cx="4953240" cy="32288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calones Unitarios sincronizados de entrada en t=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5562720"/>
            <a:ext cx="1905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uente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V 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5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2205000"/>
            <a:ext cx="3886200" cy="40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nálisi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t=0, C descarg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 y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2=1.5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del OPAMP tratará de saturarse negativamente a una velocidad máxima dada por la slew rate (0.5V/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).Por otro lado C se cargará con una constante de tiempo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C.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voltaje diferencial (función de ambas velocidades) define la estabilidad del sistema: Si el condensador es “muy rápido”(es decir la salida del OPAMP no cambia en la escala de tiempo RC) “gana” la retroalimentación posi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81200" y="2409840"/>
                <a:ext cx="11998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514600" y="5560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OPAMP LM324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lew rate = 0.5V/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;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~ 10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calones Unitarios sincronizados de entra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2514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nálisi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 se carga segú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410080" y="3200400"/>
                <a:ext cx="36576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‖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C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43480" y="4114800"/>
                <a:ext cx="36370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‖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C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033960" y="4962600"/>
                <a:ext cx="19670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320" y="2606760"/>
            <a:ext cx="5235480" cy="3413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914400" y="2590920"/>
                <a:ext cx="12002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8763120" cy="47782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5562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C=1pF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1ns &lt;&lt; slew ra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 Retroalimentación positiva siempre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50532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441972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274320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252900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20040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1771560"/>
            <a:ext cx="8458200" cy="4781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5943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C=1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1ms &gt;&gt; slew ra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principio” ~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 gana 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190512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281952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533412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26708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65760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908000"/>
            <a:ext cx="8534520" cy="4645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553080" y="373392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434340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251460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1480" y="266688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335268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791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C=1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1ms &gt;&gt; slew ra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tiempos ~ ms gana retroalimentación posi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estabilida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” se comporta en forma inestable a propósi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 alcanza valores de saturación rápidam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aradores con histéresis (Schmitt Trigge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iltros: 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&gt;&gt;A y ancho de banda “selectiv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sciladores (Relajación, sinusoidale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chmitt-Trigg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-Regenerativ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ee Histéresis: importante en labores de compa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3208320"/>
            <a:ext cx="6172200" cy="342108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152280" y="3224160"/>
            <a:ext cx="5867640" cy="2971800"/>
            <a:chOff x="152280" y="3224160"/>
            <a:chExt cx="5867640" cy="2971800"/>
          </a:xfrm>
        </p:grpSpPr>
        <p:sp>
          <p:nvSpPr>
            <p:cNvPr id="195" name=""/>
            <p:cNvSpPr/>
            <p:nvPr/>
          </p:nvSpPr>
          <p:spPr>
            <a:xfrm>
              <a:off x="3067200" y="3224160"/>
              <a:ext cx="0" cy="297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2120" y="472428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4965840" y="4406760"/>
                  <a:ext cx="105408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os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f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52280" y="4419720"/>
                  <a:ext cx="105408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g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f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090960" y="4253040"/>
                  <a:ext cx="15620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os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g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f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3124080" y="3352680"/>
                  <a:ext cx="25416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o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3124080" y="5867280"/>
                  <a:ext cx="25416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4191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etroalimentación (I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Útil en labores d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6095880" cy="3440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410080" y="1905120"/>
            <a:ext cx="35737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Oscil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562720" y="1730520"/>
            <a:ext cx="3581280" cy="307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09680" y="4508640"/>
                <a:ext cx="2590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600200" y="5824440"/>
                <a:ext cx="2362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952880" y="6043680"/>
                <a:ext cx="11430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838080" y="4572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 a V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51498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 y descarga toman el mismo tiempo. Si se define por t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 tiempo que transcurre desde que el condensador tiene el voltaje -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 hasta que alcanz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, el período T 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486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: Generador de onda cuad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upuesto: inicialment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 =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 se carga a voltaje V co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asta que terminal inversor alcanza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toma valo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 V =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eg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 “se carga” a voltaje -V co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asta que terminal inversor alcanza voltaje -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repite el cic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Oscil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2833560"/>
            <a:ext cx="7086600" cy="3872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410080" y="2962440"/>
            <a:ext cx="3657600" cy="3133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286000" y="5334120"/>
                <a:ext cx="11430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: Generador de onda cuadrada (Oscilador de Relajació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: Slew-Rate (máxima velocidad 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ón: Compar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52578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v/s Comparad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bor de Compa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plicación práctic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equeña diferencia entre terminales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voca saturación en el OPAMP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se requiere “comportamiento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PAMP: Slew Rate es una limitación, pero para este tipo de aplicación ¿Importa la estabilidad?... NO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mparado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: OPAMP diseñado especialmente para labores de comparació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no posee condensador de compensació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la Slew Rate ya no es problema (~ 5000V/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esencia de Ruido en la entrada implica transiciones no deseadas dada la gran sensibilidad del dispositivo a diferencias de voltaj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ecesidad de Histéresis, Idea: Retroalimentación positiva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24386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Comparado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ilar a un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fere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señado para tener una slew-rate alta (5000 V/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osee compens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etroalimentación positiva puede ser inestab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l en configuración retroalimentada positiv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quitectura Típ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trada diferencial 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“Open-Collector con Emisor a tierr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SFET: permite excursión completa de la señal de salida [0,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y OPAM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ntificación de Retroalimentación “Dominante”: Análisis de Estabi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ones para que “pines sean iguale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de la Slew Rate o máxima velocidad de respuesta en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de las constantes de tiempo del sistema en cuest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 puede ser úti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 con Histéresis: Schmitt-Trigg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o de Metodología Gener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algunos ejemplos Pedagógicos (no práctico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jemplos de Retroalimentación Positiv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Metodología Gener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tectar si la configuración es “estable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 ser así encontrar zona de operación line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so contrario analizar las “constantes de tiempo del sistema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general se asumirá que la impedancia de entrada a un OPAMP es mucho mayor que las impedancias DC del sistem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Estabil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sume que el OPAMP se encuentra en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“aplica” una variación “pequeña” en la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naliza el efecto en el voltaje diferencial (Determinación de “Retroalimentación Dominante”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se opone al cambi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stable (Retroalimentación Negativ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refuerza el cambi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nestable (Retroalimentación Positiv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 el Sistema es estable la hipótesis original es consist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caso contrario el sistema “diverge” (Saturació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Zon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: “Pines a igual voltaj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posi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59240" y="1752480"/>
            <a:ext cx="4708440" cy="2606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045040" y="1981080"/>
                <a:ext cx="11811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304920" y="2971800"/>
            <a:ext cx="40384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bilidad y Zona Lineal: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umenta, sólo el terminal inversor aumenta (no inversor fijo a tierra) por lo que la entrada diferencial disminuye oponiéndose al cambi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tabilidad (Retroalimentación negativa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Zona Linea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Pines iguales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429080" y="4419720"/>
                <a:ext cx="41054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04920" y="5029200"/>
            <a:ext cx="43434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e encuentra acotado po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o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e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estricción sobre amplitud de entrad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724280" y="5334120"/>
                <a:ext cx="37497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⇔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eedback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257800" y="5791320"/>
                <a:ext cx="19494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Zon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so Particul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1640" y="2666880"/>
            <a:ext cx="554688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193920"/>
                <a:ext cx="25686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ona</m:t>
                        </m:r>
                        <m:r>
                          <m:rPr>
                            <m:lit/>
                            <m:nor/>
                          </m:rPr>
                          <m:t xml:space="preserve">Lineal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8</m:t>
                        </m:r>
                        <m:r>
                          <m:t xml:space="preserve">⇔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400800" y="4343400"/>
                <a:ext cx="23814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nancia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Zon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2281320"/>
            <a:ext cx="7848720" cy="4271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09480" y="2514600"/>
                <a:ext cx="9939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906560" y="3832200"/>
            <a:ext cx="0" cy="2263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95280" y="4648320"/>
                <a:ext cx="5619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816280" y="3962520"/>
                <a:ext cx="6937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743200" y="2590920"/>
            <a:ext cx="0" cy="3101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29718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248520" y="4114800"/>
                <a:ext cx="1368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nanci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2666880" y="2438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2057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 Pos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59436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5105520"/>
            <a:ext cx="1219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4952880" cy="2979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Dominant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on pequeñas comparadas con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tonce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35053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33880" y="3095640"/>
                <a:ext cx="1106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267000" y="5256360"/>
                <a:ext cx="24480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 flipV="1">
            <a:off x="5334120" y="48002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71400" y="4390920"/>
                <a:ext cx="2757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85800" y="4995720"/>
                <a:ext cx="24573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Ω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447920" y="5638680"/>
                <a:ext cx="97632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57200" y="60800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seguidor de voltaje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666880"/>
            <a:ext cx="36576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bilidad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umenta, ambos terminales (inversor y no inversor) aumentan, sin embargo el inversor aumenta en una mayor propor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tabilidad (Gana retroalimentación negati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45:24Z</dcterms:modified>
  <cp:revision>961</cp:revision>
  <dc:subject>Retroalimentación (II)</dc:subject>
  <dc:title>Clase 20</dc:title>
</cp:coreProperties>
</file>